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7787046D-2FFF-4CE7-9DAA-6CD89251AA6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35:09Z</dcterms:modified>
  <cp:revision>29</cp:revision>
  <dc:subject/>
  <dc:title>Diseño de Sistemas basados en Tecnologías de la Información y Comunicaciones</dc:title>
</cp:coreProperties>
</file>