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9269-7B24-4A62-B7B4-F1C714D0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500B-1CCB-464A-B910-9B86885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7366-00DE-472C-B38F-4AD8D8DC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EB52-6548-4912-9FE8-AF5FCF7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B173-8C4C-48ED-AC22-45542EA7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4365-14E9-468E-B3CB-BE5C802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189A-477F-4B80-BA8C-B1286160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98CD-CE7A-4BA5-A0D5-E9A9B33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FA5-CF8F-45DB-B6DF-1D07D539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C813-BD88-4E75-BE85-AA9D043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4D6-A42D-4FD7-9058-77F793F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8BFA-135D-49AF-A63B-14B5419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37F1-9920-4F77-99FB-9DC49FA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A8D8-783E-4A65-B49D-4F313C85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106A-A523-4F5E-A54A-AC0C5651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38C7-463F-4900-BF7F-97FB9459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18FB-2D09-4F35-ADF5-1F9DD688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6048-23D8-4FF1-9826-E5123D4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BCB5-0304-40F7-9FBF-B954B3A2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C077-F1A0-45A5-8ACB-3828789F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D434-3859-4E9F-B792-86075A7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0AC8-0444-4DC7-8723-30A2131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A53A-4C72-4F69-80BE-1A18D34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57F4-1C18-4CE3-A955-C191EB5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60A-68DF-43E2-AA41-8027BB210BE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B3BC-AE5F-45AE-BCF8-DAC8C6D10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5C3E-A17F-4A4F-8364-CED762DF1A1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65C0-BDDF-4618-B597-0A5B9A050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hesis and Opti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onsider the differential equation                  in the interval [0,a] with step size dx and initial values x(0) = x, y(0) = y and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=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Forward Euler Method (numerical s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732720" y="2060640"/>
                <a:ext cx="2016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3789360"/>
            <a:ext cx="518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iffeq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ad (x,y,u,dx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pea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x1 = x + 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u1 = u – (3 * x * u * dx) – (3 *y * d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y1 = y + u * d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 = x1 &lt;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 until 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rite 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162864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162864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TEERING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TRO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80000" y="76464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258560" y="765000"/>
            <a:ext cx="43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765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3564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34920" y="90792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88000" y="1125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43280" y="126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6000" y="112536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92000" y="1268280"/>
            <a:ext cx="11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1125360"/>
            <a:ext cx="14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126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2708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508720" y="270792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068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16360" y="270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242100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795640" y="191628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26720" y="33764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20240" y="59500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 model is provided by a state transition diagram or a finite state machine (FSM), or a circuit schematic (HDL model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pecified by a designer or synthesized from an architectural lev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is different depending on the nature of the circuit (sequential, combinational) and the type of the starting representation (state diagram or schem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outcome is a fully structural representation (e.g. net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generating the layout of the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the layout correspond to the masks used for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design style (handcrafted or automa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ask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in general in conjunction with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mizatio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 to the sum of the areas of the circu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erived from a structural view of the circuit, once the area of each component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computation can be performed hierarc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area plays an important role, can be derived from physical view or estimated from a structur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ve quantity, it is not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requires a full analysis of the structure and the behavior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combinational circuit depends on the input/output propagation delay assuming all inputs are availab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synchronous sequential circuit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ooking for the fastest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ecessary time to execute the operations of the circuit. It could be measured in terms of cloc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execution time is provided by the product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timized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circuit can implement a sequence of operations in a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ircuit is the rate at which data are produced and consu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on pipelined circuit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ess or equal than the inverse of the produc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rate pipelining is whe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verse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ta are produced and consumed at each clock 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binational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nchronous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ipelined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rea minimization and performance max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is subject to constraints (upper bounds of the area and lower bounds of the perform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ircuit – different feasible structur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inite se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esign point there are values of area and perform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s m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rea, latency, cycle time, an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evaluatio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ultidimensional space of thes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optimization – a circuit design that optimizes al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hat the optimization problem is a minimization problem (maximizes the throughput is equivalent to minimize the complement of the through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point in the design space with no other point with at least an inferio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rresponds to a global optimum in a monodimensional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the optimal trade-off points – image of the Pareto points in the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curve or surface – interpolation of the set of the optimal trade – off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techniques speed up the design cycle and reduce the hum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techniques enhances the desig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and optimization are used in mostly all circuit desig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design evaluation space (area –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points shown in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0000" y="227664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558972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76560" y="5659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385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019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56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290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920" y="486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920" y="41720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920" y="3476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920" y="2781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2924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321300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000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64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80000" y="414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010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000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2852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56360" y="3141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88000" y="3573360"/>
            <a:ext cx="1447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93080" y="4076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4365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28000" y="479736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39480" y="5661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04000" y="2276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logic level models of sequential circuits is (area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non pipelined architectural level model is (area, latency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synchronous pipelined architectural level model is (area, latency, cycle-time, through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dela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dela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latenc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latenc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rot="10800000">
            <a:off x="61128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havio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0920" y="765000"/>
            <a:ext cx="165600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anguag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61128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ructu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1440" y="765000"/>
            <a:ext cx="165564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bstract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155736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40000" y="270828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457992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17017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perations &amp; depend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Data flow &amp; sequencing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817092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chitectural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817092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gic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19890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9840" y="19875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285264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SMs – logic 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State diagrams &amp; 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127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9840" y="31258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276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7480" y="2276640"/>
            <a:ext cx="19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47959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erconnected logic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50706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98760" y="506880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10000" y="377496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39960" y="3970440"/>
            <a:ext cx="6061320" cy="1033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39960" y="267480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21574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4560" y="305100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6880" y="356220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1040" y="2286000"/>
            <a:ext cx="358920" cy="507960"/>
          </a:xfrm>
          <a:prstGeom prst="downArrow">
            <a:avLst>
              <a:gd name="adj1" fmla="val 50000"/>
              <a:gd name="adj2" fmla="val 3538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36880" y="490212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4560" y="43275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1320" y="15573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6400" y="286380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1320" y="2870280"/>
            <a:ext cx="2190960" cy="718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1320" y="4140360"/>
            <a:ext cx="2190960" cy="731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86400" y="41403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00280" y="1628640"/>
            <a:ext cx="1660320" cy="4178160"/>
            <a:chOff x="800280" y="1628640"/>
            <a:chExt cx="1660320" cy="41781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21300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800280" y="3076560"/>
              <a:ext cx="1660320" cy="1282680"/>
              <a:chOff x="800280" y="3076560"/>
              <a:chExt cx="1660320" cy="1282680"/>
            </a:xfrm>
          </p:grpSpPr>
          <p:sp>
            <p:nvSpPr>
              <p:cNvPr id="139" name=""/>
              <p:cNvSpPr/>
              <p:nvPr/>
            </p:nvSpPr>
            <p:spPr>
              <a:xfrm>
                <a:off x="800280" y="307656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56440" y="313560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00280" y="1628640"/>
              <a:ext cx="1660320" cy="1282680"/>
              <a:chOff x="800280" y="1628640"/>
              <a:chExt cx="1660320" cy="1282680"/>
            </a:xfrm>
          </p:grpSpPr>
          <p:sp>
            <p:nvSpPr>
              <p:cNvPr id="142" name=""/>
              <p:cNvSpPr/>
              <p:nvPr/>
            </p:nvSpPr>
            <p:spPr>
              <a:xfrm>
                <a:off x="800280" y="162864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56440" y="168768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944640" y="1717560"/>
              <a:ext cx="1377720" cy="1054080"/>
              <a:chOff x="944640" y="1717560"/>
              <a:chExt cx="1377720" cy="1054080"/>
            </a:xfrm>
          </p:grpSpPr>
          <p:sp>
            <p:nvSpPr>
              <p:cNvPr id="145" name=""/>
              <p:cNvSpPr/>
              <p:nvPr/>
            </p:nvSpPr>
            <p:spPr>
              <a:xfrm>
                <a:off x="1492200" y="171756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78884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947880" y="192528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85920" y="194616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196524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10400" y="204120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08960" y="212400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08240" y="220644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09680" y="229392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07160" y="237456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07880" y="245088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08960" y="253188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08960" y="260640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944640" y="3225600"/>
              <a:ext cx="1374840" cy="988920"/>
              <a:chOff x="944640" y="3225600"/>
              <a:chExt cx="1374840" cy="988920"/>
            </a:xfrm>
          </p:grpSpPr>
          <p:sp>
            <p:nvSpPr>
              <p:cNvPr id="159" name=""/>
              <p:cNvSpPr/>
              <p:nvPr/>
            </p:nvSpPr>
            <p:spPr>
              <a:xfrm>
                <a:off x="944640" y="322560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8280" y="361296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9680" y="361620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9680" y="354168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65360" y="361620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39680" y="38019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278000" y="3993840"/>
                <a:ext cx="94680" cy="104400"/>
                <a:chOff x="1278000" y="3993840"/>
                <a:chExt cx="94680" cy="104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326240" y="399384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78000" y="399384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1084320" y="380196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84320" y="401760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30320" y="404460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82760" y="407484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4320" y="389232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24080" y="3473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07960" y="374004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3040" y="383832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1125360" y="3730320"/>
                <a:ext cx="91800" cy="98280"/>
                <a:chOff x="1125360" y="3730320"/>
                <a:chExt cx="91800" cy="98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7480" y="373032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25360" y="373032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111320" y="3525480"/>
                <a:ext cx="101160" cy="107640"/>
                <a:chOff x="1111320" y="3525480"/>
                <a:chExt cx="101160" cy="107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163880" y="352548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11320" y="352548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265400" y="3797280"/>
                <a:ext cx="101160" cy="101160"/>
                <a:chOff x="1265400" y="3797280"/>
                <a:chExt cx="101160" cy="101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316880" y="379728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65400" y="379728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465200" y="3862080"/>
                <a:ext cx="98280" cy="107640"/>
                <a:chOff x="1465200" y="3862080"/>
                <a:chExt cx="98280" cy="107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510200" y="386208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200" y="386208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1576440" y="391464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28880" y="373356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22200" y="358596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432080" y="3555720"/>
                <a:ext cx="96480" cy="106200"/>
                <a:chOff x="1432080" y="3555720"/>
                <a:chExt cx="96480" cy="106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477080" y="355572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32080" y="355572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89200" y="390492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1690560" y="3817800"/>
                <a:ext cx="97920" cy="117000"/>
                <a:chOff x="1690560" y="3817800"/>
                <a:chExt cx="97920" cy="117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34480" y="381780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90560" y="381780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109960" y="3749400"/>
                <a:ext cx="92880" cy="107640"/>
                <a:chOff x="2109960" y="3749400"/>
                <a:chExt cx="92880" cy="107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156400" y="374940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09960" y="374940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854360" y="3987720"/>
                <a:ext cx="99000" cy="107640"/>
                <a:chOff x="1854360" y="3987720"/>
                <a:chExt cx="99000" cy="107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898280" y="398772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54360" y="398772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54360" y="3681360"/>
                <a:ext cx="101160" cy="112320"/>
                <a:chOff x="1854360" y="3681360"/>
                <a:chExt cx="101160" cy="112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899720" y="368136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54360" y="368136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407960" y="391284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762200" y="3446280"/>
                <a:ext cx="91800" cy="97920"/>
                <a:chOff x="1762200" y="3446280"/>
                <a:chExt cx="91800" cy="9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06120" y="344628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62200" y="344628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095560" y="3538440"/>
                <a:ext cx="97920" cy="107640"/>
                <a:chOff x="2095560" y="3538440"/>
                <a:chExt cx="97920" cy="107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139120" y="353844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95560" y="353844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957320" y="3341520"/>
                <a:ext cx="99720" cy="101160"/>
                <a:chOff x="1957320" y="3341520"/>
                <a:chExt cx="99720" cy="101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05920" y="334152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957320" y="334152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881360" y="349560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44760" y="350028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2280" y="339552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800280" y="4524120"/>
              <a:ext cx="1660320" cy="1282680"/>
              <a:chOff x="800280" y="4524120"/>
              <a:chExt cx="1660320" cy="12826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800280" y="4524120"/>
                <a:ext cx="1660320" cy="1282680"/>
                <a:chOff x="800280" y="4524120"/>
                <a:chExt cx="1660320" cy="1282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00280" y="452412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56440" y="458316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66056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6560" y="50277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1560" y="54579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an abstraction, i.e. a representation showing relevant features with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is the generation of a circuit model starting from a less detail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– the circuit performs a set of operations (HDL models or flow dia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– A digital circuit evaluates a set of logic functions (state transition diagrams or schema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– a circuit is a set of geometrical entities (floor plans or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– describes the function of the circuit regardless of i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– describes a model as an interconnection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– relates to the physical objects of a design (e.g. transis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 and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227664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42756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457992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700280"/>
            <a:ext cx="2089080" cy="28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356000" y="1700280"/>
            <a:ext cx="2160720" cy="31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486900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2200" y="165276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8680" y="16527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6560" y="544500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360" y="573264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ajski and Kun’s Y –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can be seen as a set of transformations between two axial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level synthesis -  generates a structural view of an architectural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level synthesis – generates a structural view of a logic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level synthesis – generates a physical view at the geometri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level model represents a set of operation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the hardware resources that can implement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s the execution time of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s the operations to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tructural model of a datapath (interconnection of resources) and a logic level model of the control unit (issues control signals to the datapath according the 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02T16:03:08Z</dcterms:modified>
  <cp:revision>137</cp:revision>
  <dc:subject/>
  <dc:title>EL 6XX</dc:title>
</cp:coreProperties>
</file>