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242B-C6DC-4EFB-BB67-3708BD6F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B27B4-3152-43C0-BBE0-174B4A13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5313D-1021-4740-A727-AEEBF3F1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3E50B-9857-41C3-9D9E-13AAAA11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0F6E-04F4-4FEF-A64F-87BCBD3B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0EE9-8962-4946-A609-111DD70E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C14A-EC0C-401E-B559-287ADC32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357C-A9D1-43F7-BE49-C1CFD337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813A-38F7-4A4D-B65C-009CE28F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A899-141B-4AC2-A546-CCE944FA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8952-1395-4929-AE03-79D20103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A77E-03E2-4290-95FB-5C967B1E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F5F6-792A-4D47-AAC7-4B355D04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3215-29D7-4AD3-B695-220F213C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6341-4AC0-43B9-B2DB-59FB5FB4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F461-A7C7-48B9-BAA2-EB6B40E5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37B8-1B7D-4878-8CA9-131730A1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A9EE0-FDFD-420C-96C0-0B2633E5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32B80-7008-436A-A1B8-8B8D7532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00554-F2F8-4B26-8701-43E6B0B1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47009-C39E-4467-9C72-6CFEF6F8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45076-A6A5-431D-854C-4E2E8234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BA285-B8E9-4180-98F4-D97DE952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13436-0D07-4E44-A811-F43B2D0A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FE6F-10A2-40F9-92D0-1CF24CDF80F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88C1-86F3-474C-A210-4A18A4D9D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1F21-EFCD-4B26-8776-5526BDC0636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0183-CFC2-4369-9270-6546DD198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0000" y="42667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 Transfer Level Design with 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59200" y="4889520"/>
            <a:ext cx="485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rom “Verilog Digital System Design”, Zainalabedin Navab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Graw-Hill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2349360"/>
            <a:ext cx="7489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values are in ns and precision is 100 ps (0.1 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Mux8 (sel, data1, data0, bus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[7:0] data1, data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se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[7:0] bu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6 ns delay for all values assigned to bu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bus1 = data1 if sel = 1, else bus1 = dat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assign #6 bus1 = sel ? data1 : data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lip Fl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2349360"/>
            <a:ext cx="7489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values are in ns and precision is 100 ps (0.1 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Flop (reset, din, clk, q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reset, din, cl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q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always @ (nededge clk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f (reset) qout &lt;= #8 1’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else qout &lt;= #8 d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er (4 bits modulo 16 count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060640"/>
            <a:ext cx="7489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values are in ns and precision is 100 ps (0.1 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Counter4 (reset, clk, cou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reset, cl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put [3:0] 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3:0] count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ways @ (nededge clk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eset) count &lt;= #3 4’b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count &lt;= #5 count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ll Ad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060640"/>
            <a:ext cx="7489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values are in ns and precision is 100 ps (0.1 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Counter4 (a, b, sum, c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a,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put sum, c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sign #5 sum = a ^ b ^ c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sign #3 cout = (a &amp; b) | (a &amp; cin) | (b &amp; cin)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844640"/>
            <a:ext cx="74898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values are in ns and precision is 100 ps (0.1 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hiftRegister8 (sl, sr, clk, ParIn, m, ParOu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sl, sr, cl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put [7:0] ParI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put [1:0] 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[7:0] Par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reg [7:0] Par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ned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case 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0: ParOut &lt;= Par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1: ParOut &lt;= {sl, ParOut [7:1]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2: ParOut &lt;= {ParOut [6:0], sr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3: ParOut &lt;= ParI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default: ParOut &lt;= 8’b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844640"/>
            <a:ext cx="74898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values are in ns and precision is 100 ps (0.1 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ALU8 (left, right, mode, ALUou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put [7:0] left, r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put [1:0] mod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[7:0] ALU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reg [7:0] ALU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left, right, mode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case (m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0: ALUout &lt;= left + r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1: ALUout &lt;= left - r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2: ALUout &lt;= left &amp; r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3: ALUout &lt;= left | r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default: ALUout &lt;= 8’b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al Hardware - Interconn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130480"/>
            <a:ext cx="504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ALU8 U1 (.left(Inbus), .right(Abinput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.mode(function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.ALUout(Outbus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Mux8 U2 (.sel(select_sourc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.data1(Asid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.data0(Bside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3456000" cy="3124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68360" y="4403880"/>
            <a:ext cx="504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ALU8 U1 (Inbus, Abinput, func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bu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Mux8 U2 (select_source, Aside, Bsid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d to the data part to control its flow of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s easy as one flip-flop, handshaking handlers, or as complex as several concurrent stat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er – used to synchronize incoming data with a given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detector – good representation for the general class of cont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84720" y="1989000"/>
            <a:ext cx="2663640" cy="136872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isions based on inputs, outputs,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43280" y="3789360"/>
            <a:ext cx="1944720" cy="50472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sue control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43280" y="4653000"/>
            <a:ext cx="1944720" cy="50472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t next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43280" y="5516640"/>
            <a:ext cx="1944720" cy="50472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next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335772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51577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6021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16360" y="623736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300720" y="1699920"/>
            <a:ext cx="0" cy="453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716000" y="170028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16360" y="170028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synchronize incoming data with a given c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 design is referred to take a high level design of a design, partition it, describe and implement various component of the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 a circuit is composed by a data part and a control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rt consists of data components and the bussing structure of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part is usually a state machine generating control signals that control the flow of data in the data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69840" y="3592440"/>
            <a:ext cx="7489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Synchronizer (clk, adata, synche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input clk, adat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output synche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reg synche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always @ (posedge clk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if (adata == 0) synched &lt;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else synched &lt;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00000" y="1871640"/>
            <a:ext cx="727236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ce 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1844640"/>
            <a:ext cx="230508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110 is detected on a, then w gets 1, else w gets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241920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241920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41640" y="248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34040" y="2486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3571920"/>
            <a:ext cx="11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340000" y="29952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8400" y="3133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26920" y="3789360"/>
            <a:ext cx="720108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ce 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1844640"/>
            <a:ext cx="74898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Detector110 (a, clk, reset, w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put a, clk, rese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w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parameter [1:0] s0=2’b00, s1=2’b01, s2=2’b10, s3=2’b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reg [1:0]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f (reset) current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case (curr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s0: if (a) current&lt;= s1; else current &lt;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s1: if (a) current&lt;= s2; else current &lt;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s2: if (a) current&lt;= s2; else current &lt;= s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s3: if (a) current&lt;= s1; else current &lt;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assign w &lt;= (current == s3) ? 1 :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ce Detector - Testbe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1844640"/>
            <a:ext cx="748980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Detector110Test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reg aa, clock, rst;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wire ww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tector110 UUT (aa, clock, rst, ww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aa= 0; clock = 0; rst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itial repeat (44) #7 closk = ~cloc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itial repeat (15) #23 aa = ~a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#31 rst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#23 rst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always @ (ww) if (ww ==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$display (“A 1 was detected on w at time = %t”, $tim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/ Data Part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1859040"/>
            <a:ext cx="849600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Part / Data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part consist of the interconnection of data components and bu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external data inputs and outputs, and control inputs and outputs from and to the control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 component has control signals that control its clocking and/or its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ses have control signals that select their sources and routing of data from one data component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taPath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349360"/>
            <a:ext cx="7489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DataPath (DataInput, DataOutput, Flags, Opcod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rolSignal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[15:0] DataInpu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[15:0]DataOutpu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Flags, Status1, Status2, ..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Opcod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ControlSignal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instantiation of data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interconnection of data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bussing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ta Component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2349360"/>
            <a:ext cx="7489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DataComponent (DataIn, DataOut, ControlSignal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[7:0] Data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[7:0]Data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ControlSignal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Depending on Control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operate on Da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and produce Data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Part / Control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control inputs from the data part and external control inputs and depending on its state makes decisions as to when and what control signals to iss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 of one or more state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e state of the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decisions based on the current data and data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how data is routed and what operations are performed on the data in the data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rol Unit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2349360"/>
            <a:ext cx="7489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ControlUnit (Flags, Opcodes,ExternalControl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rolSignal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Flags, Status1, Status2, ..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Opcod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ExternalControl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ControlSignal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Based on inputs dec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what control signals to 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and what next state to t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 generally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s for bus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 for data sto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flops for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al logic units for arithmetical and/or llogic operations 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10-04T22:40:37Z</dcterms:modified>
  <cp:revision>213</cp:revision>
  <dc:subject/>
  <dc:title>EL 6XX</dc:title>
</cp:coreProperties>
</file>