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7C9B2-E0CC-4B0E-B0A6-61CC991A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7AD8C-5B3D-4C5A-9DBF-6277DA9B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8857-4F15-4A74-B900-9CC7C975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C145-ACEF-4F8D-A6A6-D6A5C5F4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A344-DDFA-480E-9005-37A0FB26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8E07-C63E-4901-B78C-12123CA1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8F15-F717-444E-91CA-EACD5C04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908F-C2D8-4DD8-87D2-6E06CD3F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BDD1-4120-4732-AEB8-A3CC2CA6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5707-AA4B-488E-BEFB-6B8A4DD0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CA02-2083-4318-9332-4AFF0F9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B27C-3FBC-4137-8E07-0E75CCB9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F60C-0452-4ACD-8CC3-EF5F0B3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B4AE-2ACB-45F0-944B-2266965A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B501-65E2-4A55-8568-7D6FEC97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7BB5-31C6-48B1-9849-C310D3B7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45EF-3097-4ADA-B99A-D682F842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36BB7-1DD2-4DAA-8BE6-34F4D32A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2B38B-CCD7-43A2-95BC-5EF3466B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80AD8-0F32-4388-BCA9-021E913A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64870-D2DE-4587-B482-2BC86BA6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00CA-F583-495F-BF23-7A5A964E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B205-ABAB-42E7-BABE-9E081498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80FB-32FF-4196-B93E-D9F6F9DA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636F-6764-4F74-90AC-BC0BE469488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FA18-0CA4-4521-BA0E-1C93B1A0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DD8A-602B-47B5-8BFB-D1CC50B84CB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E3BB-94B4-475D-BDC2-DED78529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0000" y="42667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Transfer Level Design with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59200" y="4889520"/>
            <a:ext cx="485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acted from “Verilog Digital System Design”, Zainalabedin Navab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Graw-Hill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349360"/>
            <a:ext cx="7489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Mux8 (sel, data1, data0, bus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[7:0] data1, data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se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7:0] bu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6 ns delay for all values assigned to bu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bus1 = data1 if sel = 1, else bus1 = dat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ssign #6 bus1 = sel ? data1 : data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lip Fl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2349360"/>
            <a:ext cx="7489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Flop (reset, din, clk, q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reset, din,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q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lways @ (nededge clk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f (reset) qout &lt;= #8 1’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else qout &lt;= #8 d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er (4 bits modulo 16 count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060640"/>
            <a:ext cx="748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4 (reset, clk, cou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reset, cl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 [3:0] 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 [3:0] coun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ways @ (nededge clk) 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et) count &lt;= #3 4’b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 count &lt;= #5 count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ll 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06064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unter4 (a, b, sum, cou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a,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put sum, c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 #5 sum = a ^ b ^ c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sign #3 cout = (a &amp; b) | (a &amp; cin) | (b &amp; cin)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844640"/>
            <a:ext cx="74898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hiftRegister8 (sl, sr, clk, ParIn, m, ParOu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sl, sr, cl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7:0] Par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1:0] m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7:0] Par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[7:0] Par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ned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case 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0: ParOut &lt;= Par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1: ParOut &lt;= {sl, ParOut [7:1]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2: ParOut &lt;= {ParOut [6:0], sr}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3: ParOut &lt;= Par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default: ParOut &lt;= 8’b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844640"/>
            <a:ext cx="74898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//values are in ns and precision is 100 ps (0.1 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ALU8 (left, right, mode, ALUou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7:0] left,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[1:0] mod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[7:0] ALU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[7:0] ALU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left, right, mode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case (m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0: ALUout &lt;= left +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1: ALUout &lt;= left -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2: ALUout &lt;= left &amp;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3: ALUout &lt;= left | r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default: ALUout &lt;= 8’b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al Hardware - Interconn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130480"/>
            <a:ext cx="504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LU8 U1 (.left(Inbus), .right(Abinput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mode(function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ALUout(Outbus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Mux8 U2 (.sel(select_sourc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data1(Aside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.data0(Bside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3456000" cy="3124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68360" y="4403880"/>
            <a:ext cx="504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ALU8 U1 (Inbus, Abinput, functio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bu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Mux8 U2 (select_source, Aside, Bsi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d to the data part to control its flow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s easy as one flip-flop, handshaking handlers, or as complex as several concurrent state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izer – used to synchronize incoming data with a given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 detector – good representation for the general class of cont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84720" y="1989000"/>
            <a:ext cx="2663640" cy="136872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cisions based on inputs, outputs,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43280" y="3789360"/>
            <a:ext cx="1944720" cy="5047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ssue control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43280" y="4653000"/>
            <a:ext cx="1944720" cy="5047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t nex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43280" y="5516640"/>
            <a:ext cx="1944720" cy="504720"/>
          </a:xfrm>
          <a:prstGeom prst="flowChart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 to nex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16360" y="335772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16360" y="51577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6021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16360" y="623736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00720" y="1699920"/>
            <a:ext cx="0" cy="453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716000" y="1700280"/>
            <a:ext cx="158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16360" y="1700280"/>
            <a:ext cx="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o synchronize incoming data with a given c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design is referred to take a high level design of a design, partition it, describe and implement various component of the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 a circuit is composed by a data part and a control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rt consists of data components and the bussing structure of th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art is usually a state machine generating control signals that control the flow of data in the data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69840" y="3592440"/>
            <a:ext cx="74898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Synchronizer (clk, adata, synche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input clk, adat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output synch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reg synche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if (adata == 0) synched &lt;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else synched &lt;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00000" y="1871640"/>
            <a:ext cx="72723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1844640"/>
            <a:ext cx="2305080" cy="1152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110 is detected on a, then w gets 1, else w gets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24192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40360" y="241920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41640" y="248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34040" y="2486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3571920"/>
            <a:ext cx="11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340000" y="29952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8400" y="3133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72010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1844640"/>
            <a:ext cx="74898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Detector110 (a, clk, reset, 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put a, clk, re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parameter [1:0] s0=2’b00, s1=2’b01, s2=2’b10, s3=2’b1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[1:0]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 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f (reset) current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case (curr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0: if (a) current&lt;= s1; else current &lt;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1: if (a) current&lt;= s2; else current &lt;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2: if (a) current&lt;= s2; else current &lt;= s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s3: if (a) current&lt;= s1; else current &lt;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assign w &lt;= (current == s3) ? 1 :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quence Detector - Testbe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844640"/>
            <a:ext cx="7489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scale 1ns/100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Detector110Test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reg aa, clock, rst;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wire w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tector110 UUT (aa, clock, rst, ww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aa= 0; clock = 0; rst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tial repeat (44) #7 closk = ~clock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itial repeat (15) #23 aa = ~aa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#31 rst =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#23 rst =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always @ (ww) if (ww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1200" spc="-1" strike="noStrike">
                <a:solidFill>
                  <a:srgbClr val="000000"/>
                </a:solidFill>
                <a:latin typeface="Courier New"/>
              </a:rPr>
              <a:t>$display (“A 1 was detected on w at time = %t”, $tim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/ Data Partitio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4000" y="1859040"/>
            <a:ext cx="8496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Part / Data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part consist of the interconnection of data components and bu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external data inputs and outputs, and control inputs and outputs from and to the control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 component has control signals that control its clocking and/or its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ses have control signals that select their sources and routing of data from one data componen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aPath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349360"/>
            <a:ext cx="7489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DataPath (DataInput, DataOutput, Flags, Opcod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rolSigna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[15:0] DataInpu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15:0]DataOutput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Flags, Status1, Status2, .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Opcod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ControlSigna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instantiation of data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interconnection of data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bussing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a Componen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2349360"/>
            <a:ext cx="7489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DataComponent (DataIn, DataOut, ControlSigna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 [7:0] DataI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[7:0]DataOu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ControlSigna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Depending on Control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operate on Da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and produce Data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Part / Control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control inputs from the data part and external control inputs and depending on its state makes decisions as to when and what control signals to 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one or more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state of the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decisions based on the current data and data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how data is routed and what operations are performed on the data in the data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rol Unit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349360"/>
            <a:ext cx="7489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dule ControlUnit (Flags, Opcodes,ExternalControl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trolSignal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Flags, Status1, Status2, ..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Opcod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input ExternalContro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output ControlSignal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Based on inputs dec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what control signals to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urier New"/>
              </a:rPr>
              <a:t>//and what next state to t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modu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generally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s for bu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 for data stor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flops for 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units for arithmetical and/or llogic operations 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10-04T22:40:37Z</dcterms:modified>
  <cp:revision>213</cp:revision>
  <dc:subject/>
  <dc:title>EL 6XX</dc:title>
</cp:coreProperties>
</file>