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CE95-18BA-47C1-AD7A-BC22BE66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6F142-D9CA-47FE-8516-BC1DA712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70C72-F917-4C8F-84F1-AD4C3799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E2BD-AE21-4292-943E-6F645FEE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6448-7F83-41F5-AA1E-98368301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F10C-EFB8-4A88-9281-96063533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DD53-DF0D-4761-AB67-A8767CDF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F320-33B4-4FB0-88BF-5FE4A1BD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C5FA-5BC8-46C1-AAA2-61458F73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9B9D-A85E-4BB1-B1F9-5BA2C415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74A1-531A-44F2-95A5-234E2B11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557FE-10F4-48E1-B4C1-7EE54B78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BE1C-DE92-4F0C-86D2-823C667C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5BC7-46E4-470E-ADAE-B3EB5C0F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F497-14CC-451E-84B6-D849913D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EDFE-4004-4508-A456-C39149AF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CBD4-61CF-4B58-93E9-5B2CD958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D3EF-1613-4FA9-9315-E63E1E81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D57E2-01AB-45D1-B436-827A1E54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B8DAC-E164-40E0-8E8A-B28B08F6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4B437-09B7-4D53-A866-100FFD5D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BF58-C8A5-47E6-9C0F-12513C22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DB913-4C41-4E37-B401-6D21B8AC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F7B63-E554-4249-9D6A-CD1A7013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848D-492A-4363-B0EC-4D98CFA104A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3731-D53E-4060-B425-0A34D9ECB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31D9-C6B0-4850-8BF6-4A55D008A66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0D64-B4F1-464C-92F8-210728091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0000" y="42667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chitectural Level Synthesis and Optimiz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58480" y="4889520"/>
            <a:ext cx="581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rom “Synthesis and Optimization of Digital Circuits”, Giovanni de Michel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Graw-Hill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297080"/>
            <a:ext cx="3654360" cy="544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5076720" y="2984400"/>
          <a:ext cx="2832120" cy="1803240"/>
        </p:xfrm>
        <a:graphic>
          <a:graphicData uri="http://schemas.openxmlformats.org/drawingml/2006/table">
            <a:tbl>
              <a:tblPr/>
              <a:tblGrid>
                <a:gridCol w="1535400"/>
                <a:gridCol w="129672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172120" y="3373560"/>
                <a:ext cx="1368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172120" y="3720960"/>
                <a:ext cx="1098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172120" y="4079880"/>
                <a:ext cx="2491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181480" y="443088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4984920" y="5019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assumed to have unit execution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quencing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eduled Sequencing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54120" y="1268280"/>
            <a:ext cx="4422600" cy="5446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508720" y="2276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580000" y="2708280"/>
                <a:ext cx="19447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826920" y="836640"/>
          <a:ext cx="2848320" cy="52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836640"/>
                    <a:ext cx="284832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788000" y="13413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resource per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859280" y="1989000"/>
          <a:ext cx="3168720" cy="3216240"/>
        </p:xfrm>
        <a:graphic>
          <a:graphicData uri="http://schemas.openxmlformats.org/drawingml/2006/table">
            <a:tbl>
              <a:tblPr/>
              <a:tblGrid>
                <a:gridCol w="1081080"/>
                <a:gridCol w="936720"/>
                <a:gridCol w="11509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964040" y="343548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89600" y="2779560"/>
                <a:ext cx="2109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978520" y="2770200"/>
                <a:ext cx="2890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984920" y="3078000"/>
                <a:ext cx="2491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992920" y="3078000"/>
                <a:ext cx="2887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970520" y="3789360"/>
                <a:ext cx="2491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958000" y="3798720"/>
                <a:ext cx="2505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981680" y="4148280"/>
                <a:ext cx="24768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013360" y="450864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021360" y="4498920"/>
                <a:ext cx="2318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21360" y="486900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869000" y="5445000"/>
                <a:ext cx="1925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graph in previous slides with the follow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 propagation delay: 35 n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operations propagation delay: 25 n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time: 50 n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corresponding scheduled sequencing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tial Domain: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operation is the type of computation it per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(addition, multi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-specific operation (Boolean function eval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tion of type is extended t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source type can implement more than one operatio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source-type 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et of resources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tial Domain: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    resources types, the resource types set is denoted by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                  denotes the resource type that can implement an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operations do not require any binding to any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source sha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pplied when there are more than one operation with the sam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24360" y="2565360"/>
                <a:ext cx="10764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556000" y="2060640"/>
                <a:ext cx="431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849400" y="3068640"/>
                <a:ext cx="1793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tial Domain: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binding is a mapping                        where              denotes that the operation corresponding to       , with type          , is implemented by the rth instance of the resource type       for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case of binding is a dedicated resource. Each operation is bound to one resource, and the resource binding    is a one-to-one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941480" y="2492280"/>
                <a:ext cx="11905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867280" y="2060640"/>
                <a:ext cx="1681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606840" y="2997360"/>
                <a:ext cx="6048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938920" y="2944800"/>
                <a:ext cx="7938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614600" y="3860640"/>
                <a:ext cx="50940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651120" y="3814920"/>
                <a:ext cx="12081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443640" y="5180040"/>
                <a:ext cx="2732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11280" y="1297080"/>
            <a:ext cx="3654360" cy="544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5292720" y="3873600"/>
          <a:ext cx="1679400" cy="248904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440320" y="3905280"/>
                <a:ext cx="5587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5219640" y="90792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11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that 11 resources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type are {multiplier, ALU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r is type 1, ALU is typ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instances of multiplier and five instances of the ALU a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quencing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421240" y="4249800"/>
                <a:ext cx="5968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430960" y="4594320"/>
                <a:ext cx="5778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421240" y="4960800"/>
                <a:ext cx="5968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430960" y="530532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423040" y="5668920"/>
                <a:ext cx="596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21240" y="6033960"/>
                <a:ext cx="596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1" name=""/>
          <p:cNvGraphicFramePr/>
          <p:nvPr/>
        </p:nvGraphicFramePr>
        <p:xfrm>
          <a:off x="7236000" y="3860640"/>
          <a:ext cx="1679400" cy="142740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373880" y="3882960"/>
                <a:ext cx="5796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373880" y="422748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345440" y="4581360"/>
                <a:ext cx="63504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345440" y="4948200"/>
                <a:ext cx="636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3120" y="836640"/>
            <a:ext cx="4773600" cy="5878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1175400">
            <a:off x="1044360" y="1682640"/>
            <a:ext cx="71892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75400">
            <a:off x="1908000" y="1603080"/>
            <a:ext cx="71280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80000" y="1628640"/>
            <a:ext cx="86328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700280"/>
            <a:ext cx="647640" cy="720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1700280"/>
            <a:ext cx="647640" cy="720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0537400">
            <a:off x="1110960" y="3767040"/>
            <a:ext cx="86364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720200">
            <a:off x="2138040" y="2446200"/>
            <a:ext cx="863640" cy="352908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292720" y="1065240"/>
          <a:ext cx="1679400" cy="248904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440320" y="1096920"/>
                <a:ext cx="5587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421240" y="1441440"/>
                <a:ext cx="5968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430960" y="1785960"/>
                <a:ext cx="5778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421240" y="2152800"/>
                <a:ext cx="5968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430960" y="249696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423040" y="2860560"/>
                <a:ext cx="596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421240" y="3225960"/>
                <a:ext cx="59688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2" name=""/>
          <p:cNvGraphicFramePr/>
          <p:nvPr/>
        </p:nvGraphicFramePr>
        <p:xfrm>
          <a:off x="7236000" y="1052640"/>
          <a:ext cx="1679400" cy="142704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373880" y="1074600"/>
                <a:ext cx="5796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373880" y="141912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345440" y="1773360"/>
                <a:ext cx="6350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345440" y="2139840"/>
                <a:ext cx="636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362560" y="3979800"/>
            <a:ext cx="331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r is type 1, ALU is typ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nstances of multiplier and 2 instances of the ALU a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720" y="14130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77440" y="14842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69440" y="14130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88720" y="14130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6720" y="1341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2,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44000" y="3573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2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a and Performance Est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area and delay estimation is not a simpl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synthesis and optimization require estimating area and performance variations as a result of architectural-level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provides latency, binding provide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important to forecast the impact of scheduling and binding decisions on area an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-do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synthesis means constructing the macroscopic structure of a digital circuit, starting from behavioral models that can be captured by data-flow or sequencing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utcom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 view of the circuit (data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level specification of the contro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th is an interconne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to implement arithmetic or log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ring logic circuits (e.g. multiplexers and buses) to send data to the appropriate destination at the appropriat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 or memory to stor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-Dominated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and delay of resources ar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 of other components can be neglected or considered a fixed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area of a structure is the sum of the areas of the bound resource 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cycle time, the execution delay of the operations can be der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of a circuit can be determined by its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9280" y="1297080"/>
            <a:ext cx="3654360" cy="5445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067280" y="177336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considered as resource do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the multiplier is 5 units, and its propagation is 35 n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the ALU is 1 unit, and its propagation is 25 n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head is 1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 time is 40 nsec, and then all operations require one cycle to 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with dedicated resources requires 6*5 + 5*1 +1=36 and latency is 4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mplementation with one resource of each type requires 5+1+1=7. Latency is 7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area is the sum of the areas of the bound resources instances plus the area of the steering logic, registers (or memories), control unit, and wiring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depends on the schedule, which must take into account the propagation delay on paths between register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th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ring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ata transferred from a resource to another across a cycle boundary must be stored into a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 usage can be derived by examining a scheduled sequencing graph. Number of registers can be min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estimation of the number of registers requires scheduling and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up and propagation delay times of registers must be added to the propagation delay of the combinational logic to evaluate the evaluate their effect on cyc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ering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s the area and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of multiplexers is known, however to know the number of required multiplexers, we need th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s add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iderations are necessary for busses area and dela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ses can be considered as a fixed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drivers and receivers can be considered as distributed multiple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 contributes to the overall area and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 area overhead is estimated from the structure (binding is known) by using models that are appropriate for the physical design style of th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delay on wires is proportional to wiring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stimate wiring length we need the structure (binding) as well as the placement of the physical implementation of th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floor planners or statistical placement model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wiring models can also be used. It has been shown that the average interconnection length is proportional to the total number of blocks to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α power, where 0 ≤ α ≤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 delay and area are related to the average interconnection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ircuit contributes to the overall area and delay because some control signals can be part of the critical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models for estimating the size of the control circuit can be based on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ies for Architectural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ises scheduling and b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oal of architectural optimization is to determine a scheduled sequencing graph with a complete resource binding that satisfies the given constraints and optimizes some figures of me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al optimization consists of determining a sche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φ and a binding β that optimizes the objectives (area latency, cycle-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chitectural exploration is often done by exploring the area / latency trade-off for different values of the cycl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pproaches are the search for cycle-time / latency trade-off for some binding or the area / cycle time trade-off for some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on of Implemented Circu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time (clock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(the number of cycles to perform all oper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put (computation rate) for pipelined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-level circui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resources process data – implement arithmetic and log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 resources – designed carefully once and often used (e.g. encoders, decoders). Stored in libraries and fully character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-specific resources – solves a particular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resources store data (e.g. registers, read-only memory, read-write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resources support data transfer (e.g. busses, I/O pa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specifications to ensure that the circuit can be embedded in a give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 to the format and timing of the I/O data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the desire of the designer to achieve a structure with some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undamental Architectural Synthesis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 that a circuit is specifi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quencing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functional resources (fully characteriz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 that storage is implemented by registers and interconnections b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synthesis consists of two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ing the operations in time and space (time interval for execution and bind to resou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 interconnection of the data path and the logic level specification of the contro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emporal Domain: Schedu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note the execution delays of the operations by th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operation is defined as the time at which the operation starts its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operations, represented by the s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are attributes of the vertices of the sequencing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 is the task of determining the start times, subject to the precedence constraints specified by the sequencing graph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284720" y="2441520"/>
                <a:ext cx="18716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00000" y="4168800"/>
                <a:ext cx="17575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emporal Domain: Schedu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of a scheduled sequencing graph is denoted by   , it is the difference between the start time of the sink and the start time of the sour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edule of a sequencing graph is a fun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, where             denotes the operation start time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heduled sequencing 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ertex-weighted, where each vertex is labeled by its star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00360" y="2443320"/>
                <a:ext cx="20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03640" y="4076640"/>
                <a:ext cx="869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24000" y="3274920"/>
                <a:ext cx="10080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826920" y="4076640"/>
                <a:ext cx="10810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54400" y="4437000"/>
                <a:ext cx="2612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9-27T14:58:39Z</dcterms:modified>
  <cp:revision>193</cp:revision>
  <dc:subject/>
  <dc:title>EL 6XX</dc:title>
</cp:coreProperties>
</file>