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FEA3-2B92-445E-89C1-ABA518F3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38E4-9ACA-49AC-BBAA-8F0677A5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C895-6FF1-4476-97D9-7F7BF98D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D5EC-0189-49FC-84B6-DAF27FBF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4EFC-69B2-4230-903B-98199918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7108-F38F-483F-AEBE-3A2E4DE1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4B3E-F21C-4B06-81F3-59535B98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6A6-1200-444D-8D46-6FA410BF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A080-4C27-44D3-9EFB-BDD99BF8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E879-92DD-451A-B718-9A767059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0AAA-9835-4F44-821A-133E6B9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58BAE-2634-40E3-864F-EC2495C6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BABE-788B-49E7-8D22-6B99859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4579-EB4D-410E-8E2F-0F0B197D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6255-9F7A-4337-8F3B-C466A8EE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8C1E-62F9-4FC8-913D-0542E043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6A9F-7CBA-482B-93A9-1E21143D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C862-D2CA-4A0A-B1DD-1948D83B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D9F0-5666-42CA-A6A1-129A50E2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E13C-C0FC-4204-8194-44AB61EB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17D5-306D-4CA2-9A12-752332E3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ECCF-A249-4D3D-AA64-0D19F18C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0A1C-9006-4C8C-A370-D8D66790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BAB2-6ACF-4EB5-8246-FAA7075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7D1B-CBDA-4162-B318-A3BC735A9FE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B28F-4BF9-495E-BA1D-4327FC8A3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F7DF-7C53-484C-B13B-4BED0D5BEF2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FCC9-7209-4D53-8F69-42A221A96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chitectural Level Synthesis and Optim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8480" y="4889520"/>
            <a:ext cx="581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Synthesis and Optimization of Digital Circuits”, Giovanni de Miche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076720" y="2984400"/>
          <a:ext cx="2832120" cy="1803240"/>
        </p:xfrm>
        <a:graphic>
          <a:graphicData uri="http://schemas.openxmlformats.org/drawingml/2006/table">
            <a:tbl>
              <a:tblPr/>
              <a:tblGrid>
                <a:gridCol w="1535400"/>
                <a:gridCol w="129672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172120" y="3373560"/>
                <a:ext cx="1368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172120" y="3720960"/>
                <a:ext cx="1098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72120" y="407988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181480" y="44308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984920" y="5019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assumed to have unit executio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54120" y="1268280"/>
            <a:ext cx="4422600" cy="5446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508720" y="2276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80000" y="2708280"/>
                <a:ext cx="19447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826920" y="836640"/>
          <a:ext cx="28483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36640"/>
                    <a:ext cx="28483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88000" y="1341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resource per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859280" y="1989000"/>
          <a:ext cx="3168720" cy="3216240"/>
        </p:xfrm>
        <a:graphic>
          <a:graphicData uri="http://schemas.openxmlformats.org/drawingml/2006/table">
            <a:tbl>
              <a:tblPr/>
              <a:tblGrid>
                <a:gridCol w="1081080"/>
                <a:gridCol w="936720"/>
                <a:gridCol w="115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64040" y="34354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89600" y="2779560"/>
                <a:ext cx="210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978520" y="2770200"/>
                <a:ext cx="289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984920" y="307800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92920" y="3078000"/>
                <a:ext cx="28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970520" y="3789360"/>
                <a:ext cx="249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58000" y="3798720"/>
                <a:ext cx="250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81680" y="4148280"/>
                <a:ext cx="2476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13360" y="450864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21360" y="4498920"/>
                <a:ext cx="2318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21360" y="486900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869000" y="5445000"/>
                <a:ext cx="1925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graph in previous slides with the follow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propagation delay: 3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rations propagation delay: 2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ime: 50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corresponding scheduled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the type of computation it per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(addition, multi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specific operation (Boolean function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ion of type is extended t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ource type can implement more than one operat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-type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resources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    resources types, the resource types set is denoted by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                  denotes the resource type that can implement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perations do not require any binding to any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pplied when there are more than one operation with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24360" y="2565360"/>
                <a:ext cx="10764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556000" y="2060640"/>
                <a:ext cx="43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49400" y="3068640"/>
                <a:ext cx="1793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inding is a mapping                        where              denotes that the operation corresponding to       , with type          , is implemented by the rth instance of the resource type       fo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case of binding is a dedicated resource. Each operation is bound to one resource, and the resource binding    is a one-to-on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941480" y="2492280"/>
                <a:ext cx="1190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867280" y="2060640"/>
                <a:ext cx="1681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06840" y="2997360"/>
                <a:ext cx="6048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938920" y="2944800"/>
                <a:ext cx="7938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614600" y="3860640"/>
                <a:ext cx="5094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651120" y="3814920"/>
                <a:ext cx="1208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443640" y="5180040"/>
                <a:ext cx="2732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292720" y="387360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440320" y="390528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219640" y="90792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1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that 11 resources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type are {multiplier, ALU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instances of multiplier and five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21240" y="4249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430960" y="459432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421240" y="4960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430960" y="53053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423040" y="566892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21240" y="60339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1" name=""/>
          <p:cNvGraphicFramePr/>
          <p:nvPr/>
        </p:nvGraphicFramePr>
        <p:xfrm>
          <a:off x="7236000" y="3860640"/>
          <a:ext cx="1679400" cy="142740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373880" y="388296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373880" y="422748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45440" y="4581360"/>
                <a:ext cx="6350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345440" y="494820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3120" y="836640"/>
            <a:ext cx="4773600" cy="5878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175400">
            <a:off x="1044360" y="1682640"/>
            <a:ext cx="71892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75400">
            <a:off x="1908000" y="1603080"/>
            <a:ext cx="71280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1628640"/>
            <a:ext cx="86328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537400">
            <a:off x="1110960" y="3767040"/>
            <a:ext cx="86364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20200">
            <a:off x="2138040" y="2446200"/>
            <a:ext cx="863640" cy="352908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292720" y="106524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440320" y="109692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21240" y="144144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30960" y="178596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421240" y="2152800"/>
                <a:ext cx="5968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30960" y="249696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423040" y="28605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421240" y="3225960"/>
                <a:ext cx="5968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7236000" y="1052640"/>
          <a:ext cx="1679400" cy="1427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373880" y="107460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373880" y="14191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345440" y="1773360"/>
                <a:ext cx="6350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345440" y="213984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362560" y="397980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stances of multiplier and 2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72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7440" y="14842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6944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88720" y="1413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6720" y="134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44000" y="3573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a and Performance Est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rea and delay estimation is not a simpl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and optimization require estimating area and performance variations as a result of architectural-level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provides latency, binding provid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o forecast the impact of scheduling and binding decisions on area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-do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means constructing the macroscopic structure of a digital circuit, starting from behavioral models that can be captured by data-flow or sequenc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com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of the circuit (data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is an interconn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to implement arithmetic or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 circuits (e.g. multiplexers and buses) to send data to the appropriate destination at the appropriat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or memory to stor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-Dominated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and delay of resources ar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of other components can be neglected or considered a fixed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of a structure is the sum of the areas of the bound resource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cycle time, the execution delay of the operations can be 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of a circuit can be determined by it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1297080"/>
            <a:ext cx="3654360" cy="5445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067280" y="177336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considered as resource 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multiplier is 5 units, and its propagation is 3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ALU is 1 unit, and its propagation is 2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head is 1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time is 40 nsec, and then all operations require one cycle 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ith dedicated resources requires 6*5 + 5*1 +1=36 and latency is 4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lementation with one resource of each type requires 5+1+1=7. Latency is 7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is the sum of the areas of the bound resources instances plus the area of the steering logic, registers (or memories), control unit, and wir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depends on the schedule, which must take into account the propagation delay on paths between register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ata transferred from a resource to another across a cycle boundary must be stored into a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usage can be derived by examining a scheduled sequencing graph. Number of registers can b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estimation of the number of registers requires scheduling and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up and propagation delay times of registers must be added to the propagation delay of the combinational logic to evaluate the evaluate their effect on cyc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the area an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multiplexers is known, however to know the number of required multiplexers, we need th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s ad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iderations are necessary for busses area and 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ses can be considered as a fixed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rivers and receivers can be considered as distributed 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contributes to the overall area an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area overhead is estimated from the structure (binding is known) by using models that are appropriate for the physical design style of th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 on wires is proportional to wiring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stimate wiring length we need the structure (binding) as well as the placement of the physical implementation of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floor planners or statistical placement model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wiring models can also be used. It has been shown that the average interconnection length is proportional to the total number of blocks to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α power, where 0 ≤ α ≤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delay and area are related to the average interconnectio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ircuit contributes to the overall area and delay because some control signals can be part of the crit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models for estimating the size of the control circuit can be based on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s for Architectural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s scheduling and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 of architectural optimization is to determine a scheduled sequencing graph with a complete resource binding that satisfies the given constraints and optimizes some figures of me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al optimization consists of determining a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φ and a binding β that optimizes the objectives (area latency, cycle-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al exploration is often done by exploring the area / latency trade-off for different values of the cyc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pproaches are the search for cycle-time / latency trade-off for some binding or the area / cycle time trade-off for some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Implemented Circ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time (clock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(the number of cycles to perform all ope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put (computation rate) for pipelined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-level circui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sources process data – implement arithmetic and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resources – designed carefully once and often used (e.g. encoders, decoders). Stored in libraries and fully characte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-specific resources – solves a particular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sources store data (e.g. registers, read-only memory, read-writ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resources support data transfer (e.g. busses, I/O p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specifications to ensure that the circuit can be embedded in a give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to the format and timing of the I/O data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the desire of the designer to achieve a structure with som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ndamental Architectural Synthesis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a circuit is specifi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quencing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functional resources (fully character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storage is implemented by registers and interconnections b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consists of two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the operations in time and space (time interval for execution and bind to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interconnection of the data path and the 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note the execution delays of the operations by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defined as the time at which the operation starts its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perations, represented by the 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are attributes of the vertices of the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is the task of determining the start times, subject to the precedence constraints specified by the sequencing graph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284720" y="2441520"/>
                <a:ext cx="187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00000" y="4168800"/>
                <a:ext cx="1757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of a scheduled sequencing graph is denoted by   , it is the difference between the start time of the sink and the start time of the sour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dule of a sequencing graph is a fun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, where             denotes the operation start time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ex-weighted, where each vertex is labeled by its star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00360" y="2443320"/>
                <a:ext cx="20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4076640"/>
                <a:ext cx="869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3274920"/>
                <a:ext cx="1008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826920" y="4076640"/>
                <a:ext cx="1081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54400" y="4437000"/>
                <a:ext cx="2612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9-27T14:58:39Z</dcterms:modified>
  <cp:revision>193</cp:revision>
  <dc:subject/>
  <dc:title>EL 6XX</dc:title>
</cp:coreProperties>
</file>