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080AD-7253-4A33-8146-5A4C45DD0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962ED-FEF4-4BF0-AFA0-A3B7792D7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79DEB-DF2C-4F3F-86DF-E8FA6CAB1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32C5A-E921-4607-9F12-8094247A4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3C51C-5060-466E-8601-23FBD28FC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1A1A7-A315-4D45-AFE7-A3C01E750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C156C-5A57-45C4-A0B4-5F40C6380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F501B-F936-4B48-9AA4-6D1445D65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71606-CA38-4DF9-86B6-BAC49653C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07B89-F7B4-421E-BB76-5AAE4253F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BC6B2-2BC1-4870-B545-757896C5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0D356-B6F9-4F95-A1AD-A85DAADD6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F4CEB-5D41-4D6A-84E7-90E346AE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212B4-E3F0-463D-841C-65F02027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4E2ED-45EF-4B4A-9AE7-398E7EECD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85CB9-2042-458F-B682-2785B9A5E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56C81-FB74-4BA6-B2C2-B98C8BE28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E48CE-93B7-4283-9C28-AE5266036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250A8-0AD3-4728-BBC9-E97665F74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29334-C845-4112-8A8F-BF3A7733C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E8E35-F3D4-4136-AC2E-A002AC63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421CC-85D1-4C1B-9014-4C7AD3EC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C7854-4CC0-4368-A185-1454F2EE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FDD58-DAE6-4340-905E-36A8B86E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CFABF-E102-40D4-BF0B-B1950E507089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790056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10685-B259-4634-97CD-191B8B1B1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1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8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1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2A107-D3E4-44CF-8875-9B24FC33DAFF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90056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5E269-E406-47BD-AB5A-2373595FB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71800" y="2068200"/>
            <a:ext cx="6019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EL 653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970000" y="4266720"/>
            <a:ext cx="6019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rchitectural Level Synthesis and Optimiz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58480" y="4889520"/>
            <a:ext cx="5819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ed from “Synthesis and Optimization of Digital Circuits”, Giovanni de Michel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Graw-Hill, 19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11280" y="1297080"/>
            <a:ext cx="3654360" cy="5445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5" name=""/>
          <p:cNvGraphicFramePr/>
          <p:nvPr/>
        </p:nvGraphicFramePr>
        <p:xfrm>
          <a:off x="5076720" y="2984400"/>
          <a:ext cx="2832120" cy="1803240"/>
        </p:xfrm>
        <a:graphic>
          <a:graphicData uri="http://schemas.openxmlformats.org/drawingml/2006/table">
            <a:tbl>
              <a:tblPr/>
              <a:tblGrid>
                <a:gridCol w="1535400"/>
                <a:gridCol w="1296720"/>
              </a:tblGrid>
              <a:tr h="37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 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5172120" y="3373560"/>
                <a:ext cx="1368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5172120" y="3720960"/>
                <a:ext cx="1098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172120" y="4079880"/>
                <a:ext cx="24912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181480" y="4430880"/>
                <a:ext cx="22860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4984920" y="501984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ons assumed to have unit execution de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quencing Gra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heduled Sequencing Gra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54120" y="1268280"/>
            <a:ext cx="4422600" cy="54468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5508720" y="227664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5580000" y="2708280"/>
                <a:ext cx="194472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826920" y="836640"/>
          <a:ext cx="2848320" cy="52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836640"/>
                    <a:ext cx="2848320" cy="52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4788000" y="134136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resource per 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859280" y="1989000"/>
          <a:ext cx="3168720" cy="3216240"/>
        </p:xfrm>
        <a:graphic>
          <a:graphicData uri="http://schemas.openxmlformats.org/drawingml/2006/table">
            <a:tbl>
              <a:tblPr/>
              <a:tblGrid>
                <a:gridCol w="1081080"/>
                <a:gridCol w="936720"/>
                <a:gridCol w="1150920"/>
              </a:tblGrid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 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4964040" y="3435480"/>
                <a:ext cx="22860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4989600" y="2779560"/>
                <a:ext cx="21096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5978520" y="2770200"/>
                <a:ext cx="2890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4984920" y="3078000"/>
                <a:ext cx="24912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5992920" y="3078000"/>
                <a:ext cx="28872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4970520" y="3789360"/>
                <a:ext cx="24912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5958000" y="3798720"/>
                <a:ext cx="25056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4981680" y="4148280"/>
                <a:ext cx="24768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5013360" y="4508640"/>
                <a:ext cx="22860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6021360" y="4498920"/>
                <a:ext cx="23184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021360" y="4869000"/>
                <a:ext cx="22860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4869000" y="5445000"/>
                <a:ext cx="192564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rc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the graph in previous slides with the following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ication propagation delay: 35 n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operations propagation delay: 25 n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cle time: 50 n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the corresponding scheduled sequencing 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patial Domain: Bi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n operation is the type of computation it per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 (addition, multiplic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-specific operation (Boolean function evalu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otion of type is extended to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source type can implement more than one operation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source-type s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set of resources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patial Domain: Bi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ing     resources types, the resource types set is denoted by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unction                   denotes the resource type that can implement an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-operations do not require any binding to any re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source sha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pplied when there are more than one operation with the same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924360" y="2565360"/>
                <a:ext cx="107640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s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2556000" y="2060640"/>
                <a:ext cx="43164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2849400" y="3068640"/>
                <a:ext cx="17938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:</m:t>
                    </m:r>
                    <m:r>
                      <m:t xml:space="preserve">V</m:t>
                    </m:r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s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patial Domain: Bi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 binding is a mapping                        where              denotes that the operation corresponding to       , with type          , is implemented by the rth instance of the resource type       for 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imple case of binding is a dedicated resource. Each operation is bound to one resource, and the resource binding    is a one-to-one fun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1941480" y="2492280"/>
                <a:ext cx="119052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5867280" y="2060640"/>
                <a:ext cx="168120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:</m:t>
                    </m:r>
                    <m:r>
                      <m:t xml:space="preserve">V</m:t>
                    </m:r>
                    <m:r>
                      <m:t xml:space="preserve">→</m:t>
                    </m:r>
                    <m:r>
                      <m:t xml:space="preserve">R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3606840" y="2997360"/>
                <a:ext cx="604800" cy="33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5938920" y="2944800"/>
                <a:ext cx="79380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1614600" y="3860640"/>
                <a:ext cx="50940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∈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3651120" y="3814920"/>
                <a:ext cx="120816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p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6443640" y="5180040"/>
                <a:ext cx="27324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11280" y="1297080"/>
            <a:ext cx="3654360" cy="5445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1" name=""/>
          <p:cNvGraphicFramePr/>
          <p:nvPr/>
        </p:nvGraphicFramePr>
        <p:xfrm>
          <a:off x="5292720" y="3873600"/>
          <a:ext cx="1679400" cy="2489040"/>
        </p:xfrm>
        <a:graphic>
          <a:graphicData uri="http://schemas.openxmlformats.org/drawingml/2006/table">
            <a:tbl>
              <a:tblPr/>
              <a:tblGrid>
                <a:gridCol w="887400"/>
                <a:gridCol w="792000"/>
              </a:tblGrid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,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,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5440320" y="3905280"/>
                <a:ext cx="55872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5219640" y="907920"/>
            <a:ext cx="331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11 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ing that 11 resources are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s type are {multiplier, ALU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ier is type 1, ALU is typ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instances of multiplier and five instances of the ALU are n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quencing Gra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5421240" y="4249800"/>
                <a:ext cx="59688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5430960" y="4594320"/>
                <a:ext cx="57780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5421240" y="4960800"/>
                <a:ext cx="59688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5430960" y="5305320"/>
                <a:ext cx="5778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5423040" y="5668920"/>
                <a:ext cx="59688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5421240" y="6033960"/>
                <a:ext cx="59688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01" name=""/>
          <p:cNvGraphicFramePr/>
          <p:nvPr/>
        </p:nvGraphicFramePr>
        <p:xfrm>
          <a:off x="7236000" y="3860640"/>
          <a:ext cx="1679400" cy="1427400"/>
        </p:xfrm>
        <a:graphic>
          <a:graphicData uri="http://schemas.openxmlformats.org/drawingml/2006/table">
            <a:tbl>
              <a:tblPr/>
              <a:tblGrid>
                <a:gridCol w="887400"/>
                <a:gridCol w="792000"/>
              </a:tblGrid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,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,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,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7373880" y="3882960"/>
                <a:ext cx="5796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7373880" y="4227480"/>
                <a:ext cx="5778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7345440" y="4581360"/>
                <a:ext cx="635040" cy="34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7345440" y="4948200"/>
                <a:ext cx="63648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03120" y="836640"/>
            <a:ext cx="4773600" cy="58784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 rot="1175400">
            <a:off x="1044360" y="1682640"/>
            <a:ext cx="718920" cy="1944720"/>
          </a:xfrm>
          <a:prstGeom prst="ellipse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1175400">
            <a:off x="1908000" y="1603080"/>
            <a:ext cx="712800" cy="1944720"/>
          </a:xfrm>
          <a:prstGeom prst="ellipse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780000" y="1628640"/>
            <a:ext cx="863280" cy="1944720"/>
          </a:xfrm>
          <a:prstGeom prst="ellipse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68360" y="1700280"/>
            <a:ext cx="647640" cy="720720"/>
          </a:xfrm>
          <a:prstGeom prst="ellipse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916360" y="1700280"/>
            <a:ext cx="647640" cy="720720"/>
          </a:xfrm>
          <a:prstGeom prst="ellipse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20537400">
            <a:off x="1110960" y="3767040"/>
            <a:ext cx="863640" cy="1944720"/>
          </a:xfrm>
          <a:prstGeom prst="ellipse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1720200">
            <a:off x="2138040" y="2446200"/>
            <a:ext cx="863640" cy="3529080"/>
          </a:xfrm>
          <a:prstGeom prst="ellipse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5292720" y="1065240"/>
          <a:ext cx="1679400" cy="2489040"/>
        </p:xfrm>
        <a:graphic>
          <a:graphicData uri="http://schemas.openxmlformats.org/drawingml/2006/table">
            <a:tbl>
              <a:tblPr/>
              <a:tblGrid>
                <a:gridCol w="887400"/>
                <a:gridCol w="792000"/>
              </a:tblGrid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,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,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5440320" y="1096920"/>
                <a:ext cx="55872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5421240" y="1441440"/>
                <a:ext cx="59688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5430960" y="1785960"/>
                <a:ext cx="57780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5421240" y="2152800"/>
                <a:ext cx="59688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5430960" y="2496960"/>
                <a:ext cx="5778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5423040" y="2860560"/>
                <a:ext cx="59688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5421240" y="3225960"/>
                <a:ext cx="59688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22" name=""/>
          <p:cNvGraphicFramePr/>
          <p:nvPr/>
        </p:nvGraphicFramePr>
        <p:xfrm>
          <a:off x="7236000" y="1052640"/>
          <a:ext cx="1679400" cy="1427040"/>
        </p:xfrm>
        <a:graphic>
          <a:graphicData uri="http://schemas.openxmlformats.org/drawingml/2006/table">
            <a:tbl>
              <a:tblPr/>
              <a:tblGrid>
                <a:gridCol w="887400"/>
                <a:gridCol w="792000"/>
              </a:tblGrid>
              <a:tr h="35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,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,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,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7373880" y="1074600"/>
                <a:ext cx="5796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7373880" y="1419120"/>
                <a:ext cx="5778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7345440" y="1773360"/>
                <a:ext cx="63504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7345440" y="2139840"/>
                <a:ext cx="63648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5362560" y="3979800"/>
            <a:ext cx="331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ier is type 1, ALU is typ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instances of multiplier and 2 instances of the ALU are n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40720" y="141300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(1,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477440" y="148428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(1,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69440" y="141300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(1,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988720" y="1413000"/>
            <a:ext cx="53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(1,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96720" y="134136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(2,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44000" y="357336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(2,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ea and Performance Esti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te area and delay estimation is not a simple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ctural synthesis and optimization require estimating area and performance variations as a result of architectural-level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edule provides latency, binding provides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important to forecast the impact of scheduling and binding decisions on area and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types of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-domin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ctural synthesis means constructing the macroscopic structure of a digital circuit, starting from behavioral models that can be captured by data-flow or sequencing grap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utcome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al view of the circuit (data pa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 level specification of the control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ath is an interconnection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s to implement arithmetic or logic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ering logic circuits (e.g. multiplexers and buses) to send data to the appropriate destination at the appropriat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er or memory to stor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-Dominated Circ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a and delay of resources are 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meters of other components can be neglected or considered a fixed 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d area of a structure is the sum of the areas of the bound resource in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given cycle time, the execution delay of the operations can be der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ncy of a circuit can be determined by its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79280" y="1297080"/>
            <a:ext cx="3654360" cy="54450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4067280" y="1773360"/>
            <a:ext cx="4537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cuit considered as resource domin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 of the multiplier is 5 units, and its propagation is 35 ns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 of the ALU is 1 unit, and its propagation is 25 ns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head is 1 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cle time is 40 nsec, and then all operations require one cycle to exec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with dedicated resources requires 6*5 + 5*1 +1=36 and latency is 4 cyc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implementation with one resource of each type requires 5+1+1=7. Latency is 7 cyc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irc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d area is the sum of the areas of the bound resources instances plus the area of the steering logic, registers (or memories), control unit, and wiring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ncy depends on the schedule, which must take into account the propagation delay on paths between register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ath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ering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ata transferred from a resource to another across a cycle boundary must be stored into a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 usage can be derived by examining a scheduled sequencing graph. Number of registers can be minim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te estimation of the number of registers requires scheduling and bi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t up and propagation delay times of registers must be added to the propagation delay of the combinational logic to evaluate the evaluate their effect on cycl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ering Log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fects the area and propagation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a of multiplexers is known, however to know the number of required multiplexers, we need the bi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xers add propagation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considerations are necessary for busses area and delay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ses can be considered as a fixed 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 drivers and receivers can be considered as distributed multiplex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ing contributes to the overall area and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ing area overhead is estimated from the structure (binding is known) by using models that are appropriate for the physical design style of the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agation delay on wires is proportional to wiring 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estimate wiring length we need the structure (binding) as well as the placement of the physical implementation of th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 floor planners or statistical placement models are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stical wiring models can also be used. It has been shown that the average interconnection length is proportional to the total number of blocks to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α power, where 0 ≤ α ≤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ing delay and area are related to the average interconnection 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 U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icul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circuit contributes to the overall area and delay because some control signals can be part of the critical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models for estimating the size of the control circuit can be based on lat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ategies for Architectural Optim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ises scheduling and bi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oal of architectural optimization is to determine a scheduled sequencing graph with a complete resource binding that satisfies the given constraints and optimizes some figures of mer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ural optimization consists of determining a schedu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φ and a binding β that optimizes the objectives (area latency, cycle-ti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rchitectural exploration is often done by exploring the area / latency trade-off for different values of the cycl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approaches are the search for cycle-time / latency trade-off for some binding or the area / cycle time trade-off for some sche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aluation of Implemented Circu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cle time (clock peri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ncy (the number of cycles to perform all opera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oughput (computation rate) for pipelined circu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rcuit Spec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havioral-level circuit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resources process data – implement arithmetic and logic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itive resources – designed carefully once and often used (e.g. encoders, decoders). Stored in libraries and fully character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-specific resources – solves a particular t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 resources store data (e.g. registers, read-only memory, read-write memo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face resources support data transfer (e.g. busses, I/O pa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specifications to ensure that the circuit can be embedded in a given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e to the format and timing of the I/O data trans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ation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lect the desire of the designer to achieve a structure with some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Fundamental Architectural Synthesis Probl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ssume that a circuit is specifi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equencing 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et of functional resources (fully characteriz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et of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ssume that storage is implemented by registers and interconnections by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ctural synthesis consists of two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ing the operations in time and space (time interval for execution and bind to resour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ailed interconnection of the data path and the logic level specification of the control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emporal Domain: Schedu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denote the execution delays of the operations by the s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art ti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n operation is defined as the time at which the operation starts its exec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art ti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operations, represented by the se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are attributes of the vertices of the sequencing 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ing is the task of determining the start times, subject to the precedence constraints specified by the sequencing graph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4284720" y="2441520"/>
                <a:ext cx="187164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,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900000" y="4168800"/>
                <a:ext cx="175752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,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emporal Domain: Schedu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ncy of a scheduled sequencing graph is denoted by   , it is the difference between the start time of the sink and the start time of the sourc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chedule of a sequencing graph is a fun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, where             denotes the operation start time such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cheduled sequencing grap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vertex-weighted, where each vertex is labeled by its start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700360" y="2443320"/>
                <a:ext cx="2080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203640" y="4076640"/>
                <a:ext cx="86976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124000" y="3274920"/>
                <a:ext cx="100800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826920" y="4076640"/>
                <a:ext cx="108108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:</m:t>
                    </m:r>
                    <m:r>
                      <m:t xml:space="preserve">V</m:t>
                    </m:r>
                    <m:r>
                      <m:t xml:space="preserve">→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254400" y="4437000"/>
                <a:ext cx="261288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: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∈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5T14:39:55Z</dcterms:created>
  <dc:creator>Administrator</dc:creator>
  <dc:description/>
  <dc:language>en-US</dc:language>
  <cp:lastModifiedBy>Synopsys</cp:lastModifiedBy>
  <dcterms:modified xsi:type="dcterms:W3CDTF">2006-09-27T14:58:39Z</dcterms:modified>
  <cp:revision>193</cp:revision>
  <dc:subject/>
  <dc:title>EL 6XX</dc:title>
</cp:coreProperties>
</file>