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3DA26-4CE5-4E3E-857F-C544CC82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C005-6BE1-4CCB-9DFE-9E5F7E35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775B-945B-492F-99DD-2DA6BC45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951A-B8F0-4DF0-8F97-AED29207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D5D6-C61A-4CB1-AB0D-308B1B39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EBE9-32C3-4A97-B6CD-94A4A08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536D-A03D-46DF-B1E7-F5A3CAA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7576-86E0-42D7-B730-B32D41CA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9340-848A-482C-A184-F50B01B5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1C05-F0FE-4D07-80C1-D8B6B9CE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F82B-72C0-4934-8BCE-9DEB554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D840-B5AA-4F12-B962-7AB02681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1CB-D941-49A3-BE8A-3827305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E75A-D95C-406C-B0BC-BE1BDA6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1049-6A27-46EF-918F-A3440DBC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93F2-64C9-4C43-B7FC-B296BA36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1593-DC51-403E-A9E6-FAAA00C1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12BD-C4FF-4FEA-9D68-B7487E0B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FAB2-9A28-4B9A-95DB-C7EBC327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CA29-8026-4D60-9F49-7DA9A98B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6036-6AD5-47CA-B1AF-7AC223EC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A238-23CC-42F6-92B5-482F8A1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262A-7C9D-46B7-BDBF-96232BF3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3E33-89AD-43BD-83D7-6B9F13F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2EB-D739-4267-AA42-4155510B75F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748D-7C4D-44CF-9210-3E6F888E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96C4-97D4-4F22-A6BA-62F9919BE4D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CDEF-33A1-47FA-B765-03879855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C Desig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4880" y="4889520"/>
            <a:ext cx="613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Advanced ASIC Chip Synthesis using Synopsys”, Himanshu Bhatnaga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evels of abstraction my be used to represent the design: behavioral, RTL, and struc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is used primarily for translating the architectural specification to a code that can be sim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is used to explore the authenticity and feasibility of the chosen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describes and infers the structural components and their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describes the functionality of the design and is synthesizable to produce the structural ne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RTL code is performed to check the functionality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 is surrounded by a test bench ready f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enches are written in behavioral HDL (Verilog or VH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test bench is to provide necessary stimuli to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of the design is dependant on the number of tests performed and the quality of the test b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484360" y="3375000"/>
            <a:ext cx="3600360" cy="266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4670280"/>
            <a:ext cx="3024360" cy="1152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L simulation doesn’t consider componen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inimize the differences between RTL and gate level simulation, delays are added into the RTL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3591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591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4815000"/>
            <a:ext cx="115272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5080" y="474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335772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735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95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4238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068640"/>
            <a:ext cx="417672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08280" y="306864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2123640" y="4005360"/>
            <a:ext cx="3628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 Stimu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6082920" y="3790440"/>
            <a:ext cx="362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ant Out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5589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3718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8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718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22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522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22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378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84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 and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, HDLs were used for logic verification, Designers manually translated HDL into schematics and draw the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tools renders the manual tasks obso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 reduces the RTL to a gate 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ing a design is an iterative process starting with the timing constraint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straints define the relationship of each signal with the clock input for a particula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 and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also needs a file specifying the environment (e.g. technology libra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produces a gate level netlist from the RTL code using a cell library, timing constraints, and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3500280"/>
            <a:ext cx="100800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TL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3502080"/>
            <a:ext cx="1008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ell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3500280"/>
            <a:ext cx="1368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nvironment &amp; timing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734080"/>
            <a:ext cx="122400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ate level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5280" y="4581360"/>
            <a:ext cx="86364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941720"/>
            <a:ext cx="1150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14972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4941720"/>
            <a:ext cx="1293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149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5373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signs incorporate design-for-test (DTF) logic to test functionality after the chip is fabr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IST (built-in-self-test): synthesizable RTL based upon controller logic and incorporated in the design before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insertion: maps the RTL directly to scan-flops, before linking them in a scan-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y scan (JTAG): used for test the board connection without unplugging the chip from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a validation of a design using mathematic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for logic functions of a design by comparing it against the referenc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methods verifies the design by proving that the two descriptions are log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s RTL against RTL, gate level against RTL, and gate level against ga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Timing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he user to exhaustively analyze all critical paths of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formation about capacitive loading (fan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 itera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53880"/>
            <a:ext cx="4326120" cy="617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83160" y="1771560"/>
            <a:ext cx="268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: Static timing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: Clock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: Synopsys Design 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and electric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coding and simulation test bench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T (design for test) memory BIST (built-in self test) insertion, for design containing memory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ive dynamic simulation of the design, in order to verify the functionality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nvironment settings (technology library and other environment attrib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ing and synthesizing the design with scan inse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level static tim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verification of the design (RTL against synthesized net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layout static timing analysis on the ful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annotation of timing constraints to the layou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floorplanning with timing driven placement of cells, clock tree insertion and global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f clock tree to the original design (net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verification between the synthesized netlist and clock tree inserted net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ion of estimated timing delays from the layout after the global routing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annotation of estimated timing data from the global rout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timing analysis using the estimated delays extracted after performing global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routing of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Desig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of real timing delays from the detailed rou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annotation of the real extracted data from the detailed rou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layout static tim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ate level simulation of the design with post - layout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out after LVS (layout-versus-schematic) and DRC (design rule checking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design starts with the conception of an idea dictated by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s are translated to architectural and electrical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pecification defines the functionality of the chip as well as the partition into several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specification defines the relationship between the blocks in terms of tim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specifications are made, design continues with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 implementation was done manually drawing schematics (components of a cell libr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design was time consuming and impractical for design 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are used today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 are mostly us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7-01-05T18:36:53Z</dcterms:modified>
  <cp:revision>167</cp:revision>
  <dc:subject/>
  <dc:title>EL 6XX</dc:title>
</cp:coreProperties>
</file>