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0945-A62F-4CE9-982C-78E58B8C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A7A3-B390-41CB-9890-B267725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4D11-4B82-4419-ACE5-2A20659E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DCF3-A13C-4D2E-BB4B-87DB6770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2516-8B58-4627-9231-52842242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0FF5-5724-479B-BE55-F36AF19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F6F5-ACBE-4A9E-BBA4-74AAB12F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B60A-DDF5-4E05-9539-453570D7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6E52-48C1-41A4-8EA5-1EF7E03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C64D-D536-46CC-99D7-E4E57F26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FBC8-3B8E-4511-9265-F6DD1BA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5018-6093-4C8E-8E8B-49820271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697D-449D-4A15-887D-D6BD4D9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36A-2D1F-4A11-9F94-79E437D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7D3-99D2-46B9-B9CD-831C32CE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F34-906E-4C68-98B9-DD2EFCA6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3A3-FFFA-4C61-AF67-E16EADD5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D289-8588-413D-9430-70ABBD5E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65C0-FC59-4A1E-BF44-3CC6B43C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AA18-1DB4-4793-9722-65555CAE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5136-BA1A-4BBE-9782-30914CE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80F2-6635-483E-ACD9-3056A0D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2410-449B-469F-B374-C4F692D7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FC93-AF6B-4A47-AE0A-DC8493E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575-49C9-4485-8C04-9822D2CB8DC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8B3-71AC-458C-960D-7346A7DC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9F5-FADA-4780-8050-463AD22B62C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EC8-DBB8-4A13-AE99-87B8B2F0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C Desig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4880" y="4889520"/>
            <a:ext cx="613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Advanced ASIC Chip Synthesis using Synopsys”, Himanshu Bhatnaga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evels of abstraction my be used to represent the design: behavioral, RTL, and 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is used primarily for translating the architectural specification to a code that can be sim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is used to explore the authenticity and feasibility of the chose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describes and infers the structural components and their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describes the functionality of the design and is synthesizable to produce the structural ne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RTL code is performed to check the functionality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is surrounded by a test bench ready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enches are written in behavioral HDL (Verilog or V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test bench is to provide necessary stimuli to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the design is dependant on the number of tests performed and the quality of the test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84360" y="3375000"/>
            <a:ext cx="3600360" cy="266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4670280"/>
            <a:ext cx="3024360" cy="1152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simulation doesn’t consider componen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nimize the differences between RTL and gate level simulation, delays are added into the RTL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3591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591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4815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5080" y="474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335772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35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95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423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068640"/>
            <a:ext cx="417672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08280" y="306864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2123640" y="4005360"/>
            <a:ext cx="3628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 Stimu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6082920" y="3790440"/>
            <a:ext cx="362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nt 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558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3718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718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378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84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and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, HDLs were used for logic verification, Designers manually translated HDL into schematics and draw the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tools renders the manual tasks obso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reduces the RTL to a gate 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ing a design is an iterative process starting with the timing constraint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straints define the relationship of each signal with the clock input for a particula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and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also needs a file specifying the environment (e.g. technology libr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produces a gate level netlist from the RTL code using a cell library, timing constraints, and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3500280"/>
            <a:ext cx="100800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TL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3502080"/>
            <a:ext cx="1008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ell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350028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vironment &amp; timing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734080"/>
            <a:ext cx="122400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ate level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581360"/>
            <a:ext cx="86364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94172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4941720"/>
            <a:ext cx="1293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149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5373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signs incorporate design-for-test (DTF) logic to test functionality after the chip is fabr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IST (built-in-self-test): synthesizable RTL based upon controller logic and incorporated in the design before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insertion: maps the RTL directly to scan-flops, before linking them in a scan-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y scan (JTAG): used for test the board connection without unplugging the chip from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a validation of a design using mathemat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logic functions of a design by comparing it against the referen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methods verifies the design by proving that the two descriptions are log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s RTL against RTL, gate level against RTL, and gate level against ga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Timing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he user to exhaustively analyze all critical paths of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formation about capacitive loading (fan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itera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53880"/>
            <a:ext cx="4326120" cy="617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83160" y="1771560"/>
            <a:ext cx="268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: Static timing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: Clock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: Synopsys Desig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and electric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coding and simulation test bench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 (design for test) memory BIST (built-in self test) insertion, for design containing memor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ive dynamic simulation of the design, in order to verify the functionality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nvironment settings (technology library and other environment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ing and synthesizing the design with scan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level static tim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of the design (RTL against synthesized net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layout static timing analysis on the ful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annotation of timing constraints to the layou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floorplanning with timing driven placement of cells, clock tree insertion and global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clock tree to the original design (net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between the synthesized netlist and clock tree inserted net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ion of estimated timing delays from the layout after the global routing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annotation of estimated timing data from the global rout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timing analysis using the estimated delays extracted after performing global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routing of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real timing delays from the detailed rou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annotation of the real extracted data from the detailed rou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layout static tim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ate level simulation of the design with post - layou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out after LVS (layout-versus-schematic) and DRC (design rule checking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design starts with the conception of an idea dictated by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s are translated to architectural and electr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pecification defines the functionality of the chip as well as the partition into several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specification defines the relationship between the blocks in terms of tim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specifications are made, design continues with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implementation was done manually drawing schematics (components of a cell libr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design was time consuming and impractical for design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are used today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 are mostly us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1-05T18:36:53Z</dcterms:modified>
  <cp:revision>167</cp:revision>
  <dc:subject/>
  <dc:title>EL 6XX</dc:title>
</cp:coreProperties>
</file>