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8EB8-3640-446B-BA27-071E7EEF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0FC1-04D9-498C-87A2-26333ED8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09B6-503C-41B2-AFBE-99A64C51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B312-E184-478D-9026-C33AE5E0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9B96-417D-482E-9ACD-25EC6169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635C-B01C-427B-AA2B-BE520012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0853-6F3A-4E5C-8C72-278694CF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5BD7-88EB-4D30-AD04-2BD8B6FF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502E-5D6D-49CE-9A1F-0C20B599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56AA-D9CC-4F2A-9D08-ED012467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95A7-3766-4D7B-B9E8-2C0DE088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A910-FDEE-46AA-A73D-10685A11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5A3C-04F2-4406-BA99-A9DA9B53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0F79-4C25-48EB-974F-E4B2EB42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6B52-0827-4A1F-89F9-B4B54C22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BE92-B5D3-43C6-950C-02CEB9AD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DD71-0C6E-49EB-B096-31C66B21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2CC5-56E2-46BA-8B4E-B8ADDA41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27C8-3F90-41BD-9511-2E3B780A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C4B5-7F52-4538-8D66-1FDEF71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479B-F85E-42F9-8D7D-73CF4BF5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64E4-C372-46DA-BD45-45E33006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BD66-15B7-495F-8F98-FE5B2218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4B31-5592-47F5-8CE8-E65D3214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C093-DBD2-4C87-8446-1C6254BE4D8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5905-1344-4260-B92A-06833F0C7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C177-5069-4602-B0EB-C45E03E1A33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F135-BBF8-44F8-A2D0-A0F81689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Secuen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ógica Secu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03720" y="3446640"/>
            <a:ext cx="1116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26000" y="2637000"/>
            <a:ext cx="237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8400" y="2649600"/>
            <a:ext cx="3187800" cy="128088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ICA COMBIN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21520" y="287352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8976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55800" y="274788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61240" y="3976560"/>
            <a:ext cx="16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34720" y="532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55800" y="3825720"/>
            <a:ext cx="14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77920" y="2873520"/>
            <a:ext cx="81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3860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627440" y="5271840"/>
            <a:ext cx="18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0560" y="5127480"/>
            <a:ext cx="115920" cy="19548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9"/>
                  <a:pt x="7" y="5"/>
                  <a:pt x="8" y="0"/>
                </a:cubicBezTo>
                <a:cubicBezTo>
                  <a:pt x="9" y="5"/>
                  <a:pt x="10" y="9"/>
                  <a:pt x="11" y="14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54120" y="3271680"/>
            <a:ext cx="1571760" cy="1370160"/>
          </a:xfrm>
          <a:custGeom>
            <a:avLst/>
            <a:gdLst/>
            <a:ahLst/>
            <a:rect l="l" t="t" r="r" b="b"/>
            <a:pathLst>
              <a:path w="990" h="863">
                <a:moveTo>
                  <a:pt x="278" y="0"/>
                </a:moveTo>
                <a:lnTo>
                  <a:pt x="0" y="0"/>
                </a:lnTo>
                <a:lnTo>
                  <a:pt x="0" y="863"/>
                </a:lnTo>
                <a:lnTo>
                  <a:pt x="990" y="86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38600" y="321480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29360" y="456876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2" y="8"/>
                </a:move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9" y="6"/>
                  <a:pt x="5" y="7"/>
                  <a:pt x="0" y="8"/>
                </a:cubicBezTo>
                <a:cubicBezTo>
                  <a:pt x="5" y="9"/>
                  <a:pt x="9" y="10"/>
                  <a:pt x="14" y="11"/>
                </a:cubicBezTo>
                <a:cubicBezTo>
                  <a:pt x="26" y="16"/>
                  <a:pt x="26" y="16"/>
                  <a:pt x="26" y="16"/>
                </a:cubicBezTo>
                <a:cubicBezTo>
                  <a:pt x="27" y="16"/>
                  <a:pt x="27" y="16"/>
                  <a:pt x="27" y="16"/>
                </a:cubicBez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97280" y="27478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73720" y="3591000"/>
            <a:ext cx="1428840" cy="1036440"/>
          </a:xfrm>
          <a:custGeom>
            <a:avLst/>
            <a:gdLst/>
            <a:ahLst/>
            <a:rect l="l" t="t" r="r" b="b"/>
            <a:pathLst>
              <a:path w="900" h="653">
                <a:moveTo>
                  <a:pt x="534" y="0"/>
                </a:moveTo>
                <a:lnTo>
                  <a:pt x="900" y="0"/>
                </a:lnTo>
                <a:lnTo>
                  <a:pt x="900" y="653"/>
                </a:lnTo>
                <a:lnTo>
                  <a:pt x="0" y="65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25880" y="4097160"/>
            <a:ext cx="1203480" cy="103032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7920" y="492444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265" y="128"/>
                </a:moveTo>
                <a:lnTo>
                  <a:pt x="132" y="0"/>
                </a:lnTo>
                <a:lnTo>
                  <a:pt x="0" y="128"/>
                </a:ln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6120" y="45115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5880" y="45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38560" y="41576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Myriad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áquina de Moore (máquina de estad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21300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95640" y="321300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gistr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95640" y="407664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995640" y="4149720"/>
            <a:ext cx="2160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27640" y="3213000"/>
            <a:ext cx="10810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58920" y="35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6520" y="3089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8764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35280" y="4149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3528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14720" y="45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76360" y="407664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76360" y="4076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76360" y="544500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724360" y="371628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07280" y="3789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9936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áquina de Mealy (máquina de estad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35280" y="321300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21300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gistr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95640" y="407664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995640" y="4149720"/>
            <a:ext cx="2160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3213000"/>
            <a:ext cx="10810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3080" y="3089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8764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35280" y="4149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3528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14720" y="45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48360" y="3860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407664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76360" y="4076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76360" y="544500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24360" y="35002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72436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618920" y="2637000"/>
            <a:ext cx="410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1928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724360" y="386028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07280" y="3789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9936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– Flop Tipo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63640" y="2997360"/>
            <a:ext cx="936720" cy="122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63640" y="378936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763640" y="3931920"/>
            <a:ext cx="144360" cy="14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321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393372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00360" y="321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00360" y="393372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000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908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2108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1080" y="3710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92360" y="3716280"/>
            <a:ext cx="216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5219640" y="2692440"/>
          <a:ext cx="1728720" cy="1928880"/>
        </p:xfrm>
        <a:graphic>
          <a:graphicData uri="http://schemas.openxmlformats.org/drawingml/2006/table">
            <a:tbl>
              <a:tblPr/>
              <a:tblGrid>
                <a:gridCol w="384120"/>
                <a:gridCol w="432000"/>
                <a:gridCol w="480960"/>
                <a:gridCol w="43164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658800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6108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61080" y="429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dor 3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050920" y="1776240"/>
          <a:ext cx="2256120" cy="4100760"/>
        </p:xfrm>
        <a:graphic>
          <a:graphicData uri="http://schemas.openxmlformats.org/drawingml/2006/table">
            <a:tbl>
              <a:tblPr/>
              <a:tblGrid>
                <a:gridCol w="887400"/>
                <a:gridCol w="136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5127480" y="2800440"/>
            <a:ext cx="31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próximo estado de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l Contador 3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88000" y="2701800"/>
            <a:ext cx="4316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3214800"/>
            <a:ext cx="66600" cy="9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788000" y="3306240"/>
            <a:ext cx="66600" cy="9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3852720"/>
            <a:ext cx="4316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88000" y="4365720"/>
            <a:ext cx="66600" cy="9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788000" y="4457880"/>
            <a:ext cx="66600" cy="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86200" y="5005440"/>
            <a:ext cx="43200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86200" y="5518080"/>
            <a:ext cx="66960" cy="9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786200" y="5610240"/>
            <a:ext cx="66960" cy="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19640" y="291780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19640" y="407052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19640" y="52214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74000" y="272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94880" y="3846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17200" y="5005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40000" y="2701800"/>
            <a:ext cx="1152360" cy="316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492360" y="2917800"/>
            <a:ext cx="129564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492360" y="4070160"/>
            <a:ext cx="129564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492360" y="5221440"/>
            <a:ext cx="12956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00720" y="3278160"/>
            <a:ext cx="0" cy="27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27816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0720" y="44290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00720" y="558180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29440" y="5942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74840" y="26290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95360" y="37544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7680" y="49132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651640" y="22698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34920" y="2270160"/>
            <a:ext cx="381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35280" y="227016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35280" y="313380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012000" y="19098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547280" y="1909800"/>
            <a:ext cx="44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47640" y="1909800"/>
            <a:ext cx="0" cy="20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392580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372360" y="154944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186920" y="1549440"/>
            <a:ext cx="518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87280" y="1549440"/>
            <a:ext cx="0" cy="30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87280" y="4573440"/>
            <a:ext cx="115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apas de Karnaugh del Contador 3 B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1897200" cy="1242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187280" y="3201840"/>
            <a:ext cx="1897200" cy="12463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1189080" y="4491000"/>
            <a:ext cx="1897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851280" y="2637000"/>
                <a:ext cx="2808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3860640"/>
                <a:ext cx="1728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851280" y="5229360"/>
                <a:ext cx="936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5851800" y="524844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p: Dibuje el 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468360" y="888840"/>
            <a:ext cx="80643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counter_state (clk,stat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2:0] 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ire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[2:0] state,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tate0=3'b00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1=3'b00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2=3'b0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3=3'b0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4=3'b10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5=3'b10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6=3'b1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7=3'b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0] = (state[0] &amp;&amp; !state[2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state[0] &amp;&amp; !state[1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state[0] &amp;&amp; state[1] &amp;&amp; state[2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1] = (state[1] &amp;&amp; !state[2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state[1] &amp;&amp; state[2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2] = !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052640" y="514440"/>
            <a:ext cx="7040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052640" y="514440"/>
            <a:ext cx="7040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ógica Secuencial – Máquina de Estado Finito (FS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03720" y="3446640"/>
            <a:ext cx="1116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26000" y="2637000"/>
            <a:ext cx="237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8400" y="2649600"/>
            <a:ext cx="3187800" cy="128088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ICA COMBIN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21520" y="287352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976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55800" y="274788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61240" y="3976560"/>
            <a:ext cx="16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4720" y="532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800" y="3825720"/>
            <a:ext cx="14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77920" y="2873520"/>
            <a:ext cx="81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860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627440" y="5271840"/>
            <a:ext cx="18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0560" y="5127480"/>
            <a:ext cx="115920" cy="19548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9"/>
                  <a:pt x="7" y="5"/>
                  <a:pt x="8" y="0"/>
                </a:cubicBezTo>
                <a:cubicBezTo>
                  <a:pt x="9" y="5"/>
                  <a:pt x="10" y="9"/>
                  <a:pt x="11" y="14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4120" y="3271680"/>
            <a:ext cx="1571760" cy="1370160"/>
          </a:xfrm>
          <a:custGeom>
            <a:avLst/>
            <a:gdLst/>
            <a:ahLst/>
            <a:rect l="l" t="t" r="r" b="b"/>
            <a:pathLst>
              <a:path w="990" h="863">
                <a:moveTo>
                  <a:pt x="278" y="0"/>
                </a:moveTo>
                <a:lnTo>
                  <a:pt x="0" y="0"/>
                </a:lnTo>
                <a:lnTo>
                  <a:pt x="0" y="863"/>
                </a:lnTo>
                <a:lnTo>
                  <a:pt x="990" y="86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38600" y="321480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29360" y="456876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2" y="8"/>
                </a:move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9" y="6"/>
                  <a:pt x="5" y="7"/>
                  <a:pt x="0" y="8"/>
                </a:cubicBezTo>
                <a:cubicBezTo>
                  <a:pt x="5" y="9"/>
                  <a:pt x="9" y="10"/>
                  <a:pt x="14" y="11"/>
                </a:cubicBezTo>
                <a:cubicBezTo>
                  <a:pt x="26" y="16"/>
                  <a:pt x="26" y="16"/>
                  <a:pt x="26" y="16"/>
                </a:cubicBezTo>
                <a:cubicBezTo>
                  <a:pt x="27" y="16"/>
                  <a:pt x="27" y="16"/>
                  <a:pt x="27" y="16"/>
                </a:cubicBez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7280" y="27478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3720" y="3591000"/>
            <a:ext cx="1428840" cy="1036440"/>
          </a:xfrm>
          <a:custGeom>
            <a:avLst/>
            <a:gdLst/>
            <a:ahLst/>
            <a:rect l="l" t="t" r="r" b="b"/>
            <a:pathLst>
              <a:path w="900" h="653">
                <a:moveTo>
                  <a:pt x="534" y="0"/>
                </a:moveTo>
                <a:lnTo>
                  <a:pt x="900" y="0"/>
                </a:lnTo>
                <a:lnTo>
                  <a:pt x="900" y="653"/>
                </a:lnTo>
                <a:lnTo>
                  <a:pt x="0" y="65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5880" y="4097160"/>
            <a:ext cx="1203480" cy="103032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7920" y="492444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265" y="128"/>
                </a:moveTo>
                <a:lnTo>
                  <a:pt x="132" y="0"/>
                </a:lnTo>
                <a:lnTo>
                  <a:pt x="0" y="128"/>
                </a:ln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6120" y="45115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5880" y="45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38560" y="41576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Myriad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quina de Estado Fi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08000" y="1952640"/>
          <a:ext cx="52293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52640"/>
                    <a:ext cx="52293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SM en 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dificación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ógica combin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ógica secue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gnación de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ombinaciones posibles para codificar s estados usando m variables es (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! / (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s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un método que permita determinar antes cual es la mejor asignación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directrices que ayudan a resolver est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buena práctica de dar un significado a la inicialización de la máquina de estado. El estado de inicio puede ser codificado con puros ceros o puros u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utilizar la secuencia normal de cuenta para otros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minimizar el número de bits que cambian entre un estado y otro (código G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estados pueden tener significados particulares, de modo que una variable se setea en un estado y no en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utilizar una variable por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dificación de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Hot (un solo bit con valor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Cold (un solo bit con val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68360" y="836640"/>
            <a:ext cx="806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_full(clock,reset,req_0,req_1,req_2,req_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_0,gnt_1,gnt_2,gnt_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clock,reset,req_0,req_1,req_2,req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gnt_0,gnt_1,gnt_2,gnt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gnt_0,gnt_1,gnt_2,gnt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 [2:0]  IDLE  = 3'b00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0  = 3'b00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1  = 3'b01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2  = 3'b01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3  = 3'b1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[2:0] state, next_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68360" y="836640"/>
            <a:ext cx="5759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 or req_0 or req_1 or req_2 or req_3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LE : if (req_0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1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2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3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0 : if (req_0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1 : if (req_1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56000" y="3573360"/>
            <a:ext cx="439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2 : if (req_2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3 : if (req_3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68360" y="836640"/>
            <a:ext cx="5759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output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oc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LE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0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1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2637000"/>
            <a:ext cx="41752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2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3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79280" y="1738440"/>
            <a:ext cx="3889440" cy="31305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2849400" y="3519360"/>
            <a:ext cx="61153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étricas Temporales para Circuitos Secu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35000" y="234648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19600" y="309096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4"/>
                  <a:pt x="17" y="5"/>
                  <a:pt x="20" y="6"/>
                </a:cubicBezTo>
                <a:cubicBezTo>
                  <a:pt x="17" y="7"/>
                  <a:pt x="13" y="7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3320" y="2266920"/>
            <a:ext cx="63360" cy="1065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7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4"/>
                  <a:pt x="6" y="0"/>
                </a:cubicBezTo>
                <a:cubicBezTo>
                  <a:pt x="7" y="4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43720" y="28684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6320" y="2595600"/>
            <a:ext cx="26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C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5000" y="2484360"/>
            <a:ext cx="4626000" cy="638280"/>
          </a:xfrm>
          <a:custGeom>
            <a:avLst/>
            <a:gdLst/>
            <a:ahLst/>
            <a:rect l="l" t="t" r="r" b="b"/>
            <a:pathLst>
              <a:path w="2914" h="402">
                <a:moveTo>
                  <a:pt x="2914" y="402"/>
                </a:moveTo>
                <a:lnTo>
                  <a:pt x="2688" y="402"/>
                </a:lnTo>
                <a:lnTo>
                  <a:pt x="2565" y="0"/>
                </a:lnTo>
                <a:lnTo>
                  <a:pt x="1416" y="0"/>
                </a:lnTo>
                <a:lnTo>
                  <a:pt x="1292" y="402"/>
                </a:lnTo>
                <a:lnTo>
                  <a:pt x="340" y="402"/>
                </a:lnTo>
                <a:lnTo>
                  <a:pt x="217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333540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407988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4"/>
                  <a:pt x="17" y="5"/>
                  <a:pt x="20" y="6"/>
                </a:cubicBezTo>
                <a:cubicBezTo>
                  <a:pt x="17" y="7"/>
                  <a:pt x="13" y="7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3320" y="3255840"/>
            <a:ext cx="63360" cy="1047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7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4"/>
                  <a:pt x="6" y="0"/>
                </a:cubicBezTo>
                <a:cubicBezTo>
                  <a:pt x="7" y="4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43720" y="38577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4480" y="35845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09920" y="41562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61760" y="424188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8520" y="42577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thematicalPi 1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82800" y="42418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26040" y="3124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64200" y="3209760"/>
            <a:ext cx="25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05040" y="3124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7880" y="32097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5000" y="434988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19600" y="5089680"/>
            <a:ext cx="104760" cy="68040"/>
          </a:xfrm>
          <a:custGeom>
            <a:avLst/>
            <a:gdLst/>
            <a:ahLst/>
            <a:rect l="l" t="t" r="r" b="b"/>
            <a:pathLst>
              <a:path w="20" h="13">
                <a:moveTo>
                  <a:pt x="4" y="7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7" y="6"/>
                  <a:pt x="20" y="7"/>
                </a:cubicBezTo>
                <a:cubicBezTo>
                  <a:pt x="17" y="7"/>
                  <a:pt x="13" y="8"/>
                  <a:pt x="10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03320" y="4270320"/>
            <a:ext cx="63360" cy="1065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6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3"/>
                  <a:pt x="6" y="0"/>
                </a:cubicBezTo>
                <a:cubicBezTo>
                  <a:pt x="7" y="3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43720" y="4870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45975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13320" y="4667400"/>
            <a:ext cx="4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34120" y="4857840"/>
            <a:ext cx="59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409840" y="3398760"/>
            <a:ext cx="1440" cy="42696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35000" y="3514680"/>
            <a:ext cx="4673520" cy="596880"/>
          </a:xfrm>
          <a:custGeom>
            <a:avLst/>
            <a:gdLst/>
            <a:ahLst/>
            <a:rect l="l" t="t" r="r" b="b"/>
            <a:pathLst>
              <a:path w="2944" h="376">
                <a:moveTo>
                  <a:pt x="2944" y="0"/>
                </a:moveTo>
                <a:lnTo>
                  <a:pt x="1825" y="0"/>
                </a:lnTo>
                <a:lnTo>
                  <a:pt x="1639" y="376"/>
                </a:lnTo>
                <a:lnTo>
                  <a:pt x="956" y="376"/>
                </a:lnTo>
                <a:lnTo>
                  <a:pt x="770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35000" y="3514680"/>
            <a:ext cx="4621320" cy="596880"/>
          </a:xfrm>
          <a:custGeom>
            <a:avLst/>
            <a:gdLst/>
            <a:ahLst/>
            <a:rect l="l" t="t" r="r" b="b"/>
            <a:pathLst>
              <a:path w="2911" h="376">
                <a:moveTo>
                  <a:pt x="2911" y="376"/>
                </a:moveTo>
                <a:lnTo>
                  <a:pt x="1815" y="376"/>
                </a:lnTo>
                <a:lnTo>
                  <a:pt x="1629" y="0"/>
                </a:lnTo>
                <a:lnTo>
                  <a:pt x="963" y="0"/>
                </a:lnTo>
                <a:lnTo>
                  <a:pt x="776" y="376"/>
                </a:lnTo>
                <a:lnTo>
                  <a:pt x="0" y="376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80000" y="3398760"/>
            <a:ext cx="1440" cy="42696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76640" y="2827080"/>
            <a:ext cx="1440" cy="229860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3398760"/>
            <a:ext cx="6177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336708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7" y="6"/>
                  <a:pt x="20" y="6"/>
                </a:cubicBezTo>
                <a:cubicBezTo>
                  <a:pt x="17" y="7"/>
                  <a:pt x="13" y="8"/>
                  <a:pt x="1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9840" y="3367080"/>
            <a:ext cx="100080" cy="63360"/>
          </a:xfrm>
          <a:custGeom>
            <a:avLst/>
            <a:gdLst/>
            <a:ahLst/>
            <a:rect l="l" t="t" r="r" b="b"/>
            <a:pathLst>
              <a:path w="19" h="12">
                <a:moveTo>
                  <a:pt x="16" y="6"/>
                </a:moveTo>
                <a:cubicBezTo>
                  <a:pt x="19" y="12"/>
                  <a:pt x="19" y="12"/>
                  <a:pt x="19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8"/>
                  <a:pt x="3" y="7"/>
                  <a:pt x="0" y="6"/>
                </a:cubicBezTo>
                <a:cubicBezTo>
                  <a:pt x="3" y="6"/>
                  <a:pt x="6" y="5"/>
                  <a:pt x="1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1160" y="3398760"/>
            <a:ext cx="449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73440" y="3367080"/>
            <a:ext cx="1065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6" y="6"/>
                  <a:pt x="20" y="6"/>
                </a:cubicBezTo>
                <a:cubicBezTo>
                  <a:pt x="16" y="7"/>
                  <a:pt x="13" y="8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76640" y="3367080"/>
            <a:ext cx="100080" cy="63360"/>
          </a:xfrm>
          <a:custGeom>
            <a:avLst/>
            <a:gdLst/>
            <a:ahLst/>
            <a:rect l="l" t="t" r="r" b="b"/>
            <a:pathLst>
              <a:path w="19" h="12">
                <a:moveTo>
                  <a:pt x="16" y="6"/>
                </a:moveTo>
                <a:cubicBezTo>
                  <a:pt x="19" y="12"/>
                  <a:pt x="19" y="12"/>
                  <a:pt x="19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8"/>
                  <a:pt x="3" y="7"/>
                  <a:pt x="0" y="6"/>
                </a:cubicBezTo>
                <a:cubicBezTo>
                  <a:pt x="3" y="6"/>
                  <a:pt x="6" y="5"/>
                  <a:pt x="1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995640" y="4424400"/>
            <a:ext cx="1800" cy="44280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1160" y="4424400"/>
            <a:ext cx="671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95560" y="4392720"/>
            <a:ext cx="100080" cy="56880"/>
          </a:xfrm>
          <a:custGeom>
            <a:avLst/>
            <a:gdLst/>
            <a:ahLst/>
            <a:rect l="l" t="t" r="r" b="b"/>
            <a:pathLst>
              <a:path w="19" h="11">
                <a:moveTo>
                  <a:pt x="3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3"/>
                  <a:pt x="9" y="3"/>
                  <a:pt x="9" y="3"/>
                </a:cubicBezTo>
                <a:cubicBezTo>
                  <a:pt x="13" y="4"/>
                  <a:pt x="16" y="5"/>
                  <a:pt x="19" y="6"/>
                </a:cubicBezTo>
                <a:cubicBezTo>
                  <a:pt x="16" y="6"/>
                  <a:pt x="13" y="7"/>
                  <a:pt x="9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76640" y="4392720"/>
            <a:ext cx="100080" cy="56880"/>
          </a:xfrm>
          <a:custGeom>
            <a:avLst/>
            <a:gdLst/>
            <a:ahLst/>
            <a:rect l="l" t="t" r="r" b="b"/>
            <a:pathLst>
              <a:path w="19" h="11">
                <a:moveTo>
                  <a:pt x="16" y="6"/>
                </a:move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7"/>
                  <a:pt x="3" y="6"/>
                  <a:pt x="0" y="6"/>
                </a:cubicBezTo>
                <a:cubicBezTo>
                  <a:pt x="3" y="5"/>
                  <a:pt x="6" y="4"/>
                  <a:pt x="1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5000" y="4608360"/>
            <a:ext cx="4673520" cy="517680"/>
          </a:xfrm>
          <a:custGeom>
            <a:avLst/>
            <a:gdLst/>
            <a:ahLst/>
            <a:rect l="l" t="t" r="r" b="b"/>
            <a:pathLst>
              <a:path w="2944" h="326">
                <a:moveTo>
                  <a:pt x="2944" y="0"/>
                </a:moveTo>
                <a:lnTo>
                  <a:pt x="1909" y="0"/>
                </a:lnTo>
                <a:lnTo>
                  <a:pt x="1825" y="326"/>
                </a:lnTo>
                <a:lnTo>
                  <a:pt x="1589" y="326"/>
                </a:lnTo>
                <a:lnTo>
                  <a:pt x="1506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35000" y="4608360"/>
            <a:ext cx="4605480" cy="517680"/>
          </a:xfrm>
          <a:custGeom>
            <a:avLst/>
            <a:gdLst/>
            <a:ahLst/>
            <a:rect l="l" t="t" r="r" b="b"/>
            <a:pathLst>
              <a:path w="2901" h="326">
                <a:moveTo>
                  <a:pt x="2901" y="326"/>
                </a:moveTo>
                <a:lnTo>
                  <a:pt x="1909" y="326"/>
                </a:lnTo>
                <a:lnTo>
                  <a:pt x="1825" y="0"/>
                </a:lnTo>
                <a:lnTo>
                  <a:pt x="1589" y="0"/>
                </a:lnTo>
                <a:lnTo>
                  <a:pt x="1506" y="326"/>
                </a:lnTo>
                <a:lnTo>
                  <a:pt x="0" y="326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53000" y="3613320"/>
            <a:ext cx="4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3440" y="3800520"/>
            <a:ext cx="59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04960" y="3181320"/>
            <a:ext cx="63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Ten Roman"/>
              </a:rPr>
              <a:t>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39840" y="40273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C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8400" y="3432240"/>
            <a:ext cx="11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98600" y="3432240"/>
            <a:ext cx="12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458120" y="3997440"/>
            <a:ext cx="1440" cy="19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16720" y="3897360"/>
            <a:ext cx="84240" cy="14292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6" y="26"/>
                  <a:pt x="16" y="26"/>
                  <a:pt x="16" y="26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3141720"/>
            <a:ext cx="877680" cy="755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3745080"/>
            <a:ext cx="306360" cy="152280"/>
          </a:xfrm>
          <a:custGeom>
            <a:avLst/>
            <a:gdLst/>
            <a:ahLst/>
            <a:rect l="l" t="t" r="r" b="b"/>
            <a:pathLst>
              <a:path w="193" h="96">
                <a:moveTo>
                  <a:pt x="193" y="96"/>
                </a:moveTo>
                <a:lnTo>
                  <a:pt x="96" y="0"/>
                </a:lnTo>
                <a:lnTo>
                  <a:pt x="0" y="96"/>
                </a:lnTo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18240" y="3527280"/>
            <a:ext cx="301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1760" y="3484440"/>
            <a:ext cx="138240" cy="85680"/>
          </a:xfrm>
          <a:custGeom>
            <a:avLst/>
            <a:gdLst/>
            <a:ahLst/>
            <a:rect l="l" t="t" r="r" b="b"/>
            <a:pathLst>
              <a:path w="26" h="16">
                <a:moveTo>
                  <a:pt x="5" y="8"/>
                </a:move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1"/>
                  <a:pt x="13" y="11"/>
                  <a:pt x="13" y="11"/>
                </a:cubicBezTo>
                <a:cubicBezTo>
                  <a:pt x="17" y="10"/>
                  <a:pt x="22" y="9"/>
                  <a:pt x="26" y="8"/>
                </a:cubicBezTo>
                <a:cubicBezTo>
                  <a:pt x="22" y="7"/>
                  <a:pt x="17" y="6"/>
                  <a:pt x="13" y="5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97680" y="3527280"/>
            <a:ext cx="301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61200" y="3484440"/>
            <a:ext cx="142920" cy="8568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1"/>
                  <a:pt x="13" y="11"/>
                  <a:pt x="13" y="11"/>
                </a:cubicBezTo>
                <a:cubicBezTo>
                  <a:pt x="18" y="10"/>
                  <a:pt x="22" y="9"/>
                  <a:pt x="27" y="8"/>
                </a:cubicBezTo>
                <a:cubicBezTo>
                  <a:pt x="22" y="7"/>
                  <a:pt x="18" y="6"/>
                  <a:pt x="13" y="5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68360" y="836640"/>
            <a:ext cx="539892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dule traffic1(clock,auto,principal,secondar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ock,au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principal, seconda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principal, seconda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,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fin_timer,inicio_tim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 GREEN = 1'b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 or auto or fin_timer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EEN : if (auto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auto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: if (fin_timer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fin_timer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next_state 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64000" y="907920"/>
            <a:ext cx="38163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output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oc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EEN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auto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cio_timer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cipal &lt;=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in_timer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cipal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&lt;=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un detector de paridad en que los datos llegan de a un bit por ciclo rel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atos se agrupan en paquetes de cuatro donde el cuarto bit es el de pa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 número de 1s en los tres primeros bits es impar el cuarto bit será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paridad está incorrecta, una señal de error es levantada durante el cuarto ciclo de rel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a un reset asíncrono que deje la máquina de estados en el estado inicial 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olvide de inicializar las señales y/o variables neces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e la máquina de estados correspondiente y escriba el archivo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tches vs. Regis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994040"/>
            <a:ext cx="4152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526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15263"/>
                </a:solidFill>
                <a:latin typeface="Arial"/>
              </a:rPr>
              <a:t>Latch: guarda los datos cuando el reloj (CLK) esta en nivel al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54280" y="3081240"/>
            <a:ext cx="98100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22640" y="3271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35240" y="393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33098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31186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7393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14880" y="31186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73720" y="3043080"/>
            <a:ext cx="89064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42080" y="32338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54680" y="38941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32716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30805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00720" y="37011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42160" y="30805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67600" y="3821040"/>
            <a:ext cx="133200" cy="85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270480" y="3897000"/>
            <a:ext cx="125640" cy="9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92560" y="1994040"/>
            <a:ext cx="3594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526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15263"/>
                </a:solidFill>
                <a:latin typeface="Arial"/>
              </a:rPr>
              <a:t>Registro: guarda los datos cuando el reloj (CLK) s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0574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146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4290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8862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82880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5176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20040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5740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786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20040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6167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199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4771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343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3915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8487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79132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176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4872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01992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57862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4872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449028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449028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51760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50997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578556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855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con La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84920" y="3002040"/>
            <a:ext cx="180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3252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1916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ch N es transparent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1916280"/>
            <a:ext cx="35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ch P es transparente cuando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21000" y="3400560"/>
            <a:ext cx="795240" cy="1579320"/>
          </a:xfrm>
          <a:prstGeom prst="rect">
            <a:avLst/>
          </a:prstGeom>
          <a:solidFill>
            <a:srgbClr val="0000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tc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13320" y="3795840"/>
            <a:ext cx="2374560" cy="788760"/>
          </a:xfrm>
          <a:custGeom>
            <a:avLst/>
            <a:gdLst/>
            <a:ahLst/>
            <a:rect l="l" t="t" r="r" b="b"/>
            <a:pathLst>
              <a:path w="1496" h="497">
                <a:moveTo>
                  <a:pt x="0" y="249"/>
                </a:moveTo>
                <a:lnTo>
                  <a:pt x="4" y="221"/>
                </a:lnTo>
                <a:lnTo>
                  <a:pt x="16" y="196"/>
                </a:lnTo>
                <a:lnTo>
                  <a:pt x="35" y="171"/>
                </a:lnTo>
                <a:lnTo>
                  <a:pt x="63" y="147"/>
                </a:lnTo>
                <a:lnTo>
                  <a:pt x="99" y="124"/>
                </a:lnTo>
                <a:lnTo>
                  <a:pt x="141" y="101"/>
                </a:lnTo>
                <a:lnTo>
                  <a:pt x="192" y="82"/>
                </a:lnTo>
                <a:lnTo>
                  <a:pt x="247" y="63"/>
                </a:lnTo>
                <a:lnTo>
                  <a:pt x="308" y="46"/>
                </a:lnTo>
                <a:lnTo>
                  <a:pt x="374" y="31"/>
                </a:lnTo>
                <a:lnTo>
                  <a:pt x="444" y="21"/>
                </a:lnTo>
                <a:lnTo>
                  <a:pt x="518" y="10"/>
                </a:lnTo>
                <a:lnTo>
                  <a:pt x="592" y="4"/>
                </a:lnTo>
                <a:lnTo>
                  <a:pt x="670" y="0"/>
                </a:lnTo>
                <a:lnTo>
                  <a:pt x="748" y="0"/>
                </a:lnTo>
                <a:lnTo>
                  <a:pt x="826" y="0"/>
                </a:lnTo>
                <a:lnTo>
                  <a:pt x="904" y="4"/>
                </a:lnTo>
                <a:lnTo>
                  <a:pt x="981" y="10"/>
                </a:lnTo>
                <a:lnTo>
                  <a:pt x="1052" y="21"/>
                </a:lnTo>
                <a:lnTo>
                  <a:pt x="1122" y="31"/>
                </a:lnTo>
                <a:lnTo>
                  <a:pt x="1188" y="46"/>
                </a:lnTo>
                <a:lnTo>
                  <a:pt x="1249" y="63"/>
                </a:lnTo>
                <a:lnTo>
                  <a:pt x="1304" y="82"/>
                </a:lnTo>
                <a:lnTo>
                  <a:pt x="1355" y="101"/>
                </a:lnTo>
                <a:lnTo>
                  <a:pt x="1397" y="124"/>
                </a:lnTo>
                <a:lnTo>
                  <a:pt x="1433" y="147"/>
                </a:lnTo>
                <a:lnTo>
                  <a:pt x="1461" y="171"/>
                </a:lnTo>
                <a:lnTo>
                  <a:pt x="1482" y="196"/>
                </a:lnTo>
                <a:lnTo>
                  <a:pt x="1494" y="221"/>
                </a:lnTo>
                <a:lnTo>
                  <a:pt x="1496" y="249"/>
                </a:lnTo>
                <a:lnTo>
                  <a:pt x="1494" y="274"/>
                </a:lnTo>
                <a:lnTo>
                  <a:pt x="1482" y="299"/>
                </a:lnTo>
                <a:lnTo>
                  <a:pt x="1461" y="325"/>
                </a:lnTo>
                <a:lnTo>
                  <a:pt x="1433" y="350"/>
                </a:lnTo>
                <a:lnTo>
                  <a:pt x="1397" y="373"/>
                </a:lnTo>
                <a:lnTo>
                  <a:pt x="1355" y="394"/>
                </a:lnTo>
                <a:lnTo>
                  <a:pt x="1304" y="415"/>
                </a:lnTo>
                <a:lnTo>
                  <a:pt x="1249" y="434"/>
                </a:lnTo>
                <a:lnTo>
                  <a:pt x="1188" y="449"/>
                </a:lnTo>
                <a:lnTo>
                  <a:pt x="1122" y="464"/>
                </a:lnTo>
                <a:lnTo>
                  <a:pt x="1052" y="476"/>
                </a:lnTo>
                <a:lnTo>
                  <a:pt x="981" y="485"/>
                </a:lnTo>
                <a:lnTo>
                  <a:pt x="904" y="491"/>
                </a:lnTo>
                <a:lnTo>
                  <a:pt x="826" y="495"/>
                </a:lnTo>
                <a:lnTo>
                  <a:pt x="748" y="497"/>
                </a:lnTo>
                <a:lnTo>
                  <a:pt x="670" y="495"/>
                </a:lnTo>
                <a:lnTo>
                  <a:pt x="592" y="491"/>
                </a:lnTo>
                <a:lnTo>
                  <a:pt x="518" y="485"/>
                </a:lnTo>
                <a:lnTo>
                  <a:pt x="444" y="476"/>
                </a:lnTo>
                <a:lnTo>
                  <a:pt x="374" y="464"/>
                </a:lnTo>
                <a:lnTo>
                  <a:pt x="308" y="449"/>
                </a:lnTo>
                <a:lnTo>
                  <a:pt x="247" y="434"/>
                </a:lnTo>
                <a:lnTo>
                  <a:pt x="192" y="415"/>
                </a:lnTo>
                <a:lnTo>
                  <a:pt x="141" y="394"/>
                </a:lnTo>
                <a:lnTo>
                  <a:pt x="99" y="373"/>
                </a:lnTo>
                <a:lnTo>
                  <a:pt x="63" y="350"/>
                </a:lnTo>
                <a:lnTo>
                  <a:pt x="35" y="325"/>
                </a:lnTo>
                <a:lnTo>
                  <a:pt x="16" y="299"/>
                </a:lnTo>
                <a:lnTo>
                  <a:pt x="4" y="274"/>
                </a:lnTo>
                <a:lnTo>
                  <a:pt x="0" y="249"/>
                </a:lnTo>
                <a:close/>
              </a:path>
            </a:pathLst>
          </a:custGeom>
          <a:solidFill>
            <a:srgbClr val="ff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13320" y="5375160"/>
            <a:ext cx="2374560" cy="790560"/>
          </a:xfrm>
          <a:custGeom>
            <a:avLst/>
            <a:gdLst/>
            <a:ahLst/>
            <a:rect l="l" t="t" r="r" b="b"/>
            <a:pathLst>
              <a:path w="1496" h="498">
                <a:moveTo>
                  <a:pt x="0" y="249"/>
                </a:moveTo>
                <a:lnTo>
                  <a:pt x="4" y="224"/>
                </a:lnTo>
                <a:lnTo>
                  <a:pt x="16" y="198"/>
                </a:lnTo>
                <a:lnTo>
                  <a:pt x="35" y="173"/>
                </a:lnTo>
                <a:lnTo>
                  <a:pt x="63" y="148"/>
                </a:lnTo>
                <a:lnTo>
                  <a:pt x="99" y="124"/>
                </a:lnTo>
                <a:lnTo>
                  <a:pt x="141" y="103"/>
                </a:lnTo>
                <a:lnTo>
                  <a:pt x="192" y="82"/>
                </a:lnTo>
                <a:lnTo>
                  <a:pt x="247" y="63"/>
                </a:lnTo>
                <a:lnTo>
                  <a:pt x="308" y="49"/>
                </a:lnTo>
                <a:lnTo>
                  <a:pt x="374" y="34"/>
                </a:lnTo>
                <a:lnTo>
                  <a:pt x="444" y="21"/>
                </a:lnTo>
                <a:lnTo>
                  <a:pt x="518" y="13"/>
                </a:lnTo>
                <a:lnTo>
                  <a:pt x="592" y="6"/>
                </a:lnTo>
                <a:lnTo>
                  <a:pt x="670" y="2"/>
                </a:lnTo>
                <a:lnTo>
                  <a:pt x="748" y="0"/>
                </a:lnTo>
                <a:lnTo>
                  <a:pt x="826" y="2"/>
                </a:lnTo>
                <a:lnTo>
                  <a:pt x="904" y="6"/>
                </a:lnTo>
                <a:lnTo>
                  <a:pt x="981" y="13"/>
                </a:lnTo>
                <a:lnTo>
                  <a:pt x="1052" y="21"/>
                </a:lnTo>
                <a:lnTo>
                  <a:pt x="1122" y="34"/>
                </a:lnTo>
                <a:lnTo>
                  <a:pt x="1188" y="49"/>
                </a:lnTo>
                <a:lnTo>
                  <a:pt x="1249" y="63"/>
                </a:lnTo>
                <a:lnTo>
                  <a:pt x="1304" y="82"/>
                </a:lnTo>
                <a:lnTo>
                  <a:pt x="1355" y="103"/>
                </a:lnTo>
                <a:lnTo>
                  <a:pt x="1397" y="124"/>
                </a:lnTo>
                <a:lnTo>
                  <a:pt x="1433" y="148"/>
                </a:lnTo>
                <a:lnTo>
                  <a:pt x="1461" y="173"/>
                </a:lnTo>
                <a:lnTo>
                  <a:pt x="1482" y="198"/>
                </a:lnTo>
                <a:lnTo>
                  <a:pt x="1494" y="224"/>
                </a:lnTo>
                <a:lnTo>
                  <a:pt x="1496" y="249"/>
                </a:lnTo>
                <a:lnTo>
                  <a:pt x="1494" y="276"/>
                </a:lnTo>
                <a:lnTo>
                  <a:pt x="1482" y="302"/>
                </a:lnTo>
                <a:lnTo>
                  <a:pt x="1461" y="327"/>
                </a:lnTo>
                <a:lnTo>
                  <a:pt x="1433" y="350"/>
                </a:lnTo>
                <a:lnTo>
                  <a:pt x="1397" y="373"/>
                </a:lnTo>
                <a:lnTo>
                  <a:pt x="1355" y="396"/>
                </a:lnTo>
                <a:lnTo>
                  <a:pt x="1304" y="415"/>
                </a:lnTo>
                <a:lnTo>
                  <a:pt x="1249" y="434"/>
                </a:lnTo>
                <a:lnTo>
                  <a:pt x="1188" y="451"/>
                </a:lnTo>
                <a:lnTo>
                  <a:pt x="1122" y="464"/>
                </a:lnTo>
                <a:lnTo>
                  <a:pt x="1052" y="477"/>
                </a:lnTo>
                <a:lnTo>
                  <a:pt x="981" y="487"/>
                </a:lnTo>
                <a:lnTo>
                  <a:pt x="904" y="493"/>
                </a:lnTo>
                <a:lnTo>
                  <a:pt x="826" y="498"/>
                </a:lnTo>
                <a:lnTo>
                  <a:pt x="748" y="498"/>
                </a:lnTo>
                <a:lnTo>
                  <a:pt x="670" y="498"/>
                </a:lnTo>
                <a:lnTo>
                  <a:pt x="592" y="493"/>
                </a:lnTo>
                <a:lnTo>
                  <a:pt x="518" y="487"/>
                </a:lnTo>
                <a:lnTo>
                  <a:pt x="444" y="477"/>
                </a:lnTo>
                <a:lnTo>
                  <a:pt x="374" y="464"/>
                </a:lnTo>
                <a:lnTo>
                  <a:pt x="308" y="451"/>
                </a:lnTo>
                <a:lnTo>
                  <a:pt x="247" y="434"/>
                </a:lnTo>
                <a:lnTo>
                  <a:pt x="192" y="415"/>
                </a:lnTo>
                <a:lnTo>
                  <a:pt x="141" y="396"/>
                </a:lnTo>
                <a:lnTo>
                  <a:pt x="99" y="373"/>
                </a:lnTo>
                <a:lnTo>
                  <a:pt x="63" y="350"/>
                </a:lnTo>
                <a:lnTo>
                  <a:pt x="35" y="327"/>
                </a:lnTo>
                <a:lnTo>
                  <a:pt x="16" y="302"/>
                </a:lnTo>
                <a:lnTo>
                  <a:pt x="4" y="276"/>
                </a:lnTo>
                <a:lnTo>
                  <a:pt x="0" y="249"/>
                </a:lnTo>
                <a:close/>
              </a:path>
            </a:pathLst>
          </a:custGeom>
          <a:solidFill>
            <a:srgbClr val="ff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24760" y="4060800"/>
            <a:ext cx="75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88200" y="3400560"/>
            <a:ext cx="792000" cy="1579320"/>
          </a:xfrm>
          <a:prstGeom prst="rect">
            <a:avLst/>
          </a:prstGeom>
          <a:solidFill>
            <a:srgbClr val="0000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tch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16240" y="4191120"/>
            <a:ext cx="29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884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87880" y="4191120"/>
            <a:ext cx="300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7372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22640" y="3002040"/>
            <a:ext cx="49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7280" y="3002040"/>
            <a:ext cx="144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70280" y="2975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9" y="0"/>
                </a:moveTo>
                <a:lnTo>
                  <a:pt x="26" y="2"/>
                </a:lnTo>
                <a:lnTo>
                  <a:pt x="32" y="4"/>
                </a:lnTo>
                <a:lnTo>
                  <a:pt x="34" y="11"/>
                </a:lnTo>
                <a:lnTo>
                  <a:pt x="36" y="19"/>
                </a:lnTo>
                <a:lnTo>
                  <a:pt x="34" y="26"/>
                </a:lnTo>
                <a:lnTo>
                  <a:pt x="32" y="32"/>
                </a:lnTo>
                <a:lnTo>
                  <a:pt x="26" y="34"/>
                </a:lnTo>
                <a:lnTo>
                  <a:pt x="19" y="36"/>
                </a:lnTo>
                <a:lnTo>
                  <a:pt x="11" y="34"/>
                </a:lnTo>
                <a:lnTo>
                  <a:pt x="5" y="32"/>
                </a:lnTo>
                <a:lnTo>
                  <a:pt x="2" y="26"/>
                </a:lnTo>
                <a:lnTo>
                  <a:pt x="0" y="19"/>
                </a:lnTo>
                <a:lnTo>
                  <a:pt x="2" y="11"/>
                </a:lnTo>
                <a:lnTo>
                  <a:pt x="5" y="4"/>
                </a:lnTo>
                <a:lnTo>
                  <a:pt x="11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00520" y="296856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23"/>
                </a:moveTo>
                <a:lnTo>
                  <a:pt x="21" y="23"/>
                </a:lnTo>
                <a:lnTo>
                  <a:pt x="21" y="13"/>
                </a:lnTo>
                <a:lnTo>
                  <a:pt x="15" y="6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7" y="11"/>
                </a:lnTo>
                <a:lnTo>
                  <a:pt x="9" y="13"/>
                </a:lnTo>
                <a:lnTo>
                  <a:pt x="11" y="15"/>
                </a:lnTo>
                <a:lnTo>
                  <a:pt x="13" y="23"/>
                </a:lnTo>
                <a:lnTo>
                  <a:pt x="13" y="23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00520" y="3005280"/>
            <a:ext cx="3312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1"/>
                </a:moveTo>
                <a:lnTo>
                  <a:pt x="0" y="21"/>
                </a:ln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1" y="0"/>
                </a:lnTo>
                <a:lnTo>
                  <a:pt x="13" y="0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0" y="13"/>
                </a:lnTo>
                <a:lnTo>
                  <a:pt x="0" y="1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3800" y="3005280"/>
            <a:ext cx="36720" cy="33120"/>
          </a:xfrm>
          <a:custGeom>
            <a:avLst/>
            <a:gdLst/>
            <a:ahLst/>
            <a:rect l="l" t="t" r="r" b="b"/>
            <a:pathLst>
              <a:path w="23" h="21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6" y="15"/>
                </a:lnTo>
                <a:lnTo>
                  <a:pt x="13" y="21"/>
                </a:lnTo>
                <a:lnTo>
                  <a:pt x="23" y="21"/>
                </a:lnTo>
                <a:lnTo>
                  <a:pt x="23" y="13"/>
                </a:lnTo>
                <a:lnTo>
                  <a:pt x="15" y="11"/>
                </a:lnTo>
                <a:lnTo>
                  <a:pt x="13" y="9"/>
                </a:lnTo>
                <a:lnTo>
                  <a:pt x="11" y="7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63800" y="29685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23" y="0"/>
                </a:lnTo>
                <a:lnTo>
                  <a:pt x="13" y="0"/>
                </a:lnTo>
                <a:lnTo>
                  <a:pt x="6" y="6"/>
                </a:lnTo>
                <a:lnTo>
                  <a:pt x="0" y="13"/>
                </a:lnTo>
                <a:lnTo>
                  <a:pt x="0" y="23"/>
                </a:lnTo>
                <a:lnTo>
                  <a:pt x="9" y="23"/>
                </a:lnTo>
                <a:lnTo>
                  <a:pt x="11" y="15"/>
                </a:lnTo>
                <a:lnTo>
                  <a:pt x="13" y="13"/>
                </a:lnTo>
                <a:lnTo>
                  <a:pt x="15" y="11"/>
                </a:lnTo>
                <a:lnTo>
                  <a:pt x="23" y="8"/>
                </a:lnTo>
                <a:lnTo>
                  <a:pt x="23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54680" y="2975040"/>
            <a:ext cx="55800" cy="57240"/>
          </a:xfrm>
          <a:custGeom>
            <a:avLst/>
            <a:gdLst/>
            <a:ahLst/>
            <a:rect l="l" t="t" r="r" b="b"/>
            <a:pathLst>
              <a:path w="35" h="36">
                <a:moveTo>
                  <a:pt x="19" y="0"/>
                </a:moveTo>
                <a:lnTo>
                  <a:pt x="25" y="2"/>
                </a:lnTo>
                <a:lnTo>
                  <a:pt x="31" y="4"/>
                </a:lnTo>
                <a:lnTo>
                  <a:pt x="33" y="11"/>
                </a:lnTo>
                <a:lnTo>
                  <a:pt x="35" y="19"/>
                </a:lnTo>
                <a:lnTo>
                  <a:pt x="33" y="26"/>
                </a:lnTo>
                <a:lnTo>
                  <a:pt x="31" y="32"/>
                </a:lnTo>
                <a:lnTo>
                  <a:pt x="25" y="34"/>
                </a:lnTo>
                <a:lnTo>
                  <a:pt x="19" y="36"/>
                </a:lnTo>
                <a:lnTo>
                  <a:pt x="10" y="34"/>
                </a:lnTo>
                <a:lnTo>
                  <a:pt x="4" y="32"/>
                </a:lnTo>
                <a:lnTo>
                  <a:pt x="2" y="26"/>
                </a:lnTo>
                <a:lnTo>
                  <a:pt x="0" y="19"/>
                </a:lnTo>
                <a:lnTo>
                  <a:pt x="2" y="11"/>
                </a:lnTo>
                <a:lnTo>
                  <a:pt x="4" y="4"/>
                </a:lnTo>
                <a:lnTo>
                  <a:pt x="10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4920" y="296856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23"/>
                </a:moveTo>
                <a:lnTo>
                  <a:pt x="21" y="23"/>
                </a:lnTo>
                <a:lnTo>
                  <a:pt x="21" y="13"/>
                </a:lnTo>
                <a:lnTo>
                  <a:pt x="14" y="6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6" y="11"/>
                </a:lnTo>
                <a:lnTo>
                  <a:pt x="8" y="13"/>
                </a:lnTo>
                <a:lnTo>
                  <a:pt x="10" y="15"/>
                </a:lnTo>
                <a:lnTo>
                  <a:pt x="12" y="23"/>
                </a:lnTo>
                <a:lnTo>
                  <a:pt x="12" y="23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4920" y="30052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1"/>
                </a:moveTo>
                <a:lnTo>
                  <a:pt x="0" y="21"/>
                </a:lnTo>
                <a:lnTo>
                  <a:pt x="8" y="21"/>
                </a:lnTo>
                <a:lnTo>
                  <a:pt x="14" y="15"/>
                </a:lnTo>
                <a:lnTo>
                  <a:pt x="21" y="9"/>
                </a:lnTo>
                <a:lnTo>
                  <a:pt x="21" y="0"/>
                </a:lnTo>
                <a:lnTo>
                  <a:pt x="12" y="0"/>
                </a:lnTo>
                <a:lnTo>
                  <a:pt x="10" y="7"/>
                </a:lnTo>
                <a:lnTo>
                  <a:pt x="8" y="9"/>
                </a:lnTo>
                <a:lnTo>
                  <a:pt x="6" y="11"/>
                </a:lnTo>
                <a:lnTo>
                  <a:pt x="0" y="13"/>
                </a:lnTo>
                <a:lnTo>
                  <a:pt x="0" y="1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760" y="30052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7" y="15"/>
                </a:lnTo>
                <a:lnTo>
                  <a:pt x="13" y="21"/>
                </a:lnTo>
                <a:lnTo>
                  <a:pt x="24" y="21"/>
                </a:lnTo>
                <a:lnTo>
                  <a:pt x="24" y="13"/>
                </a:lnTo>
                <a:lnTo>
                  <a:pt x="15" y="11"/>
                </a:lnTo>
                <a:lnTo>
                  <a:pt x="13" y="9"/>
                </a:lnTo>
                <a:lnTo>
                  <a:pt x="11" y="7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46760" y="296856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24" y="0"/>
                </a:moveTo>
                <a:lnTo>
                  <a:pt x="24" y="0"/>
                </a:lnTo>
                <a:lnTo>
                  <a:pt x="13" y="0"/>
                </a:lnTo>
                <a:lnTo>
                  <a:pt x="7" y="6"/>
                </a:lnTo>
                <a:lnTo>
                  <a:pt x="0" y="13"/>
                </a:lnTo>
                <a:lnTo>
                  <a:pt x="0" y="23"/>
                </a:lnTo>
                <a:lnTo>
                  <a:pt x="9" y="23"/>
                </a:lnTo>
                <a:lnTo>
                  <a:pt x="11" y="15"/>
                </a:lnTo>
                <a:lnTo>
                  <a:pt x="13" y="13"/>
                </a:lnTo>
                <a:lnTo>
                  <a:pt x="15" y="11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23920" y="4191120"/>
            <a:ext cx="1589400" cy="1579320"/>
          </a:xfrm>
          <a:custGeom>
            <a:avLst/>
            <a:gdLst/>
            <a:ahLst/>
            <a:rect l="l" t="t" r="r" b="b"/>
            <a:pathLst>
              <a:path w="1001" h="995">
                <a:moveTo>
                  <a:pt x="1001" y="995"/>
                </a:moveTo>
                <a:lnTo>
                  <a:pt x="0" y="995"/>
                </a:lnTo>
                <a:lnTo>
                  <a:pt x="0" y="0"/>
                </a:lnTo>
                <a:lnTo>
                  <a:pt x="18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89760" y="4191120"/>
            <a:ext cx="1487520" cy="1579320"/>
          </a:xfrm>
          <a:custGeom>
            <a:avLst/>
            <a:gdLst/>
            <a:ahLst/>
            <a:rect l="l" t="t" r="r" b="b"/>
            <a:pathLst>
              <a:path w="937" h="995">
                <a:moveTo>
                  <a:pt x="687" y="0"/>
                </a:moveTo>
                <a:lnTo>
                  <a:pt x="937" y="0"/>
                </a:lnTo>
                <a:lnTo>
                  <a:pt x="937" y="995"/>
                </a:lnTo>
                <a:lnTo>
                  <a:pt x="0" y="99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7880" y="571356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72"/>
                </a:moveTo>
                <a:lnTo>
                  <a:pt x="0" y="36"/>
                </a:lnTo>
                <a:lnTo>
                  <a:pt x="72" y="0"/>
                </a:lnTo>
                <a:lnTo>
                  <a:pt x="7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29000" y="2617920"/>
            <a:ext cx="18396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47720" y="2610000"/>
            <a:ext cx="18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24760" y="5618160"/>
            <a:ext cx="75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tches Basados en Multiplex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4080" y="17002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tch nega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ransparente cuando CLK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2560" y="17002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tch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ransparente cuando CLK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91040" y="521640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6240" y="2930400"/>
            <a:ext cx="1735200" cy="1032120"/>
          </a:xfrm>
          <a:custGeom>
            <a:avLst/>
            <a:gdLst/>
            <a:ahLst/>
            <a:rect l="l" t="t" r="r" b="b"/>
            <a:pathLst>
              <a:path w="1093" h="650">
                <a:moveTo>
                  <a:pt x="1093" y="650"/>
                </a:moveTo>
                <a:lnTo>
                  <a:pt x="1093" y="0"/>
                </a:lnTo>
                <a:lnTo>
                  <a:pt x="0" y="0"/>
                </a:lnTo>
                <a:lnTo>
                  <a:pt x="0" y="527"/>
                </a:lnTo>
                <a:lnTo>
                  <a:pt x="335" y="527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38360" y="3703680"/>
            <a:ext cx="210960" cy="13320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95360" y="3962520"/>
            <a:ext cx="12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052280" y="4478400"/>
            <a:ext cx="62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38360" y="4414680"/>
            <a:ext cx="210960" cy="12564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49320" y="3259080"/>
            <a:ext cx="446040" cy="1577880"/>
          </a:xfrm>
          <a:custGeom>
            <a:avLst/>
            <a:gdLst/>
            <a:ahLst/>
            <a:rect l="l" t="t" r="r" b="b"/>
            <a:pathLst>
              <a:path w="281" h="994">
                <a:moveTo>
                  <a:pt x="0" y="994"/>
                </a:moveTo>
                <a:lnTo>
                  <a:pt x="281" y="782"/>
                </a:lnTo>
                <a:lnTo>
                  <a:pt x="281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49320" y="3259080"/>
            <a:ext cx="446040" cy="1577880"/>
          </a:xfrm>
          <a:custGeom>
            <a:avLst/>
            <a:gdLst/>
            <a:ahLst/>
            <a:rect l="l" t="t" r="r" b="b"/>
            <a:pathLst>
              <a:path w="281" h="994">
                <a:moveTo>
                  <a:pt x="0" y="994"/>
                </a:moveTo>
                <a:lnTo>
                  <a:pt x="281" y="782"/>
                </a:lnTo>
                <a:lnTo>
                  <a:pt x="281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68560" y="4836960"/>
            <a:ext cx="144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06640" y="4673520"/>
            <a:ext cx="133200" cy="203400"/>
          </a:xfrm>
          <a:custGeom>
            <a:avLst/>
            <a:gdLst/>
            <a:ahLst/>
            <a:rect l="l" t="t" r="r" b="b"/>
            <a:pathLst>
              <a:path w="17" h="26">
                <a:moveTo>
                  <a:pt x="8" y="22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7" y="26"/>
                  <a:pt x="17" y="26"/>
                  <a:pt x="17" y="26"/>
                </a:cubicBezTo>
                <a:cubicBezTo>
                  <a:pt x="16" y="26"/>
                  <a:pt x="16" y="26"/>
                  <a:pt x="16" y="26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43640" y="36291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43640" y="4336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9240" y="4336920"/>
            <a:ext cx="1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5640" y="357516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91320" y="2854440"/>
            <a:ext cx="1734840" cy="1031760"/>
          </a:xfrm>
          <a:custGeom>
            <a:avLst/>
            <a:gdLst/>
            <a:ahLst/>
            <a:rect l="l" t="t" r="r" b="b"/>
            <a:pathLst>
              <a:path w="1093" h="650">
                <a:moveTo>
                  <a:pt x="1093" y="650"/>
                </a:moveTo>
                <a:lnTo>
                  <a:pt x="1093" y="0"/>
                </a:lnTo>
                <a:lnTo>
                  <a:pt x="0" y="0"/>
                </a:lnTo>
                <a:lnTo>
                  <a:pt x="0" y="527"/>
                </a:lnTo>
                <a:lnTo>
                  <a:pt x="335" y="527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84880" y="3627360"/>
            <a:ext cx="209520" cy="13356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40440" y="3886200"/>
            <a:ext cx="12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697360" y="4402080"/>
            <a:ext cx="625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84880" y="4338720"/>
            <a:ext cx="209520" cy="12528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94400" y="3182760"/>
            <a:ext cx="453960" cy="1578240"/>
          </a:xfrm>
          <a:custGeom>
            <a:avLst/>
            <a:gdLst/>
            <a:ahLst/>
            <a:rect l="l" t="t" r="r" b="b"/>
            <a:pathLst>
              <a:path w="286" h="994">
                <a:moveTo>
                  <a:pt x="0" y="994"/>
                </a:moveTo>
                <a:lnTo>
                  <a:pt x="286" y="782"/>
                </a:lnTo>
                <a:lnTo>
                  <a:pt x="286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94400" y="3182760"/>
            <a:ext cx="453960" cy="1578240"/>
          </a:xfrm>
          <a:custGeom>
            <a:avLst/>
            <a:gdLst/>
            <a:ahLst/>
            <a:rect l="l" t="t" r="r" b="b"/>
            <a:pathLst>
              <a:path w="286" h="994">
                <a:moveTo>
                  <a:pt x="0" y="994"/>
                </a:moveTo>
                <a:lnTo>
                  <a:pt x="286" y="782"/>
                </a:lnTo>
                <a:lnTo>
                  <a:pt x="286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21560" y="4761000"/>
            <a:ext cx="144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4597560"/>
            <a:ext cx="125280" cy="203040"/>
          </a:xfrm>
          <a:custGeom>
            <a:avLst/>
            <a:gdLst/>
            <a:ahLst/>
            <a:rect l="l" t="t" r="r" b="b"/>
            <a:pathLst>
              <a:path w="16" h="26">
                <a:moveTo>
                  <a:pt x="8" y="22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6" y="26"/>
                  <a:pt x="16" y="26"/>
                  <a:pt x="16" y="26"/>
                </a:cubicBezTo>
                <a:cubicBezTo>
                  <a:pt x="16" y="26"/>
                  <a:pt x="16" y="26"/>
                  <a:pt x="16" y="26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90160" y="35528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39000" y="514044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90160" y="42609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07560" y="4260960"/>
            <a:ext cx="1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23960" y="349884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7520" y="5697360"/>
                <a:ext cx="2514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lk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l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180040" y="5673600"/>
                <a:ext cx="2514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k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lk</m:t>
                        </m:r>
                      </m:e>
                    </m:ba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gistro Maestro – Escla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7891560" cy="2676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34160" y="5084640"/>
            <a:ext cx="49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latches opuestos gatillan en el c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lamado par de latches maestro – escla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Flop SR Basado en N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15800" y="2527200"/>
            <a:ext cx="8245440" cy="2264400"/>
            <a:chOff x="415800" y="2527200"/>
            <a:chExt cx="8245440" cy="2264400"/>
          </a:xfrm>
        </p:grpSpPr>
        <p:sp>
          <p:nvSpPr>
            <p:cNvPr id="349" name=""/>
            <p:cNvSpPr/>
            <p:nvPr/>
          </p:nvSpPr>
          <p:spPr>
            <a:xfrm>
              <a:off x="654120" y="2527200"/>
              <a:ext cx="1412640" cy="1990800"/>
            </a:xfrm>
            <a:custGeom>
              <a:avLst/>
              <a:gdLst/>
              <a:ahLst/>
              <a:rect l="l" t="t" r="r" b="b"/>
              <a:pathLst>
                <a:path w="227" h="320">
                  <a:moveTo>
                    <a:pt x="227" y="284"/>
                  </a:moveTo>
                  <a:cubicBezTo>
                    <a:pt x="227" y="304"/>
                    <a:pt x="210" y="320"/>
                    <a:pt x="191" y="320"/>
                  </a:cubicBezTo>
                  <a:cubicBezTo>
                    <a:pt x="36" y="320"/>
                    <a:pt x="36" y="320"/>
                    <a:pt x="36" y="320"/>
                  </a:cubicBezTo>
                  <a:cubicBezTo>
                    <a:pt x="16" y="320"/>
                    <a:pt x="0" y="304"/>
                    <a:pt x="0" y="28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210" y="0"/>
                    <a:pt x="227" y="16"/>
                    <a:pt x="227" y="36"/>
                  </a:cubicBezTo>
                  <a:lnTo>
                    <a:pt x="227" y="28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3880" y="4486320"/>
              <a:ext cx="191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stado prohib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24040" y="2919240"/>
              <a:ext cx="87120" cy="87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84320" y="2676600"/>
              <a:ext cx="633240" cy="57132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0" y="6"/>
                  </a:moveTo>
                  <a:cubicBezTo>
                    <a:pt x="12" y="5"/>
                    <a:pt x="78" y="0"/>
                    <a:pt x="102" y="46"/>
                  </a:cubicBezTo>
                  <a:cubicBezTo>
                    <a:pt x="78" y="92"/>
                    <a:pt x="12" y="87"/>
                    <a:pt x="0" y="87"/>
                  </a:cubicBezTo>
                  <a:cubicBezTo>
                    <a:pt x="4" y="79"/>
                    <a:pt x="7" y="64"/>
                    <a:pt x="7" y="46"/>
                  </a:cubicBezTo>
                  <a:cubicBezTo>
                    <a:pt x="7" y="29"/>
                    <a:pt x="4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85720" y="2832120"/>
              <a:ext cx="534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2000" y="3092400"/>
              <a:ext cx="322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810800" y="2962440"/>
              <a:ext cx="49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47960" y="292572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840" y="2720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49720" y="3224160"/>
              <a:ext cx="5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99160" y="31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49720" y="3691080"/>
              <a:ext cx="53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735440" y="3224160"/>
              <a:ext cx="5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735440" y="3691080"/>
              <a:ext cx="53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7720" y="3576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65880" y="3112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05160" y="2852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78160" y="2862360"/>
              <a:ext cx="136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65880" y="3576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37080" y="3584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76000" y="259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40160" y="2597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0840" y="2597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2720" y="259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12120" y="2602080"/>
              <a:ext cx="14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76000" y="3075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41240" y="3075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50840" y="3075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42720" y="3075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12120" y="308124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636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4124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5084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4308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636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4124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5084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4308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7636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4124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5084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4308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4040" y="3963960"/>
              <a:ext cx="87120" cy="87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84320" y="3720960"/>
              <a:ext cx="633240" cy="57312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0" y="6"/>
                  </a:moveTo>
                  <a:cubicBezTo>
                    <a:pt x="12" y="5"/>
                    <a:pt x="78" y="0"/>
                    <a:pt x="102" y="46"/>
                  </a:cubicBezTo>
                  <a:cubicBezTo>
                    <a:pt x="78" y="92"/>
                    <a:pt x="12" y="87"/>
                    <a:pt x="0" y="87"/>
                  </a:cubicBezTo>
                  <a:cubicBezTo>
                    <a:pt x="4" y="79"/>
                    <a:pt x="7" y="64"/>
                    <a:pt x="7" y="46"/>
                  </a:cubicBezTo>
                  <a:cubicBezTo>
                    <a:pt x="7" y="29"/>
                    <a:pt x="4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91640" y="3882960"/>
              <a:ext cx="32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5360" y="4138560"/>
              <a:ext cx="528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810800" y="4008600"/>
              <a:ext cx="49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47960" y="397044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5800" y="4027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5160" y="3898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000" y="3000240"/>
              <a:ext cx="1194120" cy="882720"/>
            </a:xfrm>
            <a:custGeom>
              <a:avLst/>
              <a:gdLst/>
              <a:ahLst/>
              <a:rect l="l" t="t" r="r" b="b"/>
              <a:pathLst>
                <a:path w="752" h="556">
                  <a:moveTo>
                    <a:pt x="752" y="0"/>
                  </a:moveTo>
                  <a:lnTo>
                    <a:pt x="752" y="196"/>
                  </a:lnTo>
                  <a:lnTo>
                    <a:pt x="0" y="364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2000" y="3092400"/>
              <a:ext cx="1194120" cy="878040"/>
            </a:xfrm>
            <a:custGeom>
              <a:avLst/>
              <a:gdLst/>
              <a:ahLst/>
              <a:rect l="l" t="t" r="r" b="b"/>
              <a:pathLst>
                <a:path w="752" h="553">
                  <a:moveTo>
                    <a:pt x="0" y="0"/>
                  </a:moveTo>
                  <a:lnTo>
                    <a:pt x="0" y="192"/>
                  </a:lnTo>
                  <a:lnTo>
                    <a:pt x="752" y="361"/>
                  </a:lnTo>
                  <a:lnTo>
                    <a:pt x="752" y="5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4680" y="2975040"/>
              <a:ext cx="950760" cy="96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46800" y="4002120"/>
              <a:ext cx="2314440" cy="29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46800" y="2932200"/>
              <a:ext cx="2314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504200" y="2595600"/>
              <a:ext cx="1440" cy="17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587920" y="4238280"/>
              <a:ext cx="64152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1280" y="4206960"/>
              <a:ext cx="125280" cy="745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5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3" y="1"/>
                    <a:pt x="17" y="1"/>
                    <a:pt x="20" y="0"/>
                  </a:cubicBezTo>
                  <a:cubicBezTo>
                    <a:pt x="17" y="2"/>
                    <a:pt x="14" y="4"/>
                    <a:pt x="11" y="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Flop SR Basado en N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990720" y="2689200"/>
            <a:ext cx="2300040" cy="1700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733920" y="2003400"/>
            <a:ext cx="4495680" cy="3710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77640" y="1611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rel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29T15:02:25Z</dcterms:modified>
  <cp:revision>234</cp:revision>
  <dc:subject/>
  <dc:title>EL 6XX</dc:title>
</cp:coreProperties>
</file>