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A07B-7164-4E3E-AFFE-BDE62E40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27619-5756-4560-8B33-EE19386A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D0B4-BBC4-438F-870D-3FA0B0F7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5E4BE-FB31-4B7D-A9FC-D421D4F6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B1F4-3D44-438F-869C-A919FE58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537D-DE20-4E53-874B-71241D27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EEEB-598B-4DF0-B465-DC33935A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AA5B-5E5B-402F-A05F-9B15C1F1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5440-E0BF-4662-8224-7CF95BB0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1ED9-DAE2-4DD8-8433-3932165F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65AA-9F56-4B08-8D74-11AC4D7E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C930-5CB8-4BEE-8678-8DE1D218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C2C0-2C6C-43EF-80C2-A1DB1BD6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522B-42C8-46DF-9980-3CE83B1C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62F4-2543-448A-B471-9FD422FB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1A36-3C61-4CD1-8CF1-B7069746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6C45-94B2-4CB2-AE09-DFC5760F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C7EEE-32C6-4892-8AE0-71780CDB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1BAF-1BD3-4C17-A5E4-12488320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28249-DAA0-4527-A761-FBC46971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A4D0-B50A-42D1-A4B3-4B07A48F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5765-9822-4DA7-9B51-78A05A07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2D85-F368-41CE-82F1-EEC9F901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A3545-758F-456E-B088-F61B8859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12E8-F637-44B5-9569-89D0A5C7AED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F901-C6CE-4CA2-9843-21E98F229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92B9-6A86-4F91-9836-A8360782C45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56EE-C674-4861-8F76-DFDB12FC6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Lógicos Secuen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ógica Secue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03720" y="3446640"/>
            <a:ext cx="11160" cy="2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26000" y="2637000"/>
            <a:ext cx="23760" cy="1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38400" y="2649600"/>
            <a:ext cx="3187800" cy="128088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OGICA COMBIN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21520" y="2873520"/>
            <a:ext cx="819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98976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55800" y="274788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61240" y="3976560"/>
            <a:ext cx="169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34720" y="532764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55800" y="3825720"/>
            <a:ext cx="143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stad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77920" y="2873520"/>
            <a:ext cx="81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3860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627440" y="5271840"/>
            <a:ext cx="1800" cy="2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0560" y="5127480"/>
            <a:ext cx="115920" cy="195480"/>
          </a:xfrm>
          <a:custGeom>
            <a:avLst/>
            <a:gdLst/>
            <a:ahLst/>
            <a:rect l="l" t="t" r="r" b="b"/>
            <a:pathLst>
              <a:path w="16" h="27">
                <a:moveTo>
                  <a:pt x="8" y="22"/>
                </a:move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5" y="14"/>
                  <a:pt x="5" y="14"/>
                  <a:pt x="5" y="14"/>
                </a:cubicBezTo>
                <a:cubicBezTo>
                  <a:pt x="6" y="9"/>
                  <a:pt x="7" y="5"/>
                  <a:pt x="8" y="0"/>
                </a:cubicBezTo>
                <a:cubicBezTo>
                  <a:pt x="9" y="5"/>
                  <a:pt x="10" y="9"/>
                  <a:pt x="11" y="14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6" y="27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54120" y="3271680"/>
            <a:ext cx="1571760" cy="1370160"/>
          </a:xfrm>
          <a:custGeom>
            <a:avLst/>
            <a:gdLst/>
            <a:ahLst/>
            <a:rect l="l" t="t" r="r" b="b"/>
            <a:pathLst>
              <a:path w="990" h="863">
                <a:moveTo>
                  <a:pt x="278" y="0"/>
                </a:moveTo>
                <a:lnTo>
                  <a:pt x="0" y="0"/>
                </a:lnTo>
                <a:lnTo>
                  <a:pt x="0" y="863"/>
                </a:lnTo>
                <a:lnTo>
                  <a:pt x="990" y="86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38600" y="321480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29360" y="456876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22" y="8"/>
                </a:move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9" y="6"/>
                  <a:pt x="5" y="7"/>
                  <a:pt x="0" y="8"/>
                </a:cubicBezTo>
                <a:cubicBezTo>
                  <a:pt x="5" y="9"/>
                  <a:pt x="9" y="10"/>
                  <a:pt x="14" y="11"/>
                </a:cubicBezTo>
                <a:cubicBezTo>
                  <a:pt x="26" y="16"/>
                  <a:pt x="26" y="16"/>
                  <a:pt x="26" y="16"/>
                </a:cubicBezTo>
                <a:cubicBezTo>
                  <a:pt x="27" y="16"/>
                  <a:pt x="27" y="16"/>
                  <a:pt x="27" y="16"/>
                </a:cubicBez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97280" y="27478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73720" y="3591000"/>
            <a:ext cx="1428840" cy="1036440"/>
          </a:xfrm>
          <a:custGeom>
            <a:avLst/>
            <a:gdLst/>
            <a:ahLst/>
            <a:rect l="l" t="t" r="r" b="b"/>
            <a:pathLst>
              <a:path w="900" h="653">
                <a:moveTo>
                  <a:pt x="534" y="0"/>
                </a:moveTo>
                <a:lnTo>
                  <a:pt x="900" y="0"/>
                </a:lnTo>
                <a:lnTo>
                  <a:pt x="900" y="653"/>
                </a:lnTo>
                <a:lnTo>
                  <a:pt x="0" y="65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25880" y="4097160"/>
            <a:ext cx="1203480" cy="103032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17920" y="4924440"/>
            <a:ext cx="420840" cy="203040"/>
          </a:xfrm>
          <a:custGeom>
            <a:avLst/>
            <a:gdLst/>
            <a:ahLst/>
            <a:rect l="l" t="t" r="r" b="b"/>
            <a:pathLst>
              <a:path w="265" h="128">
                <a:moveTo>
                  <a:pt x="265" y="128"/>
                </a:moveTo>
                <a:lnTo>
                  <a:pt x="132" y="0"/>
                </a:lnTo>
                <a:lnTo>
                  <a:pt x="0" y="128"/>
                </a:ln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6120" y="451152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15880" y="45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38560" y="41576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Myriad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áquina de Moore (máquina de estad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3213000"/>
            <a:ext cx="1152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995640" y="3213000"/>
            <a:ext cx="1152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gistr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95640" y="4076640"/>
            <a:ext cx="21600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3995640" y="4149720"/>
            <a:ext cx="21600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227640" y="3213000"/>
            <a:ext cx="108108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58920" y="3500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6520" y="3089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87640" y="3500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35280" y="414972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3528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14720" y="458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48360" y="371628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76360" y="407664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476360" y="407664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76360" y="5445000"/>
            <a:ext cx="424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724360" y="3716280"/>
            <a:ext cx="0" cy="172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307280" y="378936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99360" y="33051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áquina de Mealy (máquina de estad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835280" y="3213000"/>
            <a:ext cx="115236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3213000"/>
            <a:ext cx="115272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gistr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95640" y="4076640"/>
            <a:ext cx="216000" cy="73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3995640" y="4149720"/>
            <a:ext cx="21600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27640" y="3213000"/>
            <a:ext cx="1081080" cy="1079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00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3080" y="30891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87640" y="3500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35280" y="414972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3528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14720" y="4581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48360" y="386064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407664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476360" y="4076640"/>
            <a:ext cx="0" cy="136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76360" y="5445000"/>
            <a:ext cx="424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24360" y="350028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724360" y="2637000"/>
            <a:ext cx="0" cy="86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1618920" y="2637000"/>
            <a:ext cx="410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19280" y="2637000"/>
            <a:ext cx="0" cy="86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724360" y="3860280"/>
            <a:ext cx="0" cy="15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307280" y="378936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299360" y="33051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ip – Flop Tipo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63640" y="2997360"/>
            <a:ext cx="936720" cy="1223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63640" y="3789360"/>
            <a:ext cx="144360" cy="14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1763640" y="3931920"/>
            <a:ext cx="144360" cy="144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16000" y="3213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16000" y="393372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00360" y="3213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700360" y="393372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1000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9080" y="3716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21080" y="3062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1080" y="3710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92360" y="3716280"/>
            <a:ext cx="216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5219640" y="2692440"/>
          <a:ext cx="1728720" cy="1928880"/>
        </p:xfrm>
        <a:graphic>
          <a:graphicData uri="http://schemas.openxmlformats.org/drawingml/2006/table">
            <a:tbl>
              <a:tblPr/>
              <a:tblGrid>
                <a:gridCol w="384120"/>
                <a:gridCol w="432000"/>
                <a:gridCol w="480960"/>
                <a:gridCol w="43164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1" lang="es-ES_tradnl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"/>
          <p:cNvSpPr/>
          <p:nvPr/>
        </p:nvSpPr>
        <p:spPr>
          <a:xfrm>
            <a:off x="658800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66108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661080" y="4292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dor 3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2050920" y="1776240"/>
          <a:ext cx="2256120" cy="4100760"/>
        </p:xfrm>
        <a:graphic>
          <a:graphicData uri="http://schemas.openxmlformats.org/drawingml/2006/table">
            <a:tbl>
              <a:tblPr/>
              <a:tblGrid>
                <a:gridCol w="887400"/>
                <a:gridCol w="1368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_tradnl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6" name=""/>
          <p:cNvSpPr/>
          <p:nvPr/>
        </p:nvSpPr>
        <p:spPr>
          <a:xfrm>
            <a:off x="5127480" y="2800440"/>
            <a:ext cx="31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es el próximo estado de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 del Contador 3 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788000" y="2701800"/>
            <a:ext cx="431640" cy="7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788000" y="3214800"/>
            <a:ext cx="66600" cy="9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788000" y="3306240"/>
            <a:ext cx="66600" cy="93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788000" y="3852720"/>
            <a:ext cx="431640" cy="7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788000" y="4365720"/>
            <a:ext cx="66600" cy="9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788000" y="4457880"/>
            <a:ext cx="66600" cy="93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86200" y="5005440"/>
            <a:ext cx="432000" cy="79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86200" y="5518080"/>
            <a:ext cx="66960" cy="92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786200" y="5610240"/>
            <a:ext cx="66960" cy="93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219640" y="291780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219640" y="407052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219640" y="5221440"/>
            <a:ext cx="180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74000" y="2720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94880" y="3846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17200" y="5005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40000" y="2701800"/>
            <a:ext cx="1152360" cy="3168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ógica 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492360" y="2917800"/>
            <a:ext cx="129564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492360" y="4070160"/>
            <a:ext cx="129564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492360" y="5221440"/>
            <a:ext cx="129564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500720" y="3278160"/>
            <a:ext cx="0" cy="273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327816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00720" y="442908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00720" y="558180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29440" y="5942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74840" y="262908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95360" y="375444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7680" y="491328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651640" y="22698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834920" y="2270160"/>
            <a:ext cx="381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835280" y="227016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35280" y="313380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012000" y="1909800"/>
            <a:ext cx="0" cy="216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547280" y="1909800"/>
            <a:ext cx="446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547640" y="1909800"/>
            <a:ext cx="0" cy="20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547640" y="392580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372360" y="1549440"/>
            <a:ext cx="0" cy="367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1186920" y="1549440"/>
            <a:ext cx="5185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87280" y="1549440"/>
            <a:ext cx="0" cy="30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187280" y="4573440"/>
            <a:ext cx="115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apas de Karnaugh del Contador 3 B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1897200" cy="12427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187280" y="3201840"/>
            <a:ext cx="1897200" cy="124632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1189080" y="4491000"/>
            <a:ext cx="1897200" cy="124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851280" y="2637000"/>
                <a:ext cx="28083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r>
                      <m:t xml:space="preserve">A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3860640"/>
                <a:ext cx="17287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851280" y="5229360"/>
                <a:ext cx="936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5851800" y="524844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p: Dibuje el circu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rrespo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468360" y="888840"/>
            <a:ext cx="806436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counter_state (clk,stat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[2:0] 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ire cl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[2:0] state,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tate0=3'b00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1=3'b00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2=3'b0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3=3'b01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4=3'b10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5=3'b10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6=3'b1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7=3'b1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state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[0] = (state[0] &amp;&amp; !state[2]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state[0] &amp;&amp; !state[1]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!state[0] &amp;&amp; state[1] &amp;&amp; state[2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[1] = (state[1] &amp;&amp; !state[2]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!state[1] &amp;&amp; state[2]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[2] = !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=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1052640" y="514440"/>
            <a:ext cx="70405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052640" y="514440"/>
            <a:ext cx="70405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ógica Secuencial – Máquina de Estado Finito (FS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03720" y="3446640"/>
            <a:ext cx="11160" cy="23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26000" y="2637000"/>
            <a:ext cx="23760" cy="1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38400" y="2649600"/>
            <a:ext cx="3187800" cy="128088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OGICA COMBINA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21520" y="2873520"/>
            <a:ext cx="8190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8976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55800" y="274788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Sa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61240" y="3976560"/>
            <a:ext cx="169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Próximo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34720" y="5327640"/>
            <a:ext cx="40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5800" y="3825720"/>
            <a:ext cx="143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stad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77920" y="2873520"/>
            <a:ext cx="81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38600" y="2816280"/>
            <a:ext cx="195120" cy="12204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627440" y="5271840"/>
            <a:ext cx="1800" cy="26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0560" y="5127480"/>
            <a:ext cx="115920" cy="195480"/>
          </a:xfrm>
          <a:custGeom>
            <a:avLst/>
            <a:gdLst/>
            <a:ahLst/>
            <a:rect l="l" t="t" r="r" b="b"/>
            <a:pathLst>
              <a:path w="16" h="27">
                <a:moveTo>
                  <a:pt x="8" y="22"/>
                </a:move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5" y="14"/>
                  <a:pt x="5" y="14"/>
                  <a:pt x="5" y="14"/>
                </a:cubicBezTo>
                <a:cubicBezTo>
                  <a:pt x="6" y="9"/>
                  <a:pt x="7" y="5"/>
                  <a:pt x="8" y="0"/>
                </a:cubicBezTo>
                <a:cubicBezTo>
                  <a:pt x="9" y="5"/>
                  <a:pt x="10" y="9"/>
                  <a:pt x="11" y="14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6" y="27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4120" y="3271680"/>
            <a:ext cx="1571760" cy="1370160"/>
          </a:xfrm>
          <a:custGeom>
            <a:avLst/>
            <a:gdLst/>
            <a:ahLst/>
            <a:rect l="l" t="t" r="r" b="b"/>
            <a:pathLst>
              <a:path w="990" h="863">
                <a:moveTo>
                  <a:pt x="278" y="0"/>
                </a:moveTo>
                <a:lnTo>
                  <a:pt x="0" y="0"/>
                </a:lnTo>
                <a:lnTo>
                  <a:pt x="0" y="863"/>
                </a:lnTo>
                <a:lnTo>
                  <a:pt x="990" y="86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38600" y="321480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29360" y="4568760"/>
            <a:ext cx="195120" cy="115920"/>
          </a:xfrm>
          <a:custGeom>
            <a:avLst/>
            <a:gdLst/>
            <a:ahLst/>
            <a:rect l="l" t="t" r="r" b="b"/>
            <a:pathLst>
              <a:path w="27" h="16">
                <a:moveTo>
                  <a:pt x="22" y="8"/>
                </a:move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9" y="6"/>
                  <a:pt x="5" y="7"/>
                  <a:pt x="0" y="8"/>
                </a:cubicBezTo>
                <a:cubicBezTo>
                  <a:pt x="5" y="9"/>
                  <a:pt x="9" y="10"/>
                  <a:pt x="14" y="11"/>
                </a:cubicBezTo>
                <a:cubicBezTo>
                  <a:pt x="26" y="16"/>
                  <a:pt x="26" y="16"/>
                  <a:pt x="26" y="16"/>
                </a:cubicBezTo>
                <a:cubicBezTo>
                  <a:pt x="27" y="16"/>
                  <a:pt x="27" y="16"/>
                  <a:pt x="27" y="16"/>
                </a:cubicBez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97280" y="27478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yriad Roman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3720" y="3591000"/>
            <a:ext cx="1428840" cy="1036440"/>
          </a:xfrm>
          <a:custGeom>
            <a:avLst/>
            <a:gdLst/>
            <a:ahLst/>
            <a:rect l="l" t="t" r="r" b="b"/>
            <a:pathLst>
              <a:path w="900" h="653">
                <a:moveTo>
                  <a:pt x="534" y="0"/>
                </a:moveTo>
                <a:lnTo>
                  <a:pt x="900" y="0"/>
                </a:lnTo>
                <a:lnTo>
                  <a:pt x="900" y="653"/>
                </a:lnTo>
                <a:lnTo>
                  <a:pt x="0" y="653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5880" y="4097160"/>
            <a:ext cx="1203480" cy="1030320"/>
          </a:xfrm>
          <a:prstGeom prst="rect">
            <a:avLst/>
          </a:prstGeom>
          <a:solidFill>
            <a:srgbClr val="0000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7920" y="4924440"/>
            <a:ext cx="420840" cy="203040"/>
          </a:xfrm>
          <a:custGeom>
            <a:avLst/>
            <a:gdLst/>
            <a:ahLst/>
            <a:rect l="l" t="t" r="r" b="b"/>
            <a:pathLst>
              <a:path w="265" h="128">
                <a:moveTo>
                  <a:pt x="265" y="128"/>
                </a:moveTo>
                <a:lnTo>
                  <a:pt x="132" y="0"/>
                </a:lnTo>
                <a:lnTo>
                  <a:pt x="0" y="128"/>
                </a:ln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6120" y="451152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15880" y="45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yriad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38560" y="4157640"/>
            <a:ext cx="100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Myriad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áquina de Estado Fin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908000" y="1952640"/>
          <a:ext cx="5229360" cy="42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952640"/>
                    <a:ext cx="52293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SM en Veri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dificación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ógica combina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ógica secue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ignación de Es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combinaciones posibles para codificar s estados usando m variables es (2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! / (2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s)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un método que permita determinar antes cual es la mejor asignación de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directrices que ayudan a resolver este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rec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a buena práctica de dar un significado a la inicialización de la máquina de estado. El estado de inicio puede ser codificado con puros ceros o puros u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utilizar la secuencia normal de cuenta para otros es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minimizar el número de bits que cambian entre un estado y otro (código Gr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rec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estados pueden tener significados particulares, de modo que una variable se setea en un estado y no en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puede utilizar una variable por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dificación de Es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e Hot (un solo bit con valor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ne Cold (un solo bit con valor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468360" y="836640"/>
            <a:ext cx="8064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_full(clock,reset,req_0,req_1,req_2,req_3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_0,gnt_1,gnt_2,gnt_3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clock,reset,req_0,req_1,req_2,req_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gnt_0,gnt_1,gnt_2,gnt_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gnt_0,gnt_1,gnt_2,gnt_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 [2:0]  IDLE  = 3'b00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0  = 3'b00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1  = 3'b01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2  = 3'b011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NT3  = 3'b1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[2:0] state, next_sta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468360" y="836640"/>
            <a:ext cx="57592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state en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state or req_0 or req_1 or req_2 or req_3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DLE : if (req_0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req_1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NT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req_2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NT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req_3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NT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0 : if (req_0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1 : if (req_1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56000" y="3573360"/>
            <a:ext cx="439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2 : if (req_2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3 : if (req_3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GNT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: next_state =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468360" y="836640"/>
            <a:ext cx="5759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output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oc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reset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0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1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2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3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#1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#1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DLE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0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1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2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3 &lt;= #1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0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0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1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1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995640" y="2637000"/>
            <a:ext cx="41752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2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2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3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nt_3 &lt;= #1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#1 IDL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179280" y="1738440"/>
            <a:ext cx="3889440" cy="31305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2849400" y="3519360"/>
            <a:ext cx="61153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étricas Temporales para Circuitos Secuen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35000" y="2346480"/>
            <a:ext cx="4610160" cy="776160"/>
          </a:xfrm>
          <a:custGeom>
            <a:avLst/>
            <a:gdLst/>
            <a:ahLst/>
            <a:rect l="l" t="t" r="r" b="b"/>
            <a:pathLst>
              <a:path w="2904" h="489">
                <a:moveTo>
                  <a:pt x="0" y="0"/>
                </a:moveTo>
                <a:lnTo>
                  <a:pt x="0" y="489"/>
                </a:lnTo>
                <a:lnTo>
                  <a:pt x="2904" y="489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19600" y="3090960"/>
            <a:ext cx="1047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4"/>
                  <a:pt x="17" y="5"/>
                  <a:pt x="20" y="6"/>
                </a:cubicBezTo>
                <a:cubicBezTo>
                  <a:pt x="17" y="7"/>
                  <a:pt x="13" y="7"/>
                  <a:pt x="10" y="8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3320" y="2266920"/>
            <a:ext cx="63360" cy="106560"/>
          </a:xfrm>
          <a:custGeom>
            <a:avLst/>
            <a:gdLst/>
            <a:ahLst/>
            <a:rect l="l" t="t" r="r" b="b"/>
            <a:pathLst>
              <a:path w="12" h="20">
                <a:moveTo>
                  <a:pt x="6" y="17"/>
                </a:move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5" y="4"/>
                  <a:pt x="6" y="0"/>
                </a:cubicBezTo>
                <a:cubicBezTo>
                  <a:pt x="7" y="4"/>
                  <a:pt x="7" y="7"/>
                  <a:pt x="8" y="1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lnTo>
                  <a:pt x="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43720" y="28684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6320" y="2595600"/>
            <a:ext cx="26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CL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5000" y="2484360"/>
            <a:ext cx="4626000" cy="638280"/>
          </a:xfrm>
          <a:custGeom>
            <a:avLst/>
            <a:gdLst/>
            <a:ahLst/>
            <a:rect l="l" t="t" r="r" b="b"/>
            <a:pathLst>
              <a:path w="2914" h="402">
                <a:moveTo>
                  <a:pt x="2914" y="402"/>
                </a:moveTo>
                <a:lnTo>
                  <a:pt x="2688" y="402"/>
                </a:lnTo>
                <a:lnTo>
                  <a:pt x="2565" y="0"/>
                </a:lnTo>
                <a:lnTo>
                  <a:pt x="1416" y="0"/>
                </a:lnTo>
                <a:lnTo>
                  <a:pt x="1292" y="402"/>
                </a:lnTo>
                <a:lnTo>
                  <a:pt x="340" y="402"/>
                </a:lnTo>
                <a:lnTo>
                  <a:pt x="217" y="0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5000" y="3335400"/>
            <a:ext cx="4610160" cy="776160"/>
          </a:xfrm>
          <a:custGeom>
            <a:avLst/>
            <a:gdLst/>
            <a:ahLst/>
            <a:rect l="l" t="t" r="r" b="b"/>
            <a:pathLst>
              <a:path w="2904" h="489">
                <a:moveTo>
                  <a:pt x="0" y="0"/>
                </a:moveTo>
                <a:lnTo>
                  <a:pt x="0" y="489"/>
                </a:lnTo>
                <a:lnTo>
                  <a:pt x="2904" y="489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4079880"/>
            <a:ext cx="1047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4"/>
                  <a:pt x="17" y="5"/>
                  <a:pt x="20" y="6"/>
                </a:cubicBezTo>
                <a:cubicBezTo>
                  <a:pt x="17" y="7"/>
                  <a:pt x="13" y="7"/>
                  <a:pt x="10" y="8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03320" y="3255840"/>
            <a:ext cx="63360" cy="104760"/>
          </a:xfrm>
          <a:custGeom>
            <a:avLst/>
            <a:gdLst/>
            <a:ahLst/>
            <a:rect l="l" t="t" r="r" b="b"/>
            <a:pathLst>
              <a:path w="12" h="20">
                <a:moveTo>
                  <a:pt x="6" y="17"/>
                </a:move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5" y="4"/>
                  <a:pt x="6" y="0"/>
                </a:cubicBezTo>
                <a:cubicBezTo>
                  <a:pt x="7" y="4"/>
                  <a:pt x="7" y="7"/>
                  <a:pt x="8" y="1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lnTo>
                  <a:pt x="6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43720" y="385776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4480" y="358452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09920" y="41562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61760" y="4241880"/>
            <a:ext cx="5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8520" y="425772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thematicalPi 1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82800" y="4241880"/>
            <a:ext cx="7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26040" y="31240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64200" y="3209760"/>
            <a:ext cx="25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05040" y="31240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47880" y="3209760"/>
            <a:ext cx="12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Ten Roman"/>
              </a:rPr>
              <a:t>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5000" y="4349880"/>
            <a:ext cx="4610160" cy="776160"/>
          </a:xfrm>
          <a:custGeom>
            <a:avLst/>
            <a:gdLst/>
            <a:ahLst/>
            <a:rect l="l" t="t" r="r" b="b"/>
            <a:pathLst>
              <a:path w="2904" h="489">
                <a:moveTo>
                  <a:pt x="0" y="0"/>
                </a:moveTo>
                <a:lnTo>
                  <a:pt x="0" y="489"/>
                </a:lnTo>
                <a:lnTo>
                  <a:pt x="2904" y="489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19600" y="5089680"/>
            <a:ext cx="104760" cy="68040"/>
          </a:xfrm>
          <a:custGeom>
            <a:avLst/>
            <a:gdLst/>
            <a:ahLst/>
            <a:rect l="l" t="t" r="r" b="b"/>
            <a:pathLst>
              <a:path w="20" h="13">
                <a:moveTo>
                  <a:pt x="4" y="7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5"/>
                  <a:pt x="17" y="6"/>
                  <a:pt x="20" y="7"/>
                </a:cubicBezTo>
                <a:cubicBezTo>
                  <a:pt x="17" y="7"/>
                  <a:pt x="13" y="8"/>
                  <a:pt x="10" y="9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03320" y="4270320"/>
            <a:ext cx="63360" cy="106560"/>
          </a:xfrm>
          <a:custGeom>
            <a:avLst/>
            <a:gdLst/>
            <a:ahLst/>
            <a:rect l="l" t="t" r="r" b="b"/>
            <a:pathLst>
              <a:path w="12" h="20">
                <a:moveTo>
                  <a:pt x="6" y="16"/>
                </a:moveTo>
                <a:cubicBezTo>
                  <a:pt x="0" y="20"/>
                  <a:pt x="0" y="20"/>
                  <a:pt x="0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5" y="3"/>
                  <a:pt x="6" y="0"/>
                </a:cubicBezTo>
                <a:cubicBezTo>
                  <a:pt x="7" y="3"/>
                  <a:pt x="7" y="7"/>
                  <a:pt x="8" y="10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2" y="20"/>
                  <a:pt x="12" y="20"/>
                </a:cubicBezTo>
                <a:lnTo>
                  <a:pt x="6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43720" y="48704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160" y="45975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Ten Roman"/>
              </a:rPr>
              <a:t>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13320" y="4667400"/>
            <a:ext cx="4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34120" y="4857840"/>
            <a:ext cx="59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S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409840" y="3398760"/>
            <a:ext cx="1440" cy="42696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35000" y="3514680"/>
            <a:ext cx="4673520" cy="596880"/>
          </a:xfrm>
          <a:custGeom>
            <a:avLst/>
            <a:gdLst/>
            <a:ahLst/>
            <a:rect l="l" t="t" r="r" b="b"/>
            <a:pathLst>
              <a:path w="2944" h="376">
                <a:moveTo>
                  <a:pt x="2944" y="0"/>
                </a:moveTo>
                <a:lnTo>
                  <a:pt x="1825" y="0"/>
                </a:lnTo>
                <a:lnTo>
                  <a:pt x="1639" y="376"/>
                </a:lnTo>
                <a:lnTo>
                  <a:pt x="956" y="376"/>
                </a:lnTo>
                <a:lnTo>
                  <a:pt x="770" y="0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35000" y="3514680"/>
            <a:ext cx="4621320" cy="596880"/>
          </a:xfrm>
          <a:custGeom>
            <a:avLst/>
            <a:gdLst/>
            <a:ahLst/>
            <a:rect l="l" t="t" r="r" b="b"/>
            <a:pathLst>
              <a:path w="2911" h="376">
                <a:moveTo>
                  <a:pt x="2911" y="376"/>
                </a:moveTo>
                <a:lnTo>
                  <a:pt x="1815" y="376"/>
                </a:lnTo>
                <a:lnTo>
                  <a:pt x="1629" y="0"/>
                </a:lnTo>
                <a:lnTo>
                  <a:pt x="963" y="0"/>
                </a:lnTo>
                <a:lnTo>
                  <a:pt x="776" y="376"/>
                </a:lnTo>
                <a:lnTo>
                  <a:pt x="0" y="376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780000" y="3398760"/>
            <a:ext cx="1440" cy="42696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176640" y="2827080"/>
            <a:ext cx="1440" cy="229860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84360" y="3398760"/>
            <a:ext cx="61776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71880" y="3367080"/>
            <a:ext cx="1047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5"/>
                  <a:pt x="17" y="6"/>
                  <a:pt x="20" y="6"/>
                </a:cubicBezTo>
                <a:cubicBezTo>
                  <a:pt x="17" y="7"/>
                  <a:pt x="13" y="8"/>
                  <a:pt x="10" y="8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09840" y="3367080"/>
            <a:ext cx="100080" cy="63360"/>
          </a:xfrm>
          <a:custGeom>
            <a:avLst/>
            <a:gdLst/>
            <a:ahLst/>
            <a:rect l="l" t="t" r="r" b="b"/>
            <a:pathLst>
              <a:path w="19" h="12">
                <a:moveTo>
                  <a:pt x="16" y="6"/>
                </a:moveTo>
                <a:cubicBezTo>
                  <a:pt x="19" y="12"/>
                  <a:pt x="19" y="12"/>
                  <a:pt x="19" y="12"/>
                </a:cubicBezTo>
                <a:cubicBezTo>
                  <a:pt x="19" y="12"/>
                  <a:pt x="19" y="12"/>
                  <a:pt x="19" y="12"/>
                </a:cubicBezTo>
                <a:cubicBezTo>
                  <a:pt x="10" y="8"/>
                  <a:pt x="10" y="8"/>
                  <a:pt x="10" y="8"/>
                </a:cubicBezTo>
                <a:cubicBezTo>
                  <a:pt x="6" y="8"/>
                  <a:pt x="3" y="7"/>
                  <a:pt x="0" y="6"/>
                </a:cubicBezTo>
                <a:cubicBezTo>
                  <a:pt x="3" y="6"/>
                  <a:pt x="6" y="5"/>
                  <a:pt x="1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1160" y="3398760"/>
            <a:ext cx="449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73440" y="3367080"/>
            <a:ext cx="106560" cy="63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6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  <a:cubicBezTo>
                  <a:pt x="10" y="4"/>
                  <a:pt x="10" y="4"/>
                  <a:pt x="10" y="4"/>
                </a:cubicBezTo>
                <a:cubicBezTo>
                  <a:pt x="13" y="5"/>
                  <a:pt x="16" y="6"/>
                  <a:pt x="20" y="6"/>
                </a:cubicBezTo>
                <a:cubicBezTo>
                  <a:pt x="16" y="7"/>
                  <a:pt x="13" y="8"/>
                  <a:pt x="10" y="8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0" y="12"/>
                  <a:pt x="0" y="12"/>
                </a:cubicBezTo>
                <a:lnTo>
                  <a:pt x="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76640" y="3367080"/>
            <a:ext cx="100080" cy="63360"/>
          </a:xfrm>
          <a:custGeom>
            <a:avLst/>
            <a:gdLst/>
            <a:ahLst/>
            <a:rect l="l" t="t" r="r" b="b"/>
            <a:pathLst>
              <a:path w="19" h="12">
                <a:moveTo>
                  <a:pt x="16" y="6"/>
                </a:moveTo>
                <a:cubicBezTo>
                  <a:pt x="19" y="12"/>
                  <a:pt x="19" y="12"/>
                  <a:pt x="19" y="12"/>
                </a:cubicBezTo>
                <a:cubicBezTo>
                  <a:pt x="19" y="12"/>
                  <a:pt x="19" y="12"/>
                  <a:pt x="19" y="12"/>
                </a:cubicBezTo>
                <a:cubicBezTo>
                  <a:pt x="10" y="8"/>
                  <a:pt x="10" y="8"/>
                  <a:pt x="10" y="8"/>
                </a:cubicBezTo>
                <a:cubicBezTo>
                  <a:pt x="6" y="8"/>
                  <a:pt x="3" y="7"/>
                  <a:pt x="0" y="6"/>
                </a:cubicBezTo>
                <a:cubicBezTo>
                  <a:pt x="3" y="6"/>
                  <a:pt x="6" y="5"/>
                  <a:pt x="10" y="4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995640" y="4424400"/>
            <a:ext cx="1800" cy="442800"/>
          </a:xfrm>
          <a:prstGeom prst="line">
            <a:avLst/>
          </a:prstGeom>
          <a:ln w="111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51160" y="4424400"/>
            <a:ext cx="671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95560" y="4392720"/>
            <a:ext cx="100080" cy="56880"/>
          </a:xfrm>
          <a:custGeom>
            <a:avLst/>
            <a:gdLst/>
            <a:ahLst/>
            <a:rect l="l" t="t" r="r" b="b"/>
            <a:pathLst>
              <a:path w="19" h="11">
                <a:moveTo>
                  <a:pt x="3" y="6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9" y="3"/>
                  <a:pt x="9" y="3"/>
                  <a:pt x="9" y="3"/>
                </a:cubicBezTo>
                <a:cubicBezTo>
                  <a:pt x="13" y="4"/>
                  <a:pt x="16" y="5"/>
                  <a:pt x="19" y="6"/>
                </a:cubicBezTo>
                <a:cubicBezTo>
                  <a:pt x="16" y="6"/>
                  <a:pt x="13" y="7"/>
                  <a:pt x="9" y="8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1"/>
                  <a:pt x="0" y="11"/>
                </a:cubicBezTo>
                <a:lnTo>
                  <a:pt x="3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76640" y="4392720"/>
            <a:ext cx="100080" cy="56880"/>
          </a:xfrm>
          <a:custGeom>
            <a:avLst/>
            <a:gdLst/>
            <a:ahLst/>
            <a:rect l="l" t="t" r="r" b="b"/>
            <a:pathLst>
              <a:path w="19" h="11">
                <a:moveTo>
                  <a:pt x="16" y="6"/>
                </a:move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0" y="8"/>
                  <a:pt x="10" y="8"/>
                  <a:pt x="10" y="8"/>
                </a:cubicBezTo>
                <a:cubicBezTo>
                  <a:pt x="6" y="7"/>
                  <a:pt x="3" y="6"/>
                  <a:pt x="0" y="6"/>
                </a:cubicBezTo>
                <a:cubicBezTo>
                  <a:pt x="3" y="5"/>
                  <a:pt x="6" y="4"/>
                  <a:pt x="10" y="3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lnTo>
                  <a:pt x="16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5000" y="4608360"/>
            <a:ext cx="4673520" cy="517680"/>
          </a:xfrm>
          <a:custGeom>
            <a:avLst/>
            <a:gdLst/>
            <a:ahLst/>
            <a:rect l="l" t="t" r="r" b="b"/>
            <a:pathLst>
              <a:path w="2944" h="326">
                <a:moveTo>
                  <a:pt x="2944" y="0"/>
                </a:moveTo>
                <a:lnTo>
                  <a:pt x="1909" y="0"/>
                </a:lnTo>
                <a:lnTo>
                  <a:pt x="1825" y="326"/>
                </a:lnTo>
                <a:lnTo>
                  <a:pt x="1589" y="326"/>
                </a:lnTo>
                <a:lnTo>
                  <a:pt x="1506" y="0"/>
                </a:lnTo>
                <a:lnTo>
                  <a:pt x="0" y="0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35000" y="4608360"/>
            <a:ext cx="4605480" cy="517680"/>
          </a:xfrm>
          <a:custGeom>
            <a:avLst/>
            <a:gdLst/>
            <a:ahLst/>
            <a:rect l="l" t="t" r="r" b="b"/>
            <a:pathLst>
              <a:path w="2901" h="326">
                <a:moveTo>
                  <a:pt x="2901" y="326"/>
                </a:moveTo>
                <a:lnTo>
                  <a:pt x="1909" y="326"/>
                </a:lnTo>
                <a:lnTo>
                  <a:pt x="1825" y="0"/>
                </a:lnTo>
                <a:lnTo>
                  <a:pt x="1589" y="0"/>
                </a:lnTo>
                <a:lnTo>
                  <a:pt x="1506" y="326"/>
                </a:lnTo>
                <a:lnTo>
                  <a:pt x="0" y="326"/>
                </a:lnTo>
              </a:path>
            </a:pathLst>
          </a:custGeom>
          <a:noFill/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53000" y="3613320"/>
            <a:ext cx="44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73440" y="3800520"/>
            <a:ext cx="59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Ten Roman"/>
              </a:rPr>
              <a:t>STAB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04960" y="3181320"/>
            <a:ext cx="63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Ten Roman"/>
              </a:rPr>
              <a:t>Regis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39840" y="4027320"/>
            <a:ext cx="287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Ten Roman"/>
              </a:rPr>
              <a:t>CL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8400" y="3432240"/>
            <a:ext cx="11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Ten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98600" y="3432240"/>
            <a:ext cx="12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Ten Roman"/>
              </a:rPr>
              <a:t>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458120" y="3997440"/>
            <a:ext cx="1440" cy="196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16720" y="3897360"/>
            <a:ext cx="84240" cy="142920"/>
          </a:xfrm>
          <a:custGeom>
            <a:avLst/>
            <a:gdLst/>
            <a:ahLst/>
            <a:rect l="l" t="t" r="r" b="b"/>
            <a:pathLst>
              <a:path w="16" h="27">
                <a:moveTo>
                  <a:pt x="8" y="22"/>
                </a:moveTo>
                <a:cubicBezTo>
                  <a:pt x="0" y="27"/>
                  <a:pt x="0" y="27"/>
                  <a:pt x="0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9"/>
                  <a:pt x="7" y="4"/>
                  <a:pt x="8" y="0"/>
                </a:cubicBezTo>
                <a:cubicBezTo>
                  <a:pt x="9" y="4"/>
                  <a:pt x="10" y="9"/>
                  <a:pt x="11" y="13"/>
                </a:cubicBezTo>
                <a:cubicBezTo>
                  <a:pt x="16" y="26"/>
                  <a:pt x="16" y="26"/>
                  <a:pt x="16" y="26"/>
                </a:cubicBezTo>
                <a:cubicBezTo>
                  <a:pt x="16" y="27"/>
                  <a:pt x="16" y="27"/>
                  <a:pt x="16" y="27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20000" y="3141720"/>
            <a:ext cx="877680" cy="755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05840" y="3745080"/>
            <a:ext cx="306360" cy="152280"/>
          </a:xfrm>
          <a:custGeom>
            <a:avLst/>
            <a:gdLst/>
            <a:ahLst/>
            <a:rect l="l" t="t" r="r" b="b"/>
            <a:pathLst>
              <a:path w="193" h="96">
                <a:moveTo>
                  <a:pt x="193" y="96"/>
                </a:moveTo>
                <a:lnTo>
                  <a:pt x="96" y="0"/>
                </a:lnTo>
                <a:lnTo>
                  <a:pt x="0" y="96"/>
                </a:lnTo>
              </a:path>
            </a:pathLst>
          </a:cu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18240" y="3527280"/>
            <a:ext cx="3016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81760" y="3484440"/>
            <a:ext cx="138240" cy="85680"/>
          </a:xfrm>
          <a:custGeom>
            <a:avLst/>
            <a:gdLst/>
            <a:ahLst/>
            <a:rect l="l" t="t" r="r" b="b"/>
            <a:pathLst>
              <a:path w="26" h="16">
                <a:moveTo>
                  <a:pt x="5" y="8"/>
                </a:move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13" y="11"/>
                  <a:pt x="13" y="11"/>
                  <a:pt x="13" y="11"/>
                </a:cubicBezTo>
                <a:cubicBezTo>
                  <a:pt x="17" y="10"/>
                  <a:pt x="22" y="9"/>
                  <a:pt x="26" y="8"/>
                </a:cubicBezTo>
                <a:cubicBezTo>
                  <a:pt x="22" y="7"/>
                  <a:pt x="17" y="6"/>
                  <a:pt x="13" y="5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97680" y="3527280"/>
            <a:ext cx="3016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61200" y="3484440"/>
            <a:ext cx="142920" cy="8568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13" y="11"/>
                  <a:pt x="13" y="11"/>
                  <a:pt x="13" y="11"/>
                </a:cubicBezTo>
                <a:cubicBezTo>
                  <a:pt x="18" y="10"/>
                  <a:pt x="22" y="9"/>
                  <a:pt x="27" y="8"/>
                </a:cubicBezTo>
                <a:cubicBezTo>
                  <a:pt x="22" y="7"/>
                  <a:pt x="18" y="6"/>
                  <a:pt x="13" y="5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68360" y="836640"/>
            <a:ext cx="539892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dule traffic1(clock,auto,principal,secondary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ock,au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principal, secondar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principal, secondar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,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fin_timer,inicio_tim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stat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 GREEN = 1'b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   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state en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state or auto or fin_timer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EEN : if (auto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R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auto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RE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   : if (fin_timer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 = RE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else if (fin_timer == 1'b0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xt_state= GRE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: next_state = GREE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364000" y="907920"/>
            <a:ext cx="381636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output 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oc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&lt;= next_stat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EEN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auto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icio_timer &lt;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cipal &lt;=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ondary &lt;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   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fin_timer == 1'b1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cipal &lt;= 1'b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ondary &lt;= 1'b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un detector de paridad en que los datos llegan de a un bit por ciclo rel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atos se agrupan en paquetes de cuatro donde el cuarto bit es el de pa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l número de 1s en los tres primeros bits es impar el cuarto bit será u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 paridad está incorrecta, una señal de error es levantada durante el cuarto ciclo de rel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ya un reset asíncrono que deje la máquina de estados en el estado inicial s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olvide de inicializar las señales y/o variables necesa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e la máquina de estados correspondiente y escriba el archivo 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tches vs. Regis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994040"/>
            <a:ext cx="41529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526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15263"/>
                </a:solidFill>
                <a:latin typeface="Arial"/>
              </a:rPr>
              <a:t>Latch: guarda los datos cuando el reloj (CLK) esta en nivel al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54280" y="3081240"/>
            <a:ext cx="981000" cy="11430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22640" y="32716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35240" y="393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35280" y="330984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311868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7280" y="373932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14880" y="311868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73720" y="3043080"/>
            <a:ext cx="890640" cy="11430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42080" y="32338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54680" y="38941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4360" y="327168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308052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00720" y="37011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42160" y="308052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67600" y="3821040"/>
            <a:ext cx="133200" cy="85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270480" y="3897000"/>
            <a:ext cx="125640" cy="9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92560" y="1994040"/>
            <a:ext cx="35942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15263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15263"/>
                </a:solidFill>
                <a:latin typeface="Arial"/>
              </a:rPr>
              <a:t>Registro: guarda los datos cuando el reloj (CLK) s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0574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146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1460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9718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4290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88620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82880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5176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20040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0040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5740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5786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20040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6167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0199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992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4771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343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3432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3915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91520" y="4948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848720" y="4567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4567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6272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79132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176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5176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55576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9152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848720" y="5557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6272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01992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1992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7120" y="5786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578628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848720" y="578592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167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449028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449028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90720" y="517608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509976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5785560"/>
            <a:ext cx="39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578556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eño con La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784920" y="3002040"/>
            <a:ext cx="1800" cy="39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3252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19162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tch N es transparente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1916280"/>
            <a:ext cx="35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tch P es transparente cuando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21000" y="3400560"/>
            <a:ext cx="795240" cy="1579320"/>
          </a:xfrm>
          <a:prstGeom prst="rect">
            <a:avLst/>
          </a:prstGeom>
          <a:solidFill>
            <a:srgbClr val="0000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tch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13320" y="3795840"/>
            <a:ext cx="2374560" cy="788760"/>
          </a:xfrm>
          <a:custGeom>
            <a:avLst/>
            <a:gdLst/>
            <a:ahLst/>
            <a:rect l="l" t="t" r="r" b="b"/>
            <a:pathLst>
              <a:path w="1496" h="497">
                <a:moveTo>
                  <a:pt x="0" y="249"/>
                </a:moveTo>
                <a:lnTo>
                  <a:pt x="4" y="221"/>
                </a:lnTo>
                <a:lnTo>
                  <a:pt x="16" y="196"/>
                </a:lnTo>
                <a:lnTo>
                  <a:pt x="35" y="171"/>
                </a:lnTo>
                <a:lnTo>
                  <a:pt x="63" y="147"/>
                </a:lnTo>
                <a:lnTo>
                  <a:pt x="99" y="124"/>
                </a:lnTo>
                <a:lnTo>
                  <a:pt x="141" y="101"/>
                </a:lnTo>
                <a:lnTo>
                  <a:pt x="192" y="82"/>
                </a:lnTo>
                <a:lnTo>
                  <a:pt x="247" y="63"/>
                </a:lnTo>
                <a:lnTo>
                  <a:pt x="308" y="46"/>
                </a:lnTo>
                <a:lnTo>
                  <a:pt x="374" y="31"/>
                </a:lnTo>
                <a:lnTo>
                  <a:pt x="444" y="21"/>
                </a:lnTo>
                <a:lnTo>
                  <a:pt x="518" y="10"/>
                </a:lnTo>
                <a:lnTo>
                  <a:pt x="592" y="4"/>
                </a:lnTo>
                <a:lnTo>
                  <a:pt x="670" y="0"/>
                </a:lnTo>
                <a:lnTo>
                  <a:pt x="748" y="0"/>
                </a:lnTo>
                <a:lnTo>
                  <a:pt x="826" y="0"/>
                </a:lnTo>
                <a:lnTo>
                  <a:pt x="904" y="4"/>
                </a:lnTo>
                <a:lnTo>
                  <a:pt x="981" y="10"/>
                </a:lnTo>
                <a:lnTo>
                  <a:pt x="1052" y="21"/>
                </a:lnTo>
                <a:lnTo>
                  <a:pt x="1122" y="31"/>
                </a:lnTo>
                <a:lnTo>
                  <a:pt x="1188" y="46"/>
                </a:lnTo>
                <a:lnTo>
                  <a:pt x="1249" y="63"/>
                </a:lnTo>
                <a:lnTo>
                  <a:pt x="1304" y="82"/>
                </a:lnTo>
                <a:lnTo>
                  <a:pt x="1355" y="101"/>
                </a:lnTo>
                <a:lnTo>
                  <a:pt x="1397" y="124"/>
                </a:lnTo>
                <a:lnTo>
                  <a:pt x="1433" y="147"/>
                </a:lnTo>
                <a:lnTo>
                  <a:pt x="1461" y="171"/>
                </a:lnTo>
                <a:lnTo>
                  <a:pt x="1482" y="196"/>
                </a:lnTo>
                <a:lnTo>
                  <a:pt x="1494" y="221"/>
                </a:lnTo>
                <a:lnTo>
                  <a:pt x="1496" y="249"/>
                </a:lnTo>
                <a:lnTo>
                  <a:pt x="1494" y="274"/>
                </a:lnTo>
                <a:lnTo>
                  <a:pt x="1482" y="299"/>
                </a:lnTo>
                <a:lnTo>
                  <a:pt x="1461" y="325"/>
                </a:lnTo>
                <a:lnTo>
                  <a:pt x="1433" y="350"/>
                </a:lnTo>
                <a:lnTo>
                  <a:pt x="1397" y="373"/>
                </a:lnTo>
                <a:lnTo>
                  <a:pt x="1355" y="394"/>
                </a:lnTo>
                <a:lnTo>
                  <a:pt x="1304" y="415"/>
                </a:lnTo>
                <a:lnTo>
                  <a:pt x="1249" y="434"/>
                </a:lnTo>
                <a:lnTo>
                  <a:pt x="1188" y="449"/>
                </a:lnTo>
                <a:lnTo>
                  <a:pt x="1122" y="464"/>
                </a:lnTo>
                <a:lnTo>
                  <a:pt x="1052" y="476"/>
                </a:lnTo>
                <a:lnTo>
                  <a:pt x="981" y="485"/>
                </a:lnTo>
                <a:lnTo>
                  <a:pt x="904" y="491"/>
                </a:lnTo>
                <a:lnTo>
                  <a:pt x="826" y="495"/>
                </a:lnTo>
                <a:lnTo>
                  <a:pt x="748" y="497"/>
                </a:lnTo>
                <a:lnTo>
                  <a:pt x="670" y="495"/>
                </a:lnTo>
                <a:lnTo>
                  <a:pt x="592" y="491"/>
                </a:lnTo>
                <a:lnTo>
                  <a:pt x="518" y="485"/>
                </a:lnTo>
                <a:lnTo>
                  <a:pt x="444" y="476"/>
                </a:lnTo>
                <a:lnTo>
                  <a:pt x="374" y="464"/>
                </a:lnTo>
                <a:lnTo>
                  <a:pt x="308" y="449"/>
                </a:lnTo>
                <a:lnTo>
                  <a:pt x="247" y="434"/>
                </a:lnTo>
                <a:lnTo>
                  <a:pt x="192" y="415"/>
                </a:lnTo>
                <a:lnTo>
                  <a:pt x="141" y="394"/>
                </a:lnTo>
                <a:lnTo>
                  <a:pt x="99" y="373"/>
                </a:lnTo>
                <a:lnTo>
                  <a:pt x="63" y="350"/>
                </a:lnTo>
                <a:lnTo>
                  <a:pt x="35" y="325"/>
                </a:lnTo>
                <a:lnTo>
                  <a:pt x="16" y="299"/>
                </a:lnTo>
                <a:lnTo>
                  <a:pt x="4" y="274"/>
                </a:lnTo>
                <a:lnTo>
                  <a:pt x="0" y="249"/>
                </a:lnTo>
                <a:close/>
              </a:path>
            </a:pathLst>
          </a:custGeom>
          <a:solidFill>
            <a:srgbClr val="ff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13320" y="5375160"/>
            <a:ext cx="2374560" cy="790560"/>
          </a:xfrm>
          <a:custGeom>
            <a:avLst/>
            <a:gdLst/>
            <a:ahLst/>
            <a:rect l="l" t="t" r="r" b="b"/>
            <a:pathLst>
              <a:path w="1496" h="498">
                <a:moveTo>
                  <a:pt x="0" y="249"/>
                </a:moveTo>
                <a:lnTo>
                  <a:pt x="4" y="224"/>
                </a:lnTo>
                <a:lnTo>
                  <a:pt x="16" y="198"/>
                </a:lnTo>
                <a:lnTo>
                  <a:pt x="35" y="173"/>
                </a:lnTo>
                <a:lnTo>
                  <a:pt x="63" y="148"/>
                </a:lnTo>
                <a:lnTo>
                  <a:pt x="99" y="124"/>
                </a:lnTo>
                <a:lnTo>
                  <a:pt x="141" y="103"/>
                </a:lnTo>
                <a:lnTo>
                  <a:pt x="192" y="82"/>
                </a:lnTo>
                <a:lnTo>
                  <a:pt x="247" y="63"/>
                </a:lnTo>
                <a:lnTo>
                  <a:pt x="308" y="49"/>
                </a:lnTo>
                <a:lnTo>
                  <a:pt x="374" y="34"/>
                </a:lnTo>
                <a:lnTo>
                  <a:pt x="444" y="21"/>
                </a:lnTo>
                <a:lnTo>
                  <a:pt x="518" y="13"/>
                </a:lnTo>
                <a:lnTo>
                  <a:pt x="592" y="6"/>
                </a:lnTo>
                <a:lnTo>
                  <a:pt x="670" y="2"/>
                </a:lnTo>
                <a:lnTo>
                  <a:pt x="748" y="0"/>
                </a:lnTo>
                <a:lnTo>
                  <a:pt x="826" y="2"/>
                </a:lnTo>
                <a:lnTo>
                  <a:pt x="904" y="6"/>
                </a:lnTo>
                <a:lnTo>
                  <a:pt x="981" y="13"/>
                </a:lnTo>
                <a:lnTo>
                  <a:pt x="1052" y="21"/>
                </a:lnTo>
                <a:lnTo>
                  <a:pt x="1122" y="34"/>
                </a:lnTo>
                <a:lnTo>
                  <a:pt x="1188" y="49"/>
                </a:lnTo>
                <a:lnTo>
                  <a:pt x="1249" y="63"/>
                </a:lnTo>
                <a:lnTo>
                  <a:pt x="1304" y="82"/>
                </a:lnTo>
                <a:lnTo>
                  <a:pt x="1355" y="103"/>
                </a:lnTo>
                <a:lnTo>
                  <a:pt x="1397" y="124"/>
                </a:lnTo>
                <a:lnTo>
                  <a:pt x="1433" y="148"/>
                </a:lnTo>
                <a:lnTo>
                  <a:pt x="1461" y="173"/>
                </a:lnTo>
                <a:lnTo>
                  <a:pt x="1482" y="198"/>
                </a:lnTo>
                <a:lnTo>
                  <a:pt x="1494" y="224"/>
                </a:lnTo>
                <a:lnTo>
                  <a:pt x="1496" y="249"/>
                </a:lnTo>
                <a:lnTo>
                  <a:pt x="1494" y="276"/>
                </a:lnTo>
                <a:lnTo>
                  <a:pt x="1482" y="302"/>
                </a:lnTo>
                <a:lnTo>
                  <a:pt x="1461" y="327"/>
                </a:lnTo>
                <a:lnTo>
                  <a:pt x="1433" y="350"/>
                </a:lnTo>
                <a:lnTo>
                  <a:pt x="1397" y="373"/>
                </a:lnTo>
                <a:lnTo>
                  <a:pt x="1355" y="396"/>
                </a:lnTo>
                <a:lnTo>
                  <a:pt x="1304" y="415"/>
                </a:lnTo>
                <a:lnTo>
                  <a:pt x="1249" y="434"/>
                </a:lnTo>
                <a:lnTo>
                  <a:pt x="1188" y="451"/>
                </a:lnTo>
                <a:lnTo>
                  <a:pt x="1122" y="464"/>
                </a:lnTo>
                <a:lnTo>
                  <a:pt x="1052" y="477"/>
                </a:lnTo>
                <a:lnTo>
                  <a:pt x="981" y="487"/>
                </a:lnTo>
                <a:lnTo>
                  <a:pt x="904" y="493"/>
                </a:lnTo>
                <a:lnTo>
                  <a:pt x="826" y="498"/>
                </a:lnTo>
                <a:lnTo>
                  <a:pt x="748" y="498"/>
                </a:lnTo>
                <a:lnTo>
                  <a:pt x="670" y="498"/>
                </a:lnTo>
                <a:lnTo>
                  <a:pt x="592" y="493"/>
                </a:lnTo>
                <a:lnTo>
                  <a:pt x="518" y="487"/>
                </a:lnTo>
                <a:lnTo>
                  <a:pt x="444" y="477"/>
                </a:lnTo>
                <a:lnTo>
                  <a:pt x="374" y="464"/>
                </a:lnTo>
                <a:lnTo>
                  <a:pt x="308" y="451"/>
                </a:lnTo>
                <a:lnTo>
                  <a:pt x="247" y="434"/>
                </a:lnTo>
                <a:lnTo>
                  <a:pt x="192" y="415"/>
                </a:lnTo>
                <a:lnTo>
                  <a:pt x="141" y="396"/>
                </a:lnTo>
                <a:lnTo>
                  <a:pt x="99" y="373"/>
                </a:lnTo>
                <a:lnTo>
                  <a:pt x="63" y="350"/>
                </a:lnTo>
                <a:lnTo>
                  <a:pt x="35" y="327"/>
                </a:lnTo>
                <a:lnTo>
                  <a:pt x="16" y="302"/>
                </a:lnTo>
                <a:lnTo>
                  <a:pt x="4" y="276"/>
                </a:lnTo>
                <a:lnTo>
                  <a:pt x="0" y="249"/>
                </a:lnTo>
                <a:close/>
              </a:path>
            </a:pathLst>
          </a:custGeom>
          <a:solidFill>
            <a:srgbClr val="ff6600"/>
          </a:solidFill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424760" y="4060800"/>
            <a:ext cx="75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88200" y="3400560"/>
            <a:ext cx="792000" cy="1579320"/>
          </a:xfrm>
          <a:prstGeom prst="rect">
            <a:avLst/>
          </a:prstGeom>
          <a:solidFill>
            <a:srgbClr val="0000ff"/>
          </a:solidFill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Latch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16240" y="4191120"/>
            <a:ext cx="295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98840" y="4133880"/>
            <a:ext cx="114480" cy="11268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72" y="36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87880" y="4191120"/>
            <a:ext cx="3002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73720" y="4133880"/>
            <a:ext cx="114480" cy="11268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72" y="36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22640" y="3002040"/>
            <a:ext cx="49575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7280" y="3002040"/>
            <a:ext cx="1440" cy="39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70280" y="29750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19" y="0"/>
                </a:moveTo>
                <a:lnTo>
                  <a:pt x="26" y="2"/>
                </a:lnTo>
                <a:lnTo>
                  <a:pt x="32" y="4"/>
                </a:lnTo>
                <a:lnTo>
                  <a:pt x="34" y="11"/>
                </a:lnTo>
                <a:lnTo>
                  <a:pt x="36" y="19"/>
                </a:lnTo>
                <a:lnTo>
                  <a:pt x="34" y="26"/>
                </a:lnTo>
                <a:lnTo>
                  <a:pt x="32" y="32"/>
                </a:lnTo>
                <a:lnTo>
                  <a:pt x="26" y="34"/>
                </a:lnTo>
                <a:lnTo>
                  <a:pt x="19" y="36"/>
                </a:lnTo>
                <a:lnTo>
                  <a:pt x="11" y="34"/>
                </a:lnTo>
                <a:lnTo>
                  <a:pt x="5" y="32"/>
                </a:lnTo>
                <a:lnTo>
                  <a:pt x="2" y="26"/>
                </a:lnTo>
                <a:lnTo>
                  <a:pt x="0" y="19"/>
                </a:lnTo>
                <a:lnTo>
                  <a:pt x="2" y="11"/>
                </a:lnTo>
                <a:lnTo>
                  <a:pt x="5" y="4"/>
                </a:lnTo>
                <a:lnTo>
                  <a:pt x="11" y="2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900520" y="2968560"/>
            <a:ext cx="3312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21" y="23"/>
                </a:moveTo>
                <a:lnTo>
                  <a:pt x="21" y="23"/>
                </a:lnTo>
                <a:lnTo>
                  <a:pt x="21" y="13"/>
                </a:lnTo>
                <a:lnTo>
                  <a:pt x="15" y="6"/>
                </a:lnTo>
                <a:lnTo>
                  <a:pt x="9" y="0"/>
                </a:lnTo>
                <a:lnTo>
                  <a:pt x="0" y="0"/>
                </a:lnTo>
                <a:lnTo>
                  <a:pt x="0" y="8"/>
                </a:lnTo>
                <a:lnTo>
                  <a:pt x="7" y="11"/>
                </a:lnTo>
                <a:lnTo>
                  <a:pt x="9" y="13"/>
                </a:lnTo>
                <a:lnTo>
                  <a:pt x="11" y="15"/>
                </a:lnTo>
                <a:lnTo>
                  <a:pt x="13" y="23"/>
                </a:lnTo>
                <a:lnTo>
                  <a:pt x="13" y="23"/>
                </a:lnTo>
                <a:lnTo>
                  <a:pt x="2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00520" y="3005280"/>
            <a:ext cx="3312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21"/>
                </a:moveTo>
                <a:lnTo>
                  <a:pt x="0" y="21"/>
                </a:ln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1" y="0"/>
                </a:lnTo>
                <a:lnTo>
                  <a:pt x="13" y="0"/>
                </a:lnTo>
                <a:lnTo>
                  <a:pt x="11" y="7"/>
                </a:lnTo>
                <a:lnTo>
                  <a:pt x="9" y="9"/>
                </a:lnTo>
                <a:lnTo>
                  <a:pt x="7" y="11"/>
                </a:lnTo>
                <a:lnTo>
                  <a:pt x="0" y="13"/>
                </a:lnTo>
                <a:lnTo>
                  <a:pt x="0" y="1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63800" y="3005280"/>
            <a:ext cx="36720" cy="33120"/>
          </a:xfrm>
          <a:custGeom>
            <a:avLst/>
            <a:gdLst/>
            <a:ahLst/>
            <a:rect l="l" t="t" r="r" b="b"/>
            <a:pathLst>
              <a:path w="23" h="21">
                <a:moveTo>
                  <a:pt x="0" y="0"/>
                </a:moveTo>
                <a:lnTo>
                  <a:pt x="0" y="0"/>
                </a:lnTo>
                <a:lnTo>
                  <a:pt x="0" y="9"/>
                </a:lnTo>
                <a:lnTo>
                  <a:pt x="6" y="15"/>
                </a:lnTo>
                <a:lnTo>
                  <a:pt x="13" y="21"/>
                </a:lnTo>
                <a:lnTo>
                  <a:pt x="23" y="21"/>
                </a:lnTo>
                <a:lnTo>
                  <a:pt x="23" y="13"/>
                </a:lnTo>
                <a:lnTo>
                  <a:pt x="15" y="11"/>
                </a:lnTo>
                <a:lnTo>
                  <a:pt x="13" y="9"/>
                </a:lnTo>
                <a:lnTo>
                  <a:pt x="11" y="7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63800" y="2968560"/>
            <a:ext cx="36720" cy="36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23" y="0"/>
                </a:lnTo>
                <a:lnTo>
                  <a:pt x="13" y="0"/>
                </a:lnTo>
                <a:lnTo>
                  <a:pt x="6" y="6"/>
                </a:lnTo>
                <a:lnTo>
                  <a:pt x="0" y="13"/>
                </a:lnTo>
                <a:lnTo>
                  <a:pt x="0" y="23"/>
                </a:lnTo>
                <a:lnTo>
                  <a:pt x="9" y="23"/>
                </a:lnTo>
                <a:lnTo>
                  <a:pt x="11" y="15"/>
                </a:lnTo>
                <a:lnTo>
                  <a:pt x="13" y="13"/>
                </a:lnTo>
                <a:lnTo>
                  <a:pt x="15" y="11"/>
                </a:lnTo>
                <a:lnTo>
                  <a:pt x="23" y="8"/>
                </a:lnTo>
                <a:lnTo>
                  <a:pt x="23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54680" y="2975040"/>
            <a:ext cx="55800" cy="57240"/>
          </a:xfrm>
          <a:custGeom>
            <a:avLst/>
            <a:gdLst/>
            <a:ahLst/>
            <a:rect l="l" t="t" r="r" b="b"/>
            <a:pathLst>
              <a:path w="35" h="36">
                <a:moveTo>
                  <a:pt x="19" y="0"/>
                </a:moveTo>
                <a:lnTo>
                  <a:pt x="25" y="2"/>
                </a:lnTo>
                <a:lnTo>
                  <a:pt x="31" y="4"/>
                </a:lnTo>
                <a:lnTo>
                  <a:pt x="33" y="11"/>
                </a:lnTo>
                <a:lnTo>
                  <a:pt x="35" y="19"/>
                </a:lnTo>
                <a:lnTo>
                  <a:pt x="33" y="26"/>
                </a:lnTo>
                <a:lnTo>
                  <a:pt x="31" y="32"/>
                </a:lnTo>
                <a:lnTo>
                  <a:pt x="25" y="34"/>
                </a:lnTo>
                <a:lnTo>
                  <a:pt x="19" y="36"/>
                </a:lnTo>
                <a:lnTo>
                  <a:pt x="10" y="34"/>
                </a:lnTo>
                <a:lnTo>
                  <a:pt x="4" y="32"/>
                </a:lnTo>
                <a:lnTo>
                  <a:pt x="2" y="26"/>
                </a:lnTo>
                <a:lnTo>
                  <a:pt x="0" y="19"/>
                </a:lnTo>
                <a:lnTo>
                  <a:pt x="2" y="11"/>
                </a:lnTo>
                <a:lnTo>
                  <a:pt x="4" y="4"/>
                </a:lnTo>
                <a:lnTo>
                  <a:pt x="10" y="2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84920" y="296856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21" y="23"/>
                </a:moveTo>
                <a:lnTo>
                  <a:pt x="21" y="23"/>
                </a:lnTo>
                <a:lnTo>
                  <a:pt x="21" y="13"/>
                </a:lnTo>
                <a:lnTo>
                  <a:pt x="14" y="6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6" y="11"/>
                </a:lnTo>
                <a:lnTo>
                  <a:pt x="8" y="13"/>
                </a:lnTo>
                <a:lnTo>
                  <a:pt x="10" y="15"/>
                </a:lnTo>
                <a:lnTo>
                  <a:pt x="12" y="23"/>
                </a:lnTo>
                <a:lnTo>
                  <a:pt x="12" y="23"/>
                </a:lnTo>
                <a:lnTo>
                  <a:pt x="2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84920" y="30052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21"/>
                </a:moveTo>
                <a:lnTo>
                  <a:pt x="0" y="21"/>
                </a:lnTo>
                <a:lnTo>
                  <a:pt x="8" y="21"/>
                </a:lnTo>
                <a:lnTo>
                  <a:pt x="14" y="15"/>
                </a:lnTo>
                <a:lnTo>
                  <a:pt x="21" y="9"/>
                </a:lnTo>
                <a:lnTo>
                  <a:pt x="21" y="0"/>
                </a:lnTo>
                <a:lnTo>
                  <a:pt x="12" y="0"/>
                </a:lnTo>
                <a:lnTo>
                  <a:pt x="10" y="7"/>
                </a:lnTo>
                <a:lnTo>
                  <a:pt x="8" y="9"/>
                </a:lnTo>
                <a:lnTo>
                  <a:pt x="6" y="11"/>
                </a:lnTo>
                <a:lnTo>
                  <a:pt x="0" y="13"/>
                </a:lnTo>
                <a:lnTo>
                  <a:pt x="0" y="13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46760" y="3005280"/>
            <a:ext cx="38160" cy="33120"/>
          </a:xfrm>
          <a:custGeom>
            <a:avLst/>
            <a:gdLst/>
            <a:ahLst/>
            <a:rect l="l" t="t" r="r" b="b"/>
            <a:pathLst>
              <a:path w="24" h="21">
                <a:moveTo>
                  <a:pt x="0" y="0"/>
                </a:moveTo>
                <a:lnTo>
                  <a:pt x="0" y="0"/>
                </a:lnTo>
                <a:lnTo>
                  <a:pt x="0" y="9"/>
                </a:lnTo>
                <a:lnTo>
                  <a:pt x="7" y="15"/>
                </a:lnTo>
                <a:lnTo>
                  <a:pt x="13" y="21"/>
                </a:lnTo>
                <a:lnTo>
                  <a:pt x="24" y="21"/>
                </a:lnTo>
                <a:lnTo>
                  <a:pt x="24" y="13"/>
                </a:lnTo>
                <a:lnTo>
                  <a:pt x="15" y="11"/>
                </a:lnTo>
                <a:lnTo>
                  <a:pt x="13" y="9"/>
                </a:lnTo>
                <a:lnTo>
                  <a:pt x="11" y="7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746760" y="2968560"/>
            <a:ext cx="38160" cy="36720"/>
          </a:xfrm>
          <a:custGeom>
            <a:avLst/>
            <a:gdLst/>
            <a:ahLst/>
            <a:rect l="l" t="t" r="r" b="b"/>
            <a:pathLst>
              <a:path w="24" h="23">
                <a:moveTo>
                  <a:pt x="24" y="0"/>
                </a:moveTo>
                <a:lnTo>
                  <a:pt x="24" y="0"/>
                </a:lnTo>
                <a:lnTo>
                  <a:pt x="13" y="0"/>
                </a:lnTo>
                <a:lnTo>
                  <a:pt x="7" y="6"/>
                </a:lnTo>
                <a:lnTo>
                  <a:pt x="0" y="13"/>
                </a:lnTo>
                <a:lnTo>
                  <a:pt x="0" y="23"/>
                </a:lnTo>
                <a:lnTo>
                  <a:pt x="9" y="23"/>
                </a:lnTo>
                <a:lnTo>
                  <a:pt x="11" y="15"/>
                </a:lnTo>
                <a:lnTo>
                  <a:pt x="13" y="13"/>
                </a:lnTo>
                <a:lnTo>
                  <a:pt x="15" y="11"/>
                </a:lnTo>
                <a:lnTo>
                  <a:pt x="24" y="8"/>
                </a:lnTo>
                <a:lnTo>
                  <a:pt x="24" y="8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23920" y="4191120"/>
            <a:ext cx="1589400" cy="1579320"/>
          </a:xfrm>
          <a:custGeom>
            <a:avLst/>
            <a:gdLst/>
            <a:ahLst/>
            <a:rect l="l" t="t" r="r" b="b"/>
            <a:pathLst>
              <a:path w="1001" h="995">
                <a:moveTo>
                  <a:pt x="1001" y="995"/>
                </a:moveTo>
                <a:lnTo>
                  <a:pt x="0" y="995"/>
                </a:lnTo>
                <a:lnTo>
                  <a:pt x="0" y="0"/>
                </a:lnTo>
                <a:lnTo>
                  <a:pt x="18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06520" y="4133880"/>
            <a:ext cx="114480" cy="11268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0"/>
                </a:moveTo>
                <a:lnTo>
                  <a:pt x="72" y="36"/>
                </a:lnTo>
                <a:lnTo>
                  <a:pt x="0" y="7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89760" y="4191120"/>
            <a:ext cx="1487520" cy="1579320"/>
          </a:xfrm>
          <a:custGeom>
            <a:avLst/>
            <a:gdLst/>
            <a:ahLst/>
            <a:rect l="l" t="t" r="r" b="b"/>
            <a:pathLst>
              <a:path w="937" h="995">
                <a:moveTo>
                  <a:pt x="687" y="0"/>
                </a:moveTo>
                <a:lnTo>
                  <a:pt x="937" y="0"/>
                </a:lnTo>
                <a:lnTo>
                  <a:pt x="937" y="995"/>
                </a:lnTo>
                <a:lnTo>
                  <a:pt x="0" y="99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87880" y="5713560"/>
            <a:ext cx="114480" cy="114120"/>
          </a:xfrm>
          <a:custGeom>
            <a:avLst/>
            <a:gdLst/>
            <a:ahLst/>
            <a:rect l="l" t="t" r="r" b="b"/>
            <a:pathLst>
              <a:path w="72" h="72">
                <a:moveTo>
                  <a:pt x="72" y="72"/>
                </a:moveTo>
                <a:lnTo>
                  <a:pt x="0" y="36"/>
                </a:lnTo>
                <a:lnTo>
                  <a:pt x="72" y="0"/>
                </a:lnTo>
                <a:lnTo>
                  <a:pt x="72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29000" y="2617920"/>
            <a:ext cx="183960" cy="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47720" y="2610000"/>
            <a:ext cx="18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24760" y="5618160"/>
            <a:ext cx="75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tches Basados en Multiplex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4080" y="170028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tch nega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transparente cuando CLK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2560" y="1700280"/>
            <a:ext cx="38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tch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transparente cuando CLK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91040" y="5216400"/>
            <a:ext cx="45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46240" y="2930400"/>
            <a:ext cx="1735200" cy="1032120"/>
          </a:xfrm>
          <a:custGeom>
            <a:avLst/>
            <a:gdLst/>
            <a:ahLst/>
            <a:rect l="l" t="t" r="r" b="b"/>
            <a:pathLst>
              <a:path w="1093" h="650">
                <a:moveTo>
                  <a:pt x="1093" y="650"/>
                </a:moveTo>
                <a:lnTo>
                  <a:pt x="1093" y="0"/>
                </a:lnTo>
                <a:lnTo>
                  <a:pt x="0" y="0"/>
                </a:lnTo>
                <a:lnTo>
                  <a:pt x="0" y="527"/>
                </a:lnTo>
                <a:lnTo>
                  <a:pt x="335" y="527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38360" y="3703680"/>
            <a:ext cx="210960" cy="13320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95360" y="3962520"/>
            <a:ext cx="1203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052280" y="4478400"/>
            <a:ext cx="625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38360" y="4414680"/>
            <a:ext cx="210960" cy="12564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13" y="5"/>
                  <a:pt x="13" y="5"/>
                  <a:pt x="13" y="5"/>
                </a:cubicBezTo>
                <a:cubicBezTo>
                  <a:pt x="18" y="6"/>
                  <a:pt x="22" y="7"/>
                  <a:pt x="27" y="8"/>
                </a:cubicBezTo>
                <a:cubicBezTo>
                  <a:pt x="22" y="9"/>
                  <a:pt x="18" y="10"/>
                  <a:pt x="13" y="1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49320" y="3259080"/>
            <a:ext cx="446040" cy="1577880"/>
          </a:xfrm>
          <a:custGeom>
            <a:avLst/>
            <a:gdLst/>
            <a:ahLst/>
            <a:rect l="l" t="t" r="r" b="b"/>
            <a:pathLst>
              <a:path w="281" h="994">
                <a:moveTo>
                  <a:pt x="0" y="994"/>
                </a:moveTo>
                <a:lnTo>
                  <a:pt x="281" y="782"/>
                </a:lnTo>
                <a:lnTo>
                  <a:pt x="281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49320" y="3259080"/>
            <a:ext cx="446040" cy="1577880"/>
          </a:xfrm>
          <a:custGeom>
            <a:avLst/>
            <a:gdLst/>
            <a:ahLst/>
            <a:rect l="l" t="t" r="r" b="b"/>
            <a:pathLst>
              <a:path w="281" h="994">
                <a:moveTo>
                  <a:pt x="0" y="994"/>
                </a:moveTo>
                <a:lnTo>
                  <a:pt x="281" y="782"/>
                </a:lnTo>
                <a:lnTo>
                  <a:pt x="281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68560" y="4836960"/>
            <a:ext cx="1440" cy="532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06640" y="4673520"/>
            <a:ext cx="133200" cy="203400"/>
          </a:xfrm>
          <a:custGeom>
            <a:avLst/>
            <a:gdLst/>
            <a:ahLst/>
            <a:rect l="l" t="t" r="r" b="b"/>
            <a:pathLst>
              <a:path w="17" h="26">
                <a:moveTo>
                  <a:pt x="8" y="22"/>
                </a:move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9"/>
                  <a:pt x="7" y="4"/>
                  <a:pt x="8" y="0"/>
                </a:cubicBezTo>
                <a:cubicBezTo>
                  <a:pt x="9" y="4"/>
                  <a:pt x="10" y="9"/>
                  <a:pt x="11" y="13"/>
                </a:cubicBezTo>
                <a:cubicBezTo>
                  <a:pt x="17" y="26"/>
                  <a:pt x="17" y="26"/>
                  <a:pt x="17" y="26"/>
                </a:cubicBezTo>
                <a:cubicBezTo>
                  <a:pt x="16" y="26"/>
                  <a:pt x="16" y="26"/>
                  <a:pt x="16" y="26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43640" y="36291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43640" y="43369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9240" y="4336920"/>
            <a:ext cx="18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75640" y="357516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791320" y="2854440"/>
            <a:ext cx="1734840" cy="1031760"/>
          </a:xfrm>
          <a:custGeom>
            <a:avLst/>
            <a:gdLst/>
            <a:ahLst/>
            <a:rect l="l" t="t" r="r" b="b"/>
            <a:pathLst>
              <a:path w="1093" h="650">
                <a:moveTo>
                  <a:pt x="1093" y="650"/>
                </a:moveTo>
                <a:lnTo>
                  <a:pt x="1093" y="0"/>
                </a:lnTo>
                <a:lnTo>
                  <a:pt x="0" y="0"/>
                </a:lnTo>
                <a:lnTo>
                  <a:pt x="0" y="527"/>
                </a:lnTo>
                <a:lnTo>
                  <a:pt x="335" y="527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84880" y="3627360"/>
            <a:ext cx="209520" cy="133560"/>
          </a:xfrm>
          <a:custGeom>
            <a:avLst/>
            <a:gdLst/>
            <a:ahLst/>
            <a:rect l="l" t="t" r="r" b="b"/>
            <a:pathLst>
              <a:path w="27" h="17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40440" y="3886200"/>
            <a:ext cx="1203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697360" y="4402080"/>
            <a:ext cx="6256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84880" y="4338720"/>
            <a:ext cx="209520" cy="125280"/>
          </a:xfrm>
          <a:custGeom>
            <a:avLst/>
            <a:gdLst/>
            <a:ahLst/>
            <a:rect l="l" t="t" r="r" b="b"/>
            <a:pathLst>
              <a:path w="27" h="16">
                <a:moveTo>
                  <a:pt x="5" y="8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4" y="5"/>
                  <a:pt x="14" y="5"/>
                  <a:pt x="14" y="5"/>
                </a:cubicBezTo>
                <a:cubicBezTo>
                  <a:pt x="18" y="6"/>
                  <a:pt x="23" y="7"/>
                  <a:pt x="27" y="8"/>
                </a:cubicBezTo>
                <a:cubicBezTo>
                  <a:pt x="23" y="9"/>
                  <a:pt x="18" y="10"/>
                  <a:pt x="14" y="11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6"/>
                  <a:pt x="0" y="16"/>
                </a:cubicBezTo>
                <a:lnTo>
                  <a:pt x="5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94400" y="3182760"/>
            <a:ext cx="453960" cy="1578240"/>
          </a:xfrm>
          <a:custGeom>
            <a:avLst/>
            <a:gdLst/>
            <a:ahLst/>
            <a:rect l="l" t="t" r="r" b="b"/>
            <a:pathLst>
              <a:path w="286" h="994">
                <a:moveTo>
                  <a:pt x="0" y="994"/>
                </a:moveTo>
                <a:lnTo>
                  <a:pt x="286" y="782"/>
                </a:lnTo>
                <a:lnTo>
                  <a:pt x="286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94400" y="3182760"/>
            <a:ext cx="453960" cy="1578240"/>
          </a:xfrm>
          <a:custGeom>
            <a:avLst/>
            <a:gdLst/>
            <a:ahLst/>
            <a:rect l="l" t="t" r="r" b="b"/>
            <a:pathLst>
              <a:path w="286" h="994">
                <a:moveTo>
                  <a:pt x="0" y="994"/>
                </a:moveTo>
                <a:lnTo>
                  <a:pt x="286" y="782"/>
                </a:lnTo>
                <a:lnTo>
                  <a:pt x="286" y="206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21560" y="4761000"/>
            <a:ext cx="144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59640" y="4597560"/>
            <a:ext cx="125280" cy="203040"/>
          </a:xfrm>
          <a:custGeom>
            <a:avLst/>
            <a:gdLst/>
            <a:ahLst/>
            <a:rect l="l" t="t" r="r" b="b"/>
            <a:pathLst>
              <a:path w="16" h="26">
                <a:moveTo>
                  <a:pt x="8" y="22"/>
                </a:move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9"/>
                  <a:pt x="7" y="4"/>
                  <a:pt x="8" y="0"/>
                </a:cubicBezTo>
                <a:cubicBezTo>
                  <a:pt x="9" y="4"/>
                  <a:pt x="10" y="9"/>
                  <a:pt x="11" y="13"/>
                </a:cubicBezTo>
                <a:cubicBezTo>
                  <a:pt x="16" y="26"/>
                  <a:pt x="16" y="26"/>
                  <a:pt x="16" y="26"/>
                </a:cubicBezTo>
                <a:cubicBezTo>
                  <a:pt x="16" y="26"/>
                  <a:pt x="16" y="26"/>
                  <a:pt x="16" y="26"/>
                </a:cubicBezTo>
                <a:lnTo>
                  <a:pt x="8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90160" y="355284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39000" y="5140440"/>
            <a:ext cx="45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90160" y="42609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yriad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07560" y="4260960"/>
            <a:ext cx="186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923960" y="349884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yriad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7520" y="5697360"/>
                <a:ext cx="2514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lk</m:t>
                        </m:r>
                      </m:e>
                    </m:ba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l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180040" y="5673600"/>
                <a:ext cx="2514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lk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lk</m:t>
                        </m:r>
                      </m:e>
                    </m:ba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gistro Maestro – Escla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57200" y="2017800"/>
            <a:ext cx="7891560" cy="26766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34160" y="5084640"/>
            <a:ext cx="496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s latches opuestos gatillan en el c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lamado par de latches maestro – escla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ip Flop SR Basado en N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15800" y="2527200"/>
            <a:ext cx="8245440" cy="2264400"/>
            <a:chOff x="415800" y="2527200"/>
            <a:chExt cx="8245440" cy="2264400"/>
          </a:xfrm>
        </p:grpSpPr>
        <p:sp>
          <p:nvSpPr>
            <p:cNvPr id="349" name=""/>
            <p:cNvSpPr/>
            <p:nvPr/>
          </p:nvSpPr>
          <p:spPr>
            <a:xfrm>
              <a:off x="654120" y="2527200"/>
              <a:ext cx="1412640" cy="1990800"/>
            </a:xfrm>
            <a:custGeom>
              <a:avLst/>
              <a:gdLst/>
              <a:ahLst/>
              <a:rect l="l" t="t" r="r" b="b"/>
              <a:pathLst>
                <a:path w="227" h="320">
                  <a:moveTo>
                    <a:pt x="227" y="284"/>
                  </a:moveTo>
                  <a:cubicBezTo>
                    <a:pt x="227" y="304"/>
                    <a:pt x="210" y="320"/>
                    <a:pt x="191" y="320"/>
                  </a:cubicBezTo>
                  <a:cubicBezTo>
                    <a:pt x="36" y="320"/>
                    <a:pt x="36" y="320"/>
                    <a:pt x="36" y="320"/>
                  </a:cubicBezTo>
                  <a:cubicBezTo>
                    <a:pt x="16" y="320"/>
                    <a:pt x="0" y="304"/>
                    <a:pt x="0" y="284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6"/>
                    <a:pt x="16" y="0"/>
                    <a:pt x="36" y="0"/>
                  </a:cubicBezTo>
                  <a:cubicBezTo>
                    <a:pt x="191" y="0"/>
                    <a:pt x="191" y="0"/>
                    <a:pt x="191" y="0"/>
                  </a:cubicBezTo>
                  <a:cubicBezTo>
                    <a:pt x="210" y="0"/>
                    <a:pt x="227" y="16"/>
                    <a:pt x="227" y="36"/>
                  </a:cubicBezTo>
                  <a:lnTo>
                    <a:pt x="227" y="28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13880" y="4486320"/>
              <a:ext cx="1911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stado prohibi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24040" y="2919240"/>
              <a:ext cx="87120" cy="87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84320" y="2676600"/>
              <a:ext cx="633240" cy="571320"/>
            </a:xfrm>
            <a:custGeom>
              <a:avLst/>
              <a:gdLst/>
              <a:ahLst/>
              <a:rect l="l" t="t" r="r" b="b"/>
              <a:pathLst>
                <a:path w="102" h="92">
                  <a:moveTo>
                    <a:pt x="0" y="6"/>
                  </a:moveTo>
                  <a:cubicBezTo>
                    <a:pt x="12" y="5"/>
                    <a:pt x="78" y="0"/>
                    <a:pt x="102" y="46"/>
                  </a:cubicBezTo>
                  <a:cubicBezTo>
                    <a:pt x="78" y="92"/>
                    <a:pt x="12" y="87"/>
                    <a:pt x="0" y="87"/>
                  </a:cubicBezTo>
                  <a:cubicBezTo>
                    <a:pt x="4" y="79"/>
                    <a:pt x="7" y="64"/>
                    <a:pt x="7" y="46"/>
                  </a:cubicBezTo>
                  <a:cubicBezTo>
                    <a:pt x="7" y="29"/>
                    <a:pt x="4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85720" y="2832120"/>
              <a:ext cx="534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2000" y="3092400"/>
              <a:ext cx="3225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810800" y="2962440"/>
              <a:ext cx="498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47960" y="292572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8840" y="27208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49720" y="3224160"/>
              <a:ext cx="534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99160" y="31129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49720" y="3691080"/>
              <a:ext cx="534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4735440" y="3224160"/>
              <a:ext cx="534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4735440" y="3691080"/>
              <a:ext cx="534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97720" y="35766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65880" y="31129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05160" y="28526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78160" y="2862360"/>
              <a:ext cx="136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65880" y="3576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37080" y="3584520"/>
              <a:ext cx="1429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776000" y="2597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40160" y="259704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50840" y="25970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42720" y="259704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12120" y="2602080"/>
              <a:ext cx="14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776000" y="3075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41240" y="3075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50840" y="3075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42720" y="3075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12120" y="3081240"/>
              <a:ext cx="1443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636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4124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5084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43080" y="34131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7636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4124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5084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43080" y="3751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7636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4124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5084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443080" y="403236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24040" y="3963960"/>
              <a:ext cx="87120" cy="87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84320" y="3720960"/>
              <a:ext cx="633240" cy="573120"/>
            </a:xfrm>
            <a:custGeom>
              <a:avLst/>
              <a:gdLst/>
              <a:ahLst/>
              <a:rect l="l" t="t" r="r" b="b"/>
              <a:pathLst>
                <a:path w="102" h="92">
                  <a:moveTo>
                    <a:pt x="0" y="6"/>
                  </a:moveTo>
                  <a:cubicBezTo>
                    <a:pt x="12" y="5"/>
                    <a:pt x="78" y="0"/>
                    <a:pt x="102" y="46"/>
                  </a:cubicBezTo>
                  <a:cubicBezTo>
                    <a:pt x="78" y="92"/>
                    <a:pt x="12" y="87"/>
                    <a:pt x="0" y="87"/>
                  </a:cubicBezTo>
                  <a:cubicBezTo>
                    <a:pt x="4" y="79"/>
                    <a:pt x="7" y="64"/>
                    <a:pt x="7" y="46"/>
                  </a:cubicBezTo>
                  <a:cubicBezTo>
                    <a:pt x="7" y="29"/>
                    <a:pt x="4" y="14"/>
                    <a:pt x="0" y="6"/>
                  </a:cubicBez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91640" y="3882960"/>
              <a:ext cx="328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85360" y="4138560"/>
              <a:ext cx="528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1810800" y="4008600"/>
              <a:ext cx="4986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47960" y="3970440"/>
              <a:ext cx="74520" cy="74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5800" y="402732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405160" y="38988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2000" y="3000240"/>
              <a:ext cx="1194120" cy="882720"/>
            </a:xfrm>
            <a:custGeom>
              <a:avLst/>
              <a:gdLst/>
              <a:ahLst/>
              <a:rect l="l" t="t" r="r" b="b"/>
              <a:pathLst>
                <a:path w="752" h="556">
                  <a:moveTo>
                    <a:pt x="752" y="0"/>
                  </a:moveTo>
                  <a:lnTo>
                    <a:pt x="752" y="196"/>
                  </a:lnTo>
                  <a:lnTo>
                    <a:pt x="0" y="364"/>
                  </a:lnTo>
                  <a:lnTo>
                    <a:pt x="0" y="5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2000" y="3092400"/>
              <a:ext cx="1194120" cy="878040"/>
            </a:xfrm>
            <a:custGeom>
              <a:avLst/>
              <a:gdLst/>
              <a:ahLst/>
              <a:rect l="l" t="t" r="r" b="b"/>
              <a:pathLst>
                <a:path w="752" h="553">
                  <a:moveTo>
                    <a:pt x="0" y="0"/>
                  </a:moveTo>
                  <a:lnTo>
                    <a:pt x="0" y="192"/>
                  </a:lnTo>
                  <a:lnTo>
                    <a:pt x="752" y="361"/>
                  </a:lnTo>
                  <a:lnTo>
                    <a:pt x="752" y="5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4680" y="2975040"/>
              <a:ext cx="950760" cy="96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46800" y="4002120"/>
              <a:ext cx="2314440" cy="29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46800" y="2932200"/>
              <a:ext cx="2314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504200" y="2595600"/>
              <a:ext cx="1440" cy="17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5587920" y="4238280"/>
              <a:ext cx="64152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191280" y="4206960"/>
              <a:ext cx="125280" cy="7452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5" y="5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3" y="1"/>
                    <a:pt x="17" y="1"/>
                    <a:pt x="20" y="0"/>
                  </a:cubicBezTo>
                  <a:cubicBezTo>
                    <a:pt x="17" y="2"/>
                    <a:pt x="14" y="4"/>
                    <a:pt x="11" y="5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ip Flop SR Basado en N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990720" y="2689200"/>
            <a:ext cx="2300040" cy="1700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3733920" y="2003400"/>
            <a:ext cx="4495680" cy="3710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877640" y="161136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 rel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8-29T15:02:25Z</dcterms:modified>
  <cp:revision>234</cp:revision>
  <dc:subject/>
  <dc:title>EL 6XX</dc:title>
</cp:coreProperties>
</file>