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5AC1-E876-4C96-93BB-1D2AE4E3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287FC-6C94-4615-89D6-9B54D859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3AF1-0844-458E-A324-961DC5BA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E153-58BF-41AB-BA74-9AE87985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1B0C-10D0-4E9E-96CC-BC604D45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3D1F-E711-409C-9DC7-69AF5F64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8E88-9ED5-47DB-9676-12969F67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0508-36A1-4661-AE44-9249D100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6DBB-0B3F-4179-B8CE-3F0F799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B5C5-5A26-4134-89E5-3FB6AB9D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003C-7D11-4BA1-924E-C479236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365E-ED28-47A3-B11F-BC4318DE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928B-9DF1-498F-976A-45523B6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FC7C-10C7-4CBF-874A-2C48E39A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B919-91B0-46E8-AEF7-1E6D0153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4460-340E-485E-AA55-F2510D0A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273B-009C-4A42-928E-C27BBD18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5661-2502-4970-8747-A53A6A9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2E93-1494-41C7-8876-FA37BB9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A5DC0-202B-4AAF-A763-9214E4BC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32D9-046F-4102-B859-82594940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E8BF-3788-4E21-95BF-1481EFC7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DAA7-84A0-41D5-AF6D-D5066415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990A-ACC8-4104-BD20-BAF212D2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1452-3040-4B57-BBEB-E41BCF08605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9F1C-FAA6-4A8A-B078-62BB166EE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3C38-FE2F-4249-9EF7-8463121A8CE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353C-C1C5-4E29-B9C7-055B95852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Secuen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ógica Secu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oore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652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724360" y="371628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ealy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308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48360" y="3860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24360" y="3500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72436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618920" y="2637000"/>
            <a:ext cx="410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1928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724360" y="386028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– Flop Tipo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63640" y="2997360"/>
            <a:ext cx="936720" cy="122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63640" y="378936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763640" y="3931920"/>
            <a:ext cx="144360" cy="14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036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0036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000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908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2108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1080" y="3710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92360" y="3716280"/>
            <a:ext cx="216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5219640" y="2692440"/>
          <a:ext cx="1728720" cy="1928880"/>
        </p:xfrm>
        <a:graphic>
          <a:graphicData uri="http://schemas.openxmlformats.org/drawingml/2006/table">
            <a:tbl>
              <a:tblPr/>
              <a:tblGrid>
                <a:gridCol w="384120"/>
                <a:gridCol w="432000"/>
                <a:gridCol w="480960"/>
                <a:gridCol w="43164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658800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6108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61080" y="429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050920" y="1776240"/>
          <a:ext cx="2256120" cy="4100760"/>
        </p:xfrm>
        <a:graphic>
          <a:graphicData uri="http://schemas.openxmlformats.org/drawingml/2006/table">
            <a:tbl>
              <a:tblPr/>
              <a:tblGrid>
                <a:gridCol w="887400"/>
                <a:gridCol w="136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5127480" y="2800440"/>
            <a:ext cx="31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próximo estado d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88000" y="270180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3214800"/>
            <a:ext cx="66600" cy="9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788000" y="3306240"/>
            <a:ext cx="66600" cy="9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385272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88000" y="4365720"/>
            <a:ext cx="6660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788000" y="4457880"/>
            <a:ext cx="6660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86200" y="5005440"/>
            <a:ext cx="43200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86200" y="5518080"/>
            <a:ext cx="6696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786200" y="5610240"/>
            <a:ext cx="6696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291780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19640" y="407052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19640" y="52214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74000" y="272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94880" y="3846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17200" y="5005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40000" y="2701800"/>
            <a:ext cx="1152360" cy="316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492360" y="2917800"/>
            <a:ext cx="129564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492360" y="4070160"/>
            <a:ext cx="129564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492360" y="5221440"/>
            <a:ext cx="12956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00720" y="3278160"/>
            <a:ext cx="0" cy="27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2781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0720" y="44290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558180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29440" y="5942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74840" y="26290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95360" y="3754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7680" y="49132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651640" y="22698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34920" y="2270160"/>
            <a:ext cx="381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35280" y="227016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35280" y="313380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012000" y="19098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547280" y="1909800"/>
            <a:ext cx="44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47640" y="1909800"/>
            <a:ext cx="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392580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372360" y="154944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186920" y="1549440"/>
            <a:ext cx="518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87280" y="1549440"/>
            <a:ext cx="0" cy="30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87280" y="457344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apas de Karnaugh del Contador 3 B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1897200" cy="1242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187280" y="3201840"/>
            <a:ext cx="1897200" cy="12463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1189080" y="4491000"/>
            <a:ext cx="1897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851280" y="2637000"/>
                <a:ext cx="2808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3860640"/>
                <a:ext cx="1728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851280" y="5229360"/>
                <a:ext cx="936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5851800" y="524844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: Dibuje el 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468360" y="888840"/>
            <a:ext cx="80643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counter_state (clk,stat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2:0] 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ire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[2:0] state,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tate0=3'b0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1=3'b0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2=3'b0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3=3'b0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4=3'b1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5=3'b1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6=3'b1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7=3'b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0] = (state[0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state[0] &amp;&amp; !state[1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0] &amp;&amp; 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1] = (state[1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2] = !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ógica Secuencial – Máquina de Estado Finito (F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quina de Estado Fi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08000" y="1952640"/>
          <a:ext cx="52293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52640"/>
                    <a:ext cx="52293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SM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combin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secu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gn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ombinaciones posibles para codificar s estados usando m variables es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! /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s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un método que permita determinar antes cual es la mejor asign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directrices que ayudan a resolver est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buena práctica de dar un significado a la inicialización de la máquina de estado. El estado de inicio puede ser codificado con puros ceros o puros u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la secuencia normal de cuenta para otros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minimizar el número de bits que cambian entre un estado y otro (código G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estados pueden tener significados particulares, de modo que una variable se setea en un estado y no en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una variable por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Hot (un solo bit con valor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Cold (un solo bit con val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68360" y="836640"/>
            <a:ext cx="806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_full(clock,reset,req_0,req_1,req_2,req_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_0,gnt_1,gnt_2,gnt_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clock,reset,req_0,req_1,req_2,req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 [2:0]  IDLE  = 3'b00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0  = 3'b00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1  = 3'b01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2  = 3'b01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3  = 3'b1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[2:0] state, next_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68360" y="836640"/>
            <a:ext cx="5759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req_0 or req_1 or req_2 or req_3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if (req_0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1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2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3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if (req_0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if (req_1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56000" y="3573360"/>
            <a:ext cx="439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if (req_2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if (req_3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68360" y="836640"/>
            <a:ext cx="5759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2637000"/>
            <a:ext cx="41752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79280" y="1738440"/>
            <a:ext cx="3889440" cy="3130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2849400" y="3519360"/>
            <a:ext cx="6115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étricas Temporales para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35000" y="23464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19600" y="309096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3320" y="22669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43720" y="28684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6320" y="2595600"/>
            <a:ext cx="26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5000" y="2484360"/>
            <a:ext cx="4626000" cy="638280"/>
          </a:xfrm>
          <a:custGeom>
            <a:avLst/>
            <a:gdLst/>
            <a:ahLst/>
            <a:rect l="l" t="t" r="r" b="b"/>
            <a:pathLst>
              <a:path w="2914" h="402">
                <a:moveTo>
                  <a:pt x="2914" y="402"/>
                </a:moveTo>
                <a:lnTo>
                  <a:pt x="2688" y="402"/>
                </a:lnTo>
                <a:lnTo>
                  <a:pt x="2565" y="0"/>
                </a:lnTo>
                <a:lnTo>
                  <a:pt x="1416" y="0"/>
                </a:lnTo>
                <a:lnTo>
                  <a:pt x="1292" y="402"/>
                </a:lnTo>
                <a:lnTo>
                  <a:pt x="340" y="402"/>
                </a:lnTo>
                <a:lnTo>
                  <a:pt x="217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333540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40798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3320" y="3255840"/>
            <a:ext cx="63360" cy="1047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43720" y="38577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4480" y="35845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09920" y="41562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61760" y="424188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8520" y="42577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thematicalPi 1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82800" y="42418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26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64200" y="3209760"/>
            <a:ext cx="25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05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7880" y="32097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5000" y="43498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19600" y="5089680"/>
            <a:ext cx="104760" cy="68040"/>
          </a:xfrm>
          <a:custGeom>
            <a:avLst/>
            <a:gdLst/>
            <a:ahLst/>
            <a:rect l="l" t="t" r="r" b="b"/>
            <a:pathLst>
              <a:path w="20" h="13">
                <a:moveTo>
                  <a:pt x="4" y="7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7"/>
                </a:cubicBezTo>
                <a:cubicBezTo>
                  <a:pt x="17" y="7"/>
                  <a:pt x="13" y="8"/>
                  <a:pt x="10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3320" y="42703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6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3"/>
                  <a:pt x="6" y="0"/>
                </a:cubicBezTo>
                <a:cubicBezTo>
                  <a:pt x="7" y="3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43720" y="4870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45975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13320" y="466740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34120" y="485784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40984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35000" y="3514680"/>
            <a:ext cx="4673520" cy="596880"/>
          </a:xfrm>
          <a:custGeom>
            <a:avLst/>
            <a:gdLst/>
            <a:ahLst/>
            <a:rect l="l" t="t" r="r" b="b"/>
            <a:pathLst>
              <a:path w="2944" h="376">
                <a:moveTo>
                  <a:pt x="2944" y="0"/>
                </a:moveTo>
                <a:lnTo>
                  <a:pt x="1825" y="0"/>
                </a:lnTo>
                <a:lnTo>
                  <a:pt x="1639" y="376"/>
                </a:lnTo>
                <a:lnTo>
                  <a:pt x="956" y="376"/>
                </a:lnTo>
                <a:lnTo>
                  <a:pt x="770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35000" y="3514680"/>
            <a:ext cx="4621320" cy="596880"/>
          </a:xfrm>
          <a:custGeom>
            <a:avLst/>
            <a:gdLst/>
            <a:ahLst/>
            <a:rect l="l" t="t" r="r" b="b"/>
            <a:pathLst>
              <a:path w="2911" h="376">
                <a:moveTo>
                  <a:pt x="2911" y="376"/>
                </a:moveTo>
                <a:lnTo>
                  <a:pt x="1815" y="376"/>
                </a:lnTo>
                <a:lnTo>
                  <a:pt x="1629" y="0"/>
                </a:lnTo>
                <a:lnTo>
                  <a:pt x="963" y="0"/>
                </a:lnTo>
                <a:lnTo>
                  <a:pt x="776" y="376"/>
                </a:lnTo>
                <a:lnTo>
                  <a:pt x="0" y="37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8000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76640" y="2827080"/>
            <a:ext cx="1440" cy="22986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3398760"/>
            <a:ext cx="6177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33670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6"/>
                </a:cubicBezTo>
                <a:cubicBezTo>
                  <a:pt x="17" y="7"/>
                  <a:pt x="13" y="8"/>
                  <a:pt x="1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98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1160" y="3398760"/>
            <a:ext cx="449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73440" y="3367080"/>
            <a:ext cx="1065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6" y="6"/>
                  <a:pt x="20" y="6"/>
                </a:cubicBezTo>
                <a:cubicBezTo>
                  <a:pt x="16" y="7"/>
                  <a:pt x="13" y="8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766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995640" y="4424400"/>
            <a:ext cx="1800" cy="4428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1160" y="4424400"/>
            <a:ext cx="671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9556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3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3"/>
                  <a:pt x="9" y="3"/>
                  <a:pt x="9" y="3"/>
                </a:cubicBezTo>
                <a:cubicBezTo>
                  <a:pt x="13" y="4"/>
                  <a:pt x="16" y="5"/>
                  <a:pt x="19" y="6"/>
                </a:cubicBezTo>
                <a:cubicBezTo>
                  <a:pt x="16" y="6"/>
                  <a:pt x="13" y="7"/>
                  <a:pt x="9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7664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16" y="6"/>
                </a:move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7"/>
                  <a:pt x="3" y="6"/>
                  <a:pt x="0" y="6"/>
                </a:cubicBezTo>
                <a:cubicBezTo>
                  <a:pt x="3" y="5"/>
                  <a:pt x="6" y="4"/>
                  <a:pt x="1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5000" y="4608360"/>
            <a:ext cx="4673520" cy="517680"/>
          </a:xfrm>
          <a:custGeom>
            <a:avLst/>
            <a:gdLst/>
            <a:ahLst/>
            <a:rect l="l" t="t" r="r" b="b"/>
            <a:pathLst>
              <a:path w="2944" h="326">
                <a:moveTo>
                  <a:pt x="2944" y="0"/>
                </a:moveTo>
                <a:lnTo>
                  <a:pt x="1909" y="0"/>
                </a:lnTo>
                <a:lnTo>
                  <a:pt x="1825" y="326"/>
                </a:lnTo>
                <a:lnTo>
                  <a:pt x="1589" y="326"/>
                </a:lnTo>
                <a:lnTo>
                  <a:pt x="1506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35000" y="4608360"/>
            <a:ext cx="4605480" cy="517680"/>
          </a:xfrm>
          <a:custGeom>
            <a:avLst/>
            <a:gdLst/>
            <a:ahLst/>
            <a:rect l="l" t="t" r="r" b="b"/>
            <a:pathLst>
              <a:path w="2901" h="326">
                <a:moveTo>
                  <a:pt x="2901" y="326"/>
                </a:moveTo>
                <a:lnTo>
                  <a:pt x="1909" y="326"/>
                </a:lnTo>
                <a:lnTo>
                  <a:pt x="1825" y="0"/>
                </a:lnTo>
                <a:lnTo>
                  <a:pt x="1589" y="0"/>
                </a:lnTo>
                <a:lnTo>
                  <a:pt x="1506" y="326"/>
                </a:lnTo>
                <a:lnTo>
                  <a:pt x="0" y="32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53000" y="361332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3440" y="380052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04960" y="3181320"/>
            <a:ext cx="63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Ten Roman"/>
              </a:rPr>
              <a:t>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39840" y="40273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8400" y="3432240"/>
            <a:ext cx="11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98600" y="3432240"/>
            <a:ext cx="1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458120" y="3997440"/>
            <a:ext cx="1440" cy="19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16720" y="3897360"/>
            <a:ext cx="84240" cy="14292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3141720"/>
            <a:ext cx="877680" cy="755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3745080"/>
            <a:ext cx="306360" cy="152280"/>
          </a:xfrm>
          <a:custGeom>
            <a:avLst/>
            <a:gdLst/>
            <a:ahLst/>
            <a:rect l="l" t="t" r="r" b="b"/>
            <a:pathLst>
              <a:path w="193" h="96">
                <a:moveTo>
                  <a:pt x="193" y="96"/>
                </a:moveTo>
                <a:lnTo>
                  <a:pt x="96" y="0"/>
                </a:lnTo>
                <a:lnTo>
                  <a:pt x="0" y="96"/>
                </a:lnTo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1824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1760" y="3484440"/>
            <a:ext cx="138240" cy="85680"/>
          </a:xfrm>
          <a:custGeom>
            <a:avLst/>
            <a:gdLst/>
            <a:ahLst/>
            <a:rect l="l" t="t" r="r" b="b"/>
            <a:pathLst>
              <a:path w="26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7" y="10"/>
                  <a:pt x="22" y="9"/>
                  <a:pt x="26" y="8"/>
                </a:cubicBezTo>
                <a:cubicBezTo>
                  <a:pt x="22" y="7"/>
                  <a:pt x="17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9768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61200" y="3484440"/>
            <a:ext cx="142920" cy="856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8" y="10"/>
                  <a:pt x="22" y="9"/>
                  <a:pt x="27" y="8"/>
                </a:cubicBezTo>
                <a:cubicBezTo>
                  <a:pt x="22" y="7"/>
                  <a:pt x="18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68360" y="836640"/>
            <a:ext cx="539892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dule traffic1(clock,auto,principal,secondar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ock,au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,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fin_timer,inicio_tim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 GREEN = 1'b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auto or fin_timer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auto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fin_timer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64000" y="907920"/>
            <a:ext cx="3816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cio_timer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un detector de paridad en que los datos llegan de a un bit por ciclo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atos se agrupan en paquetes de cuatro donde el cuarto bit es el de pa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 número de 1s en los tres primeros bits es impar el cuarto bit será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paridad está incorrecta, una señal de error es levantada durante el cuarto ciclo de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a un reset asíncrono que deje la máquina de estados en el estado inicial 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olvide de inicializar las señales y/o variables neces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e la máquina de estados correspondiente y escriba el archivo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tches vs. Regis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994040"/>
            <a:ext cx="4152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Latch: guarda los datos cuando el reloj (CLK) esta en nivel al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54280" y="3081240"/>
            <a:ext cx="98100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2640" y="3271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35240" y="393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33098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31186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7393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14880" y="31186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73720" y="3043080"/>
            <a:ext cx="89064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2080" y="32338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54680" y="38941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32716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00720" y="37011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4216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67600" y="3821040"/>
            <a:ext cx="133200" cy="85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270480" y="3897000"/>
            <a:ext cx="125640" cy="9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92560" y="1994040"/>
            <a:ext cx="3594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Registro: guarda los datos cuando el reloj (CLK) s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0574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146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4290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8862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8288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2004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57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786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00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6167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199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4771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343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3915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8487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7913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487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0199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57862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487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449028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449028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51760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50997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578556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855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con La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84920" y="3002040"/>
            <a:ext cx="180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3252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1916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N es transparent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1916280"/>
            <a:ext cx="35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P es transparente cuando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21000" y="3400560"/>
            <a:ext cx="79524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13320" y="3795840"/>
            <a:ext cx="2374560" cy="788760"/>
          </a:xfrm>
          <a:custGeom>
            <a:avLst/>
            <a:gdLst/>
            <a:ahLst/>
            <a:rect l="l" t="t" r="r" b="b"/>
            <a:pathLst>
              <a:path w="1496" h="497">
                <a:moveTo>
                  <a:pt x="0" y="249"/>
                </a:moveTo>
                <a:lnTo>
                  <a:pt x="4" y="221"/>
                </a:lnTo>
                <a:lnTo>
                  <a:pt x="16" y="196"/>
                </a:lnTo>
                <a:lnTo>
                  <a:pt x="35" y="171"/>
                </a:lnTo>
                <a:lnTo>
                  <a:pt x="63" y="147"/>
                </a:lnTo>
                <a:lnTo>
                  <a:pt x="99" y="124"/>
                </a:lnTo>
                <a:lnTo>
                  <a:pt x="141" y="101"/>
                </a:lnTo>
                <a:lnTo>
                  <a:pt x="192" y="82"/>
                </a:lnTo>
                <a:lnTo>
                  <a:pt x="247" y="63"/>
                </a:lnTo>
                <a:lnTo>
                  <a:pt x="308" y="46"/>
                </a:lnTo>
                <a:lnTo>
                  <a:pt x="374" y="31"/>
                </a:lnTo>
                <a:lnTo>
                  <a:pt x="444" y="21"/>
                </a:lnTo>
                <a:lnTo>
                  <a:pt x="518" y="10"/>
                </a:lnTo>
                <a:lnTo>
                  <a:pt x="592" y="4"/>
                </a:lnTo>
                <a:lnTo>
                  <a:pt x="670" y="0"/>
                </a:lnTo>
                <a:lnTo>
                  <a:pt x="748" y="0"/>
                </a:lnTo>
                <a:lnTo>
                  <a:pt x="826" y="0"/>
                </a:lnTo>
                <a:lnTo>
                  <a:pt x="904" y="4"/>
                </a:lnTo>
                <a:lnTo>
                  <a:pt x="981" y="10"/>
                </a:lnTo>
                <a:lnTo>
                  <a:pt x="1052" y="21"/>
                </a:lnTo>
                <a:lnTo>
                  <a:pt x="1122" y="31"/>
                </a:lnTo>
                <a:lnTo>
                  <a:pt x="1188" y="46"/>
                </a:lnTo>
                <a:lnTo>
                  <a:pt x="1249" y="63"/>
                </a:lnTo>
                <a:lnTo>
                  <a:pt x="1304" y="82"/>
                </a:lnTo>
                <a:lnTo>
                  <a:pt x="1355" y="101"/>
                </a:lnTo>
                <a:lnTo>
                  <a:pt x="1397" y="124"/>
                </a:lnTo>
                <a:lnTo>
                  <a:pt x="1433" y="147"/>
                </a:lnTo>
                <a:lnTo>
                  <a:pt x="1461" y="171"/>
                </a:lnTo>
                <a:lnTo>
                  <a:pt x="1482" y="196"/>
                </a:lnTo>
                <a:lnTo>
                  <a:pt x="1494" y="221"/>
                </a:lnTo>
                <a:lnTo>
                  <a:pt x="1496" y="249"/>
                </a:lnTo>
                <a:lnTo>
                  <a:pt x="1494" y="274"/>
                </a:lnTo>
                <a:lnTo>
                  <a:pt x="1482" y="299"/>
                </a:lnTo>
                <a:lnTo>
                  <a:pt x="1461" y="325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4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49"/>
                </a:lnTo>
                <a:lnTo>
                  <a:pt x="1122" y="464"/>
                </a:lnTo>
                <a:lnTo>
                  <a:pt x="1052" y="476"/>
                </a:lnTo>
                <a:lnTo>
                  <a:pt x="981" y="485"/>
                </a:lnTo>
                <a:lnTo>
                  <a:pt x="904" y="491"/>
                </a:lnTo>
                <a:lnTo>
                  <a:pt x="826" y="495"/>
                </a:lnTo>
                <a:lnTo>
                  <a:pt x="748" y="497"/>
                </a:lnTo>
                <a:lnTo>
                  <a:pt x="670" y="495"/>
                </a:lnTo>
                <a:lnTo>
                  <a:pt x="592" y="491"/>
                </a:lnTo>
                <a:lnTo>
                  <a:pt x="518" y="485"/>
                </a:lnTo>
                <a:lnTo>
                  <a:pt x="444" y="476"/>
                </a:lnTo>
                <a:lnTo>
                  <a:pt x="374" y="464"/>
                </a:lnTo>
                <a:lnTo>
                  <a:pt x="308" y="449"/>
                </a:lnTo>
                <a:lnTo>
                  <a:pt x="247" y="434"/>
                </a:lnTo>
                <a:lnTo>
                  <a:pt x="192" y="415"/>
                </a:lnTo>
                <a:lnTo>
                  <a:pt x="141" y="394"/>
                </a:lnTo>
                <a:lnTo>
                  <a:pt x="99" y="373"/>
                </a:lnTo>
                <a:lnTo>
                  <a:pt x="63" y="350"/>
                </a:lnTo>
                <a:lnTo>
                  <a:pt x="35" y="325"/>
                </a:lnTo>
                <a:lnTo>
                  <a:pt x="16" y="299"/>
                </a:lnTo>
                <a:lnTo>
                  <a:pt x="4" y="274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13320" y="5375160"/>
            <a:ext cx="2374560" cy="790560"/>
          </a:xfrm>
          <a:custGeom>
            <a:avLst/>
            <a:gdLst/>
            <a:ahLst/>
            <a:rect l="l" t="t" r="r" b="b"/>
            <a:pathLst>
              <a:path w="1496" h="498">
                <a:moveTo>
                  <a:pt x="0" y="249"/>
                </a:moveTo>
                <a:lnTo>
                  <a:pt x="4" y="224"/>
                </a:lnTo>
                <a:lnTo>
                  <a:pt x="16" y="198"/>
                </a:lnTo>
                <a:lnTo>
                  <a:pt x="35" y="173"/>
                </a:lnTo>
                <a:lnTo>
                  <a:pt x="63" y="148"/>
                </a:lnTo>
                <a:lnTo>
                  <a:pt x="99" y="124"/>
                </a:lnTo>
                <a:lnTo>
                  <a:pt x="141" y="103"/>
                </a:lnTo>
                <a:lnTo>
                  <a:pt x="192" y="82"/>
                </a:lnTo>
                <a:lnTo>
                  <a:pt x="247" y="63"/>
                </a:lnTo>
                <a:lnTo>
                  <a:pt x="308" y="49"/>
                </a:lnTo>
                <a:lnTo>
                  <a:pt x="374" y="34"/>
                </a:lnTo>
                <a:lnTo>
                  <a:pt x="444" y="21"/>
                </a:lnTo>
                <a:lnTo>
                  <a:pt x="518" y="13"/>
                </a:lnTo>
                <a:lnTo>
                  <a:pt x="592" y="6"/>
                </a:lnTo>
                <a:lnTo>
                  <a:pt x="670" y="2"/>
                </a:lnTo>
                <a:lnTo>
                  <a:pt x="748" y="0"/>
                </a:lnTo>
                <a:lnTo>
                  <a:pt x="826" y="2"/>
                </a:lnTo>
                <a:lnTo>
                  <a:pt x="904" y="6"/>
                </a:lnTo>
                <a:lnTo>
                  <a:pt x="981" y="13"/>
                </a:lnTo>
                <a:lnTo>
                  <a:pt x="1052" y="21"/>
                </a:lnTo>
                <a:lnTo>
                  <a:pt x="1122" y="34"/>
                </a:lnTo>
                <a:lnTo>
                  <a:pt x="1188" y="49"/>
                </a:lnTo>
                <a:lnTo>
                  <a:pt x="1249" y="63"/>
                </a:lnTo>
                <a:lnTo>
                  <a:pt x="1304" y="82"/>
                </a:lnTo>
                <a:lnTo>
                  <a:pt x="1355" y="103"/>
                </a:lnTo>
                <a:lnTo>
                  <a:pt x="1397" y="124"/>
                </a:lnTo>
                <a:lnTo>
                  <a:pt x="1433" y="148"/>
                </a:lnTo>
                <a:lnTo>
                  <a:pt x="1461" y="173"/>
                </a:lnTo>
                <a:lnTo>
                  <a:pt x="1482" y="198"/>
                </a:lnTo>
                <a:lnTo>
                  <a:pt x="1494" y="224"/>
                </a:lnTo>
                <a:lnTo>
                  <a:pt x="1496" y="249"/>
                </a:lnTo>
                <a:lnTo>
                  <a:pt x="1494" y="276"/>
                </a:lnTo>
                <a:lnTo>
                  <a:pt x="1482" y="302"/>
                </a:lnTo>
                <a:lnTo>
                  <a:pt x="1461" y="327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6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51"/>
                </a:lnTo>
                <a:lnTo>
                  <a:pt x="1122" y="464"/>
                </a:lnTo>
                <a:lnTo>
                  <a:pt x="1052" y="477"/>
                </a:lnTo>
                <a:lnTo>
                  <a:pt x="981" y="487"/>
                </a:lnTo>
                <a:lnTo>
                  <a:pt x="904" y="493"/>
                </a:lnTo>
                <a:lnTo>
                  <a:pt x="826" y="498"/>
                </a:lnTo>
                <a:lnTo>
                  <a:pt x="748" y="498"/>
                </a:lnTo>
                <a:lnTo>
                  <a:pt x="670" y="498"/>
                </a:lnTo>
                <a:lnTo>
                  <a:pt x="592" y="493"/>
                </a:lnTo>
                <a:lnTo>
                  <a:pt x="518" y="487"/>
                </a:lnTo>
                <a:lnTo>
                  <a:pt x="444" y="477"/>
                </a:lnTo>
                <a:lnTo>
                  <a:pt x="374" y="464"/>
                </a:lnTo>
                <a:lnTo>
                  <a:pt x="308" y="451"/>
                </a:lnTo>
                <a:lnTo>
                  <a:pt x="247" y="434"/>
                </a:lnTo>
                <a:lnTo>
                  <a:pt x="192" y="415"/>
                </a:lnTo>
                <a:lnTo>
                  <a:pt x="141" y="396"/>
                </a:lnTo>
                <a:lnTo>
                  <a:pt x="99" y="373"/>
                </a:lnTo>
                <a:lnTo>
                  <a:pt x="63" y="350"/>
                </a:lnTo>
                <a:lnTo>
                  <a:pt x="35" y="327"/>
                </a:lnTo>
                <a:lnTo>
                  <a:pt x="16" y="302"/>
                </a:lnTo>
                <a:lnTo>
                  <a:pt x="4" y="276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4760" y="406080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88200" y="3400560"/>
            <a:ext cx="79200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16240" y="4191120"/>
            <a:ext cx="29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884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87880" y="4191120"/>
            <a:ext cx="300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37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22640" y="3002040"/>
            <a:ext cx="49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7280" y="3002040"/>
            <a:ext cx="144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70280" y="2975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9" y="0"/>
                </a:moveTo>
                <a:lnTo>
                  <a:pt x="26" y="2"/>
                </a:lnTo>
                <a:lnTo>
                  <a:pt x="32" y="4"/>
                </a:lnTo>
                <a:lnTo>
                  <a:pt x="34" y="11"/>
                </a:lnTo>
                <a:lnTo>
                  <a:pt x="36" y="19"/>
                </a:lnTo>
                <a:lnTo>
                  <a:pt x="34" y="26"/>
                </a:lnTo>
                <a:lnTo>
                  <a:pt x="32" y="32"/>
                </a:lnTo>
                <a:lnTo>
                  <a:pt x="26" y="34"/>
                </a:lnTo>
                <a:lnTo>
                  <a:pt x="19" y="36"/>
                </a:lnTo>
                <a:lnTo>
                  <a:pt x="11" y="34"/>
                </a:lnTo>
                <a:lnTo>
                  <a:pt x="5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5" y="4"/>
                </a:lnTo>
                <a:lnTo>
                  <a:pt x="11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00520" y="296856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5" y="6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7" y="11"/>
                </a:lnTo>
                <a:lnTo>
                  <a:pt x="9" y="13"/>
                </a:lnTo>
                <a:lnTo>
                  <a:pt x="11" y="15"/>
                </a:lnTo>
                <a:lnTo>
                  <a:pt x="13" y="23"/>
                </a:lnTo>
                <a:lnTo>
                  <a:pt x="13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0520" y="3005280"/>
            <a:ext cx="3312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1" y="0"/>
                </a:lnTo>
                <a:lnTo>
                  <a:pt x="13" y="0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3800" y="3005280"/>
            <a:ext cx="36720" cy="33120"/>
          </a:xfrm>
          <a:custGeom>
            <a:avLst/>
            <a:gdLst/>
            <a:ahLst/>
            <a:rect l="l" t="t" r="r" b="b"/>
            <a:pathLst>
              <a:path w="23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6" y="15"/>
                </a:lnTo>
                <a:lnTo>
                  <a:pt x="13" y="21"/>
                </a:lnTo>
                <a:lnTo>
                  <a:pt x="23" y="21"/>
                </a:lnTo>
                <a:lnTo>
                  <a:pt x="23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63800" y="29685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23" y="0"/>
                </a:lnTo>
                <a:lnTo>
                  <a:pt x="13" y="0"/>
                </a:lnTo>
                <a:lnTo>
                  <a:pt x="6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3" y="8"/>
                </a:lnTo>
                <a:lnTo>
                  <a:pt x="23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54680" y="2975040"/>
            <a:ext cx="55800" cy="57240"/>
          </a:xfrm>
          <a:custGeom>
            <a:avLst/>
            <a:gdLst/>
            <a:ahLst/>
            <a:rect l="l" t="t" r="r" b="b"/>
            <a:pathLst>
              <a:path w="35" h="36">
                <a:moveTo>
                  <a:pt x="19" y="0"/>
                </a:moveTo>
                <a:lnTo>
                  <a:pt x="25" y="2"/>
                </a:lnTo>
                <a:lnTo>
                  <a:pt x="31" y="4"/>
                </a:lnTo>
                <a:lnTo>
                  <a:pt x="33" y="11"/>
                </a:lnTo>
                <a:lnTo>
                  <a:pt x="35" y="19"/>
                </a:lnTo>
                <a:lnTo>
                  <a:pt x="33" y="26"/>
                </a:lnTo>
                <a:lnTo>
                  <a:pt x="31" y="32"/>
                </a:lnTo>
                <a:lnTo>
                  <a:pt x="25" y="34"/>
                </a:lnTo>
                <a:lnTo>
                  <a:pt x="19" y="36"/>
                </a:lnTo>
                <a:lnTo>
                  <a:pt x="10" y="34"/>
                </a:lnTo>
                <a:lnTo>
                  <a:pt x="4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4" y="4"/>
                </a:lnTo>
                <a:lnTo>
                  <a:pt x="10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4920" y="296856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4" y="6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6" y="11"/>
                </a:lnTo>
                <a:lnTo>
                  <a:pt x="8" y="13"/>
                </a:lnTo>
                <a:lnTo>
                  <a:pt x="10" y="15"/>
                </a:lnTo>
                <a:lnTo>
                  <a:pt x="12" y="23"/>
                </a:lnTo>
                <a:lnTo>
                  <a:pt x="12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4920" y="30052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8" y="21"/>
                </a:lnTo>
                <a:lnTo>
                  <a:pt x="14" y="15"/>
                </a:lnTo>
                <a:lnTo>
                  <a:pt x="21" y="9"/>
                </a:lnTo>
                <a:lnTo>
                  <a:pt x="21" y="0"/>
                </a:lnTo>
                <a:lnTo>
                  <a:pt x="12" y="0"/>
                </a:lnTo>
                <a:lnTo>
                  <a:pt x="10" y="7"/>
                </a:lnTo>
                <a:lnTo>
                  <a:pt x="8" y="9"/>
                </a:lnTo>
                <a:lnTo>
                  <a:pt x="6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760" y="30052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7" y="15"/>
                </a:lnTo>
                <a:lnTo>
                  <a:pt x="13" y="21"/>
                </a:lnTo>
                <a:lnTo>
                  <a:pt x="24" y="21"/>
                </a:lnTo>
                <a:lnTo>
                  <a:pt x="24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46760" y="296856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24" y="0"/>
                </a:moveTo>
                <a:lnTo>
                  <a:pt x="24" y="0"/>
                </a:lnTo>
                <a:lnTo>
                  <a:pt x="13" y="0"/>
                </a:lnTo>
                <a:lnTo>
                  <a:pt x="7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23920" y="4191120"/>
            <a:ext cx="1589400" cy="1579320"/>
          </a:xfrm>
          <a:custGeom>
            <a:avLst/>
            <a:gdLst/>
            <a:ahLst/>
            <a:rect l="l" t="t" r="r" b="b"/>
            <a:pathLst>
              <a:path w="1001" h="995">
                <a:moveTo>
                  <a:pt x="1001" y="995"/>
                </a:moveTo>
                <a:lnTo>
                  <a:pt x="0" y="995"/>
                </a:lnTo>
                <a:lnTo>
                  <a:pt x="0" y="0"/>
                </a:lnTo>
                <a:lnTo>
                  <a:pt x="18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89760" y="4191120"/>
            <a:ext cx="1487520" cy="1579320"/>
          </a:xfrm>
          <a:custGeom>
            <a:avLst/>
            <a:gdLst/>
            <a:ahLst/>
            <a:rect l="l" t="t" r="r" b="b"/>
            <a:pathLst>
              <a:path w="937" h="995">
                <a:moveTo>
                  <a:pt x="687" y="0"/>
                </a:moveTo>
                <a:lnTo>
                  <a:pt x="937" y="0"/>
                </a:lnTo>
                <a:lnTo>
                  <a:pt x="937" y="995"/>
                </a:lnTo>
                <a:lnTo>
                  <a:pt x="0" y="99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7880" y="571356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72"/>
                </a:moveTo>
                <a:lnTo>
                  <a:pt x="0" y="36"/>
                </a:lnTo>
                <a:lnTo>
                  <a:pt x="72" y="0"/>
                </a:lnTo>
                <a:lnTo>
                  <a:pt x="7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29000" y="2617920"/>
            <a:ext cx="18396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47720" y="2610000"/>
            <a:ext cx="18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24760" y="561816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tches Basados en Multiplex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408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nega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256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91040" y="521640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6240" y="2930400"/>
            <a:ext cx="1735200" cy="103212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38360" y="3703680"/>
            <a:ext cx="210960" cy="13320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95360" y="396252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052280" y="4478400"/>
            <a:ext cx="62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38360" y="4414680"/>
            <a:ext cx="210960" cy="12564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68560" y="4836960"/>
            <a:ext cx="144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06640" y="4673520"/>
            <a:ext cx="133200" cy="203400"/>
          </a:xfrm>
          <a:custGeom>
            <a:avLst/>
            <a:gdLst/>
            <a:ahLst/>
            <a:rect l="l" t="t" r="r" b="b"/>
            <a:pathLst>
              <a:path w="17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7" y="26"/>
                  <a:pt x="17" y="26"/>
                  <a:pt x="17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43640" y="36291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43640" y="4336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9240" y="433692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5640" y="35751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91320" y="2854440"/>
            <a:ext cx="1734840" cy="103176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84880" y="3627360"/>
            <a:ext cx="209520" cy="13356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40440" y="388620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697360" y="4402080"/>
            <a:ext cx="625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84880" y="4338720"/>
            <a:ext cx="209520" cy="1252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21560" y="4761000"/>
            <a:ext cx="144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4597560"/>
            <a:ext cx="125280" cy="203040"/>
          </a:xfrm>
          <a:custGeom>
            <a:avLst/>
            <a:gdLst/>
            <a:ahLst/>
            <a:rect l="l" t="t" r="r" b="b"/>
            <a:pathLst>
              <a:path w="16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90160" y="35528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39000" y="514044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90160" y="42609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07560" y="426096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23960" y="349884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7520" y="5697360"/>
                <a:ext cx="2514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180040" y="5673600"/>
                <a:ext cx="2514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istro Maestro – Escla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7891560" cy="2676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34160" y="5084640"/>
            <a:ext cx="49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latches opuestos gatillan en el c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lamado par de latches maestro – escla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15800" y="2527200"/>
            <a:ext cx="8245440" cy="2264400"/>
            <a:chOff x="415800" y="2527200"/>
            <a:chExt cx="8245440" cy="2264400"/>
          </a:xfrm>
        </p:grpSpPr>
        <p:sp>
          <p:nvSpPr>
            <p:cNvPr id="349" name=""/>
            <p:cNvSpPr/>
            <p:nvPr/>
          </p:nvSpPr>
          <p:spPr>
            <a:xfrm>
              <a:off x="654120" y="2527200"/>
              <a:ext cx="1412640" cy="1990800"/>
            </a:xfrm>
            <a:custGeom>
              <a:avLst/>
              <a:gdLst/>
              <a:ahLst/>
              <a:rect l="l" t="t" r="r" b="b"/>
              <a:pathLst>
                <a:path w="227" h="320">
                  <a:moveTo>
                    <a:pt x="227" y="284"/>
                  </a:moveTo>
                  <a:cubicBezTo>
                    <a:pt x="227" y="304"/>
                    <a:pt x="210" y="320"/>
                    <a:pt x="191" y="320"/>
                  </a:cubicBezTo>
                  <a:cubicBezTo>
                    <a:pt x="36" y="320"/>
                    <a:pt x="36" y="320"/>
                    <a:pt x="36" y="320"/>
                  </a:cubicBezTo>
                  <a:cubicBezTo>
                    <a:pt x="16" y="320"/>
                    <a:pt x="0" y="304"/>
                    <a:pt x="0" y="28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210" y="0"/>
                    <a:pt x="227" y="16"/>
                    <a:pt x="227" y="36"/>
                  </a:cubicBezTo>
                  <a:lnTo>
                    <a:pt x="227" y="28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3880" y="4486320"/>
              <a:ext cx="191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ado prohib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24040" y="291924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4320" y="2676600"/>
              <a:ext cx="633240" cy="5713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85720" y="2832120"/>
              <a:ext cx="534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2000" y="3092400"/>
              <a:ext cx="322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10800" y="296244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47960" y="292572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840" y="2720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4972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99160" y="31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4972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73544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73544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7720" y="3576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65880" y="31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05160" y="2852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78160" y="2862360"/>
              <a:ext cx="13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65880" y="3576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37080" y="3584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7600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40160" y="2597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0840" y="2597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272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12120" y="2602080"/>
              <a:ext cx="14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7600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412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508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4272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12120" y="308124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636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412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508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4308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636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412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508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4308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7636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412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508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4308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4040" y="396396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84320" y="3720960"/>
              <a:ext cx="633240" cy="5731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91640" y="3882960"/>
              <a:ext cx="32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5360" y="4138560"/>
              <a:ext cx="528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810800" y="400860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47960" y="397044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5800" y="4027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5160" y="3898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000" y="3000240"/>
              <a:ext cx="1194120" cy="882720"/>
            </a:xfrm>
            <a:custGeom>
              <a:avLst/>
              <a:gdLst/>
              <a:ahLst/>
              <a:rect l="l" t="t" r="r" b="b"/>
              <a:pathLst>
                <a:path w="752" h="556">
                  <a:moveTo>
                    <a:pt x="752" y="0"/>
                  </a:moveTo>
                  <a:lnTo>
                    <a:pt x="752" y="196"/>
                  </a:lnTo>
                  <a:lnTo>
                    <a:pt x="0" y="364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2000" y="3092400"/>
              <a:ext cx="1194120" cy="878040"/>
            </a:xfrm>
            <a:custGeom>
              <a:avLst/>
              <a:gdLst/>
              <a:ahLst/>
              <a:rect l="l" t="t" r="r" b="b"/>
              <a:pathLst>
                <a:path w="752" h="553">
                  <a:moveTo>
                    <a:pt x="0" y="0"/>
                  </a:moveTo>
                  <a:lnTo>
                    <a:pt x="0" y="192"/>
                  </a:lnTo>
                  <a:lnTo>
                    <a:pt x="752" y="361"/>
                  </a:lnTo>
                  <a:lnTo>
                    <a:pt x="752" y="5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4680" y="2975040"/>
              <a:ext cx="950760" cy="96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46800" y="4002120"/>
              <a:ext cx="2314440" cy="29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46800" y="2932200"/>
              <a:ext cx="2314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504200" y="2595600"/>
              <a:ext cx="1440" cy="17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587920" y="4238280"/>
              <a:ext cx="6415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1280" y="4206960"/>
              <a:ext cx="125280" cy="745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5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3" y="1"/>
                    <a:pt x="17" y="1"/>
                    <a:pt x="20" y="0"/>
                  </a:cubicBezTo>
                  <a:cubicBezTo>
                    <a:pt x="17" y="2"/>
                    <a:pt x="14" y="4"/>
                    <a:pt x="11" y="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990720" y="2689200"/>
            <a:ext cx="2300040" cy="1700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733920" y="2003400"/>
            <a:ext cx="4495680" cy="3710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77640" y="1611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rel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29T15:02:25Z</dcterms:modified>
  <cp:revision>234</cp:revision>
  <dc:subject/>
  <dc:title>EL 6XX</dc:title>
</cp:coreProperties>
</file>