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2458-8D6A-4110-9F90-08FF6CA4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BA6C-8E9A-46F1-9D2E-78A8A63A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E6EF-705D-4EF5-9C35-C554C7CA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67C4-8A59-4694-BF4A-C80097F7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1464-8BFD-4C68-BA21-0D970382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582-1F23-430E-BFD5-504AF42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1AB-3D9F-41C1-87D2-95BEFBD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E450-6BE1-4984-ACE1-44C484F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F6F-82F7-46B4-B3DF-C1A04CC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3198-AC76-421B-AC77-616BE9D5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D3A1-8DB9-408D-BC37-7E299EB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D895-6E78-4E8C-B3E6-4D751FC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46A-ACF6-4EEC-A9E5-24C1415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9C3-A776-4D97-87B8-4E3931C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1412-DC67-4081-AACE-0172C18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E05D-CC58-4065-91F4-E4F7C651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7337-F84C-433E-84A1-28BBB3CF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3ACD-E0DE-4650-876F-B78B62CC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0749-B016-4FAC-AE3B-726E7FD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63BC-5137-4985-9725-8BB26210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DA12-ED7C-46EC-B25C-3CD14462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9EBC-AC05-4FE7-827F-A1C7A20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458A-910E-4D95-BE78-FA0D74BC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594A-1C9D-474D-B3E0-8814F63B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B958-546E-422C-BB15-A6D814DE386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2177-8FB3-4A59-84D8-AF720AF9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7A82-B575-4F4A-A914-3690C6A170B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925-D45A-4E90-A7C6-BE8B6DE3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cciones de Bu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773360"/>
            <a:ext cx="806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ram [0:25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256; i = i + 1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[i] &lt;= 0; // Initialize the RAM with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codificador co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8162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ecoder_using_for (binary_in,decoder_out,enabl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[3:0] binary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enab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enable or binary_in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 = 0; i &lt; 16; i = i +1 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(i == binary_in) ? i + 1 : 16'h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ones de Bucle (Lo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cuatro instrucciones de b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nstrucciones de bucle aparecen solo en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continuamente (sin f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tilizada normalmente en bloqu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forever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ever_exampl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clk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ver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k = !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cuta la instrucción n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peat (&lt;number&gt;)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3372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repeat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op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15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opcode or data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pcode == 10) begin // Perform ro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eat (8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temp = data[1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lt;&l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[0] 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mientras la condición sea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while (&lt;statement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73360"/>
            <a:ext cx="806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while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5:0] lo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data or loc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0; // If Data is 0, then loc is 32 (invalid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data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3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ata[0]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loc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gt;&g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milar a instrucciones for de lenguajes de progr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una instruc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s instrucciones mientras la condición sea verd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 instrucción de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&lt; initial assignment &gt;; &lt; expression &gt;, &lt; step assignment &gt;) &lt; statement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perador ++ no existe en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6T16:40:37Z</dcterms:modified>
  <cp:revision>232</cp:revision>
  <dc:subject/>
  <dc:title>EL 6XX</dc:title>
</cp:coreProperties>
</file>