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9F7C-FB05-46BE-A541-40E5E8CE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DC85-0177-4825-A9ED-45B8A395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8E12-920A-40A3-ACF4-D5BA2348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93C3-EA12-4B49-BCB3-4FF7F246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826C-1194-498F-AC81-06118CFB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7FA9-2DD4-474E-AE06-CE41723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B7CC-6E6E-41D6-8F9D-BEA98C9C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4E29-47A6-4D70-B541-9962BCBB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51C0-EFCC-4FC0-948C-F72ED01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D02E-012F-4C7A-8CBA-7C614B3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9B91-BA32-45BB-AD28-551B58D5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E321-A7C0-4B3E-A13D-7F04B851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7A8E-6EA2-4AA5-AF65-20C0954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9158-DE4A-491E-AA52-DDFA55C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237-F705-4427-B398-49203546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49E2-89E9-42C5-8989-78825779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6B01-CC3C-4AAA-B582-F7C9BD02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10B4-E6A7-4A39-BE3A-C1E3C36E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E187-2262-4165-A5C0-0136D5DA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10BE-2EAA-4081-8C5F-6F23B185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AD345-C6A5-41D8-953C-A9C261E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FB31D-9055-4829-A9DB-C0FF9CBF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9917-FB35-4E0D-8DED-85C4ADE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6F4B-55E4-46DE-8068-E34E271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69C-FEC3-4A71-BB60-67F57036006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7AFC-EB49-4574-B68A-27C3C07A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9C7-19D1-400F-A15F-0A60C5A22DC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BD99-0260-45AD-BAC2-1BFB5821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strucciones de Bu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773360"/>
            <a:ext cx="806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ram [0:25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256; i = i + 1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m[i] &lt;= 0; // Initialize the RAM with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display(" Address = %g Data = %h",i,ram[i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$finis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codificador co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816200"/>
            <a:ext cx="80647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ecoder_using_for (binary_in,decoder_out,enab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[3:0] binary_i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enab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15:0] decoder_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 (enable or binary_in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nable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 = 0; i &lt; 16; i = i +1 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coder_out = (i == binary_in) ? i + 1 : 16'h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ones de Bucle (Lo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erilog posee cuatro instrucciones de b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nstrucciones de bucle aparecen solo en bloques proced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continuamente (sin f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tilizada normalmente en bloques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forever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orever_example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clk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ver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5 clk = !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cuta la instrucción n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peat (&lt;number&gt;) &lt;statem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13372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repeat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opcod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15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opcode or data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pcode == 10) begin // Perform ro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eat (8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1 temp = data[1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lt;&l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[0] = te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jecuta mientras la condición sea verda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while (&lt;statement&gt;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773360"/>
            <a:ext cx="806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while_exampl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5:0] lo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7:0]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data or loc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0; // If Data is 0, then loc is 32 (invalid val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data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3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ata[0] == 0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c = loc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ta = data &gt;&gt;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strucción </a:t>
            </a:r>
            <a:r>
              <a:rPr b="0" i="1" lang="es-CL" sz="4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milar a instrucciones for de lenguajes de progra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una instrucción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s instrucciones mientras la condición sea verdad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cuta la instrucción de a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ntaxi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&lt; initial assignment &gt;; &lt; expression &gt;, &lt; step assignment &gt;) &lt; statement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perador ++ no existe en 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6T16:40:37Z</dcterms:modified>
  <cp:revision>232</cp:revision>
  <dc:subject/>
  <dc:title>EL 6XX</dc:title>
</cp:coreProperties>
</file>