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7B1EE-46C5-4BDF-927E-E9E1E703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E674B-BF96-475C-AE82-8A31A82A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23289-ECA5-4AD0-AECB-06A157CA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280E-7068-4BC4-A1C7-8414C416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41CA-ADC5-4E17-B6A9-47EA0387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8756-7601-438A-A030-A4A54457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8BCD-062F-4887-A4E2-08DDDC16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07E1-2F36-49D4-89CC-48F08255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9EBB-003E-4B60-910A-022A8795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194C-A723-4493-AC0C-561F8CBD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8A7D-ADA7-4C49-93A2-C23141A1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1DD66-AD88-4115-8CF9-E74A0041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5B53-5E51-4E6E-8943-4E8D34B0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0801-026D-4A37-964B-F8A0783E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F5D6-1EBE-4C65-8D5C-9656569C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C84F-F36B-4A6B-BA10-C525EE60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520A-6380-46F9-A085-12422736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6F12A-56E9-458D-903E-E9CDB359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1A65C-1267-4138-8908-ACA41196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8B88B-F8CD-4BDD-823D-A07C1B91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580A7-276A-4BA8-AEBD-088DEEA4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3D431-6FC1-4043-AFDD-F2C14B23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C787A-155F-4095-B015-61E117F9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52FB3-10FE-4174-A76A-072FA538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FE7F-B7C0-42FD-A034-83EA6DAC8FC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DDEA-7D16-4C4F-9E9F-9881A6FB9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5887-1A43-4002-A16D-0BD9C40A800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4DC4-176E-4CDE-93DA-EE9A1BB73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trucciones de Bu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773360"/>
            <a:ext cx="8064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for_examp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7:0] ram [0:25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 = 0; i &lt; 256; i = i + 1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 $display(" Address = %g Data = %h",i,ram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[i] &lt;= 0; // Initialize the RAM with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 $display(" Address = %g Data = %h",i,ram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 $finis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codificador con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816200"/>
            <a:ext cx="8064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ecoder_using_for (binary_in,decoder_out,enabl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[3:0] binary_i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enab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[15:0] decoder_ou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[15:0] decoder_ou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 (enable or binary_in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coder_ou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enable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 = 0; i &lt; 16; i = i +1 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coder_out = (i == binary_in) ? i + 1 : 16'h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rucciones de Bucle (Lo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rilog posee cuatro instrucciones de bu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instrucciones de bucle aparecen solo en bloques proced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rucción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for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jecuta continuamente (sin f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utilizada normalmente en bloques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taxis: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forever &lt;statem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2349360"/>
            <a:ext cx="7489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forever_example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cl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 clk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ver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5 clk = !cl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rucción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cuta la instrucción n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taxis: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peat (&lt;number&gt;) &lt;statem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133720"/>
            <a:ext cx="7489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repeat_examp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3:0] opcod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15:0]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ways @ (opcode or data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opcode == 10) begin // Perform ro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eat (8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 temp = data[1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 = data &lt;&lt;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[0] 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rucción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jecuta mientras la condición sea verdad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taxis: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while (&lt;statement&gt;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773360"/>
            <a:ext cx="8064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while_examp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5:0] lo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7:0]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ways @ (data or loc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c = 0; // If Data is 0, then loc is 32 (invalid val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data == 0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c = 3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ata[0] == 0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c = loc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 = data &gt;&gt;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rucción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milar a instrucciones for de lenguajes de progra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cuta una instrucción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cuta las instrucciones mientras la condición sea verdad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cuta la instrucción de a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taxi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&lt; initial assignment &gt;; &lt; expression &gt;, &lt; step assignment &gt;) &lt; statement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perador ++ no existe en Ver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26T16:40:37Z</dcterms:modified>
  <cp:revision>232</cp:revision>
  <dc:subject/>
  <dc:title>EL 6XX</dc:title>
</cp:coreProperties>
</file>