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9E449-975E-4548-B828-AFC8868A9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1B6E6-A8BF-4553-9762-B928638B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12662-142A-4B52-A820-30CFA519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E1DEC-1102-4CD5-BEEC-1CAF3ED9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D12D-2BBD-45B9-8D88-404E08240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52E5-1945-4576-8290-B074EE72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44D2-395B-4B39-AF42-71AC524D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C745-1E5D-4D04-AA5E-B8A20CB2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7CA7-1D95-4427-9BC5-DE2AA5F2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F3F3-505B-4821-9C74-F04F4614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E277-41B6-4EF0-AA77-5922E77D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57B75-433A-495C-AF3F-2B5AE499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25BC-8794-4F17-8E8E-C6DA1A31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8785-A114-430E-9CA1-64344076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9F64-3F93-4A86-8351-6C3394B2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44DA-3A39-4D89-B0FC-A7F326CE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204A-7A7A-4498-9741-40BB9FFF6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C0393-FDCC-4FC3-A7B6-61C1DC81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2F6B9-CF72-4E4E-BDC9-0455F2CB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C9A2B-702B-4E94-B4B9-690E08F5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D2F1A-0DB2-4322-BD69-DD9C2E66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BFED9-5928-4869-A37F-614AFEBD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E6941-15FA-4F8B-B06E-40229CF3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9D1F9-DA0E-4958-BA7F-6CA5E0A7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6773-CFAF-4D8F-AC0D-681C383AD4C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F223-8465-4BAF-8490-CEF5D8A4B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9C3F-1B47-405C-B7F9-9556A1F8107E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D8EB-F5C4-4E11-9B0A-2060E2BA9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5.png"/><Relationship Id="rId30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nthesis and Optim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58480" y="4889520"/>
            <a:ext cx="581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ed from “Synthesis and Optimization of Digital Circuits”, Giovanni de Michel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Graw-Hill, 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consider the differential equation                  in the interval [0,a] with step size dx and initial values x(0) = x, y(0) = y and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0) = 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the Forward Euler Method (numerical solu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it area and performance depend on this 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6732720" y="2060640"/>
                <a:ext cx="20160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68360" y="3789360"/>
            <a:ext cx="51832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diffeq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ad (x,y,u,dx,a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peat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x1 = x + d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u1 = u – (3 * x * u * dx) – (3 *y * d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y1 = y + u * d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c = x1 &lt; 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} until (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write (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71640" y="1628640"/>
            <a:ext cx="115236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M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27280" y="1628640"/>
            <a:ext cx="1152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56000" y="1628640"/>
            <a:ext cx="144000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TEERING &amp;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48360" y="1628640"/>
            <a:ext cx="144000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ONTROL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580000" y="764640"/>
            <a:ext cx="0" cy="86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258560" y="765000"/>
            <a:ext cx="432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58920" y="765000"/>
            <a:ext cx="0" cy="863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5435640" y="907920"/>
            <a:ext cx="0" cy="72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834920" y="907920"/>
            <a:ext cx="360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35280" y="907920"/>
            <a:ext cx="0" cy="72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788000" y="112536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643280" y="126792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916000" y="1125360"/>
            <a:ext cx="187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92000" y="1268280"/>
            <a:ext cx="1150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16360" y="1125360"/>
            <a:ext cx="144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92360" y="126828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47640" y="270828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47640" y="3284640"/>
            <a:ext cx="396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5508720" y="270792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32000" y="270828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32000" y="3068640"/>
            <a:ext cx="158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16360" y="270792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6000" y="2421000"/>
            <a:ext cx="1152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5795640" y="1916280"/>
            <a:ext cx="1152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26720" y="337644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20240" y="595008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H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level model is provided by a state transition diagram or a finite state machine (FSM), or a circuit schematic (HDL model as we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specified by a designer or synthesized from an architectural leve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synthesis is different depending on the nature of the circuit (sequential, combinational) and the type of the starting representation (state diagram or schema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outcome is a fully structural representation (e.g. netl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 generating the layout of the c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s of the layout correspond to the masks used for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the design style (handcrafted or automat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tasks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c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ed in general in conjunction with 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ptimization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it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ve 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spond to the sum of the areas of the circuit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derived from a structural view of the circuit, once the area of each component is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computation can be performed hierarch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ing area plays an important role, can be derived from physical view or estimated from a structural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it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sive quantity, it is not add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ation requires a full analysis of the structure and the behavior of the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of a combinational circuit depends on the input/output propagation delay assuming all inputs are available at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of a synchronous sequential circuit is measured by i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cle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ooking for the fastest cl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n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necessary time to execute the operations of the circuit. It could be measured in terms of clock cy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execution time is provided by the product betwe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cle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cle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n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optimized independ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it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nchronous circuit can implement a sequence of operations in a pip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ough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circuit is the rate at which data are produced and consu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non pipelined circuit,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ough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less or equal than the inverse of the product of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cle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rate pipelining is whe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ough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inverse of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cle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ata are produced and consumed at each clock cyc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z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ombinational circu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z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ynchronous circu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iz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ipelined circu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area minimization and performance max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ation is subject to constraints (upper bounds of the area and lower bounds of the perform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circuit – different feasible structural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finite set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design point there are values of area and performanc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as man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 fun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objecti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rea, latency, cycle time, and throughp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evaluation 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multidimensional space of these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 optimization – a circuit design that optimizes all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s that the optimization problem is a minimization problem (maximizes the throughput is equivalent to minimize the complement of the throughp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eto 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 point in the design space with no other point with at least an inferior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eto 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orresponds to a global optimum in a monodimensional design evaluatio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the optimal trade-off points – image of the Pareto points in the design evaluatio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-off curve or surface – interpolation of the set of the optimal trade – off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hesis techniques speed up the design cycle and reduce the human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ation techniques enhances the desig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hesis and optimization are used in mostly all circuit design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inational Logic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design evaluation space (area – del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-off points shown in fig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80000" y="2276640"/>
            <a:ext cx="0" cy="3313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580000" y="5589720"/>
            <a:ext cx="3024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76560" y="56595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338520" y="56610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01920" y="56610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65680" y="56610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29080" y="56610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29920" y="48690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920" y="417204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029920" y="34765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029920" y="278136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580000" y="2924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84720" y="2924280"/>
            <a:ext cx="0" cy="2665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27640" y="3213000"/>
            <a:ext cx="0" cy="237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580000" y="321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59640" y="3645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80000" y="3645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164360" y="414972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580000" y="4149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812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580000" y="4437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10108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80000" y="48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12000" y="2852640"/>
            <a:ext cx="144360" cy="1429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156360" y="3141720"/>
            <a:ext cx="144360" cy="1429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588000" y="3573360"/>
            <a:ext cx="144720" cy="1429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093080" y="4076640"/>
            <a:ext cx="144360" cy="1429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740720" y="4365720"/>
            <a:ext cx="144360" cy="1429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028000" y="4797360"/>
            <a:ext cx="144360" cy="1429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439480" y="56610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004000" y="22766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quential Logic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evaluation space for logic level models of sequential circuits is (area, cycle-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evaluation space for non pipelined architectural level model is (area, latency, cycle-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evaluation space for synchronous pipelined architectural level model is (area, latency, cycle-time, throughp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zation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ational logic circ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the circuit area under delay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the circuit delay under area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ous circ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the circuit area under latency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the circuit latency under area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 rot="10800000">
            <a:off x="611280" y="1483920"/>
            <a:ext cx="288720" cy="2158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Behavioral vie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50920" y="765000"/>
            <a:ext cx="165600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Language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0800000">
            <a:off x="611280" y="3642840"/>
            <a:ext cx="288720" cy="2233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tructural vie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21440" y="765000"/>
            <a:ext cx="165564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bstract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340000" y="1557360"/>
            <a:ext cx="936720" cy="865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H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340000" y="2708280"/>
            <a:ext cx="936720" cy="865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H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40000" y="4579920"/>
            <a:ext cx="936720" cy="865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H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716360" y="1701720"/>
            <a:ext cx="2881440" cy="576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Operations &amp; dependen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(Data flow &amp; sequencing graph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10800000">
            <a:off x="8170920" y="1483920"/>
            <a:ext cx="288720" cy="2158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rchitectural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rot="10800000">
            <a:off x="8170920" y="3642840"/>
            <a:ext cx="288720" cy="2233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Logic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76720" y="198900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99840" y="198756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i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716360" y="2852640"/>
            <a:ext cx="2881440" cy="576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FSMs – logic fun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(State diagrams &amp; logic network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76720" y="312732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99840" y="312588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i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156360" y="2276640"/>
            <a:ext cx="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207480" y="2276640"/>
            <a:ext cx="197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 optim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716360" y="4795920"/>
            <a:ext cx="2881440" cy="576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nterconnected logic blo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(Logic network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507060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98760" y="5068800"/>
            <a:ext cx="10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156360" y="3429000"/>
            <a:ext cx="0" cy="13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210000" y="3774960"/>
            <a:ext cx="140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ic 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 optim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739960" y="3970440"/>
            <a:ext cx="6061320" cy="10332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39960" y="2674800"/>
            <a:ext cx="6061320" cy="1033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86560" y="2157480"/>
            <a:ext cx="220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ont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54560" y="3051000"/>
            <a:ext cx="1017720" cy="357480"/>
          </a:xfrm>
          <a:prstGeom prst="leftRightArrow">
            <a:avLst>
              <a:gd name="adj1" fmla="val 50000"/>
              <a:gd name="adj2" fmla="val 56675"/>
            </a:avLst>
          </a:prstGeom>
          <a:gradFill rotWithShape="0">
            <a:gsLst>
              <a:gs pos="0">
                <a:srgbClr val="f0d614"/>
              </a:gs>
              <a:gs pos="100000">
                <a:srgbClr val="f0d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36880" y="3562200"/>
            <a:ext cx="357120" cy="492120"/>
          </a:xfrm>
          <a:prstGeom prst="downArrow">
            <a:avLst>
              <a:gd name="adj1" fmla="val 50000"/>
              <a:gd name="adj2" fmla="val 34451"/>
            </a:avLst>
          </a:prstGeom>
          <a:gradFill rotWithShape="0">
            <a:gsLst>
              <a:gs pos="0">
                <a:srgbClr val="f0d614"/>
              </a:gs>
              <a:gs pos="100000">
                <a:srgbClr val="f0d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21040" y="2286000"/>
            <a:ext cx="358920" cy="507960"/>
          </a:xfrm>
          <a:prstGeom prst="downArrow">
            <a:avLst>
              <a:gd name="adj1" fmla="val 50000"/>
              <a:gd name="adj2" fmla="val 35381"/>
            </a:avLst>
          </a:prstGeom>
          <a:gradFill rotWithShape="0">
            <a:gsLst>
              <a:gs pos="0">
                <a:srgbClr val="f0d614"/>
              </a:gs>
              <a:gs pos="100000">
                <a:srgbClr val="f0d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36880" y="4902120"/>
            <a:ext cx="357120" cy="492120"/>
          </a:xfrm>
          <a:prstGeom prst="downArrow">
            <a:avLst>
              <a:gd name="adj1" fmla="val 50000"/>
              <a:gd name="adj2" fmla="val 34451"/>
            </a:avLst>
          </a:prstGeom>
          <a:gradFill rotWithShape="0">
            <a:gsLst>
              <a:gs pos="0">
                <a:srgbClr val="f0d614"/>
              </a:gs>
              <a:gs pos="100000">
                <a:srgbClr val="f0d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54560" y="4327560"/>
            <a:ext cx="1017720" cy="357120"/>
          </a:xfrm>
          <a:prstGeom prst="leftRightArrow">
            <a:avLst>
              <a:gd name="adj1" fmla="val 50000"/>
              <a:gd name="adj2" fmla="val 56732"/>
            </a:avLst>
          </a:prstGeom>
          <a:gradFill rotWithShape="0">
            <a:gsLst>
              <a:gs pos="0">
                <a:srgbClr val="f0d614"/>
              </a:gs>
              <a:gs pos="100000">
                <a:srgbClr val="f0d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11320" y="1557360"/>
            <a:ext cx="2190960" cy="7318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Architect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86400" y="2863800"/>
            <a:ext cx="2190960" cy="7333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Function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Verif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1320" y="2870280"/>
            <a:ext cx="2190960" cy="718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RTL Design/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Synthes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11320" y="4140360"/>
            <a:ext cx="2190960" cy="7315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hysical Desig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86400" y="4140360"/>
            <a:ext cx="2190960" cy="7333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Desig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Integrit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800280" y="1628640"/>
            <a:ext cx="1660320" cy="4178160"/>
            <a:chOff x="800280" y="1628640"/>
            <a:chExt cx="1660320" cy="417816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rcRect l="80095" t="7093" r="3251" b="58248"/>
            <a:stretch/>
          </p:blipFill>
          <p:spPr>
            <a:xfrm>
              <a:off x="941400" y="3213000"/>
              <a:ext cx="1393920" cy="1035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800280" y="3076560"/>
              <a:ext cx="1660320" cy="1282680"/>
              <a:chOff x="800280" y="3076560"/>
              <a:chExt cx="1660320" cy="1282680"/>
            </a:xfrm>
          </p:grpSpPr>
          <p:sp>
            <p:nvSpPr>
              <p:cNvPr id="139" name=""/>
              <p:cNvSpPr/>
              <p:nvPr/>
            </p:nvSpPr>
            <p:spPr>
              <a:xfrm>
                <a:off x="800280" y="3076560"/>
                <a:ext cx="1660320" cy="1282680"/>
              </a:xfrm>
              <a:prstGeom prst="rect">
                <a:avLst/>
              </a:prstGeom>
              <a:gradFill rotWithShape="0">
                <a:gsLst>
                  <a:gs pos="0">
                    <a:srgbClr val="100051"/>
                  </a:gs>
                  <a:gs pos="50000">
                    <a:srgbClr val="070025"/>
                  </a:gs>
                  <a:gs pos="100000">
                    <a:srgbClr val="1000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56440" y="3135600"/>
                <a:ext cx="1532160" cy="1163880"/>
              </a:xfrm>
              <a:prstGeom prst="rect">
                <a:avLst/>
              </a:prstGeom>
              <a:gradFill rotWithShape="0">
                <a:gsLst>
                  <a:gs pos="0">
                    <a:srgbClr val="070025"/>
                  </a:gs>
                  <a:gs pos="50000">
                    <a:srgbClr val="100051"/>
                  </a:gs>
                  <a:gs pos="100000">
                    <a:srgbClr val="07002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800280" y="1628640"/>
              <a:ext cx="1660320" cy="1282680"/>
              <a:chOff x="800280" y="1628640"/>
              <a:chExt cx="1660320" cy="1282680"/>
            </a:xfrm>
          </p:grpSpPr>
          <p:sp>
            <p:nvSpPr>
              <p:cNvPr id="142" name=""/>
              <p:cNvSpPr/>
              <p:nvPr/>
            </p:nvSpPr>
            <p:spPr>
              <a:xfrm>
                <a:off x="800280" y="1628640"/>
                <a:ext cx="1660320" cy="1282680"/>
              </a:xfrm>
              <a:prstGeom prst="rect">
                <a:avLst/>
              </a:prstGeom>
              <a:gradFill rotWithShape="0">
                <a:gsLst>
                  <a:gs pos="0">
                    <a:srgbClr val="100051"/>
                  </a:gs>
                  <a:gs pos="50000">
                    <a:srgbClr val="070025"/>
                  </a:gs>
                  <a:gs pos="100000">
                    <a:srgbClr val="1000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56440" y="1687680"/>
                <a:ext cx="1532160" cy="1163880"/>
              </a:xfrm>
              <a:prstGeom prst="rect">
                <a:avLst/>
              </a:prstGeom>
              <a:gradFill rotWithShape="0">
                <a:gsLst>
                  <a:gs pos="0">
                    <a:srgbClr val="070025"/>
                  </a:gs>
                  <a:gs pos="50000">
                    <a:srgbClr val="100051"/>
                  </a:gs>
                  <a:gs pos="100000">
                    <a:srgbClr val="07002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944640" y="1717560"/>
              <a:ext cx="1377720" cy="1054080"/>
              <a:chOff x="944640" y="1717560"/>
              <a:chExt cx="1377720" cy="1054080"/>
            </a:xfrm>
          </p:grpSpPr>
          <p:sp>
            <p:nvSpPr>
              <p:cNvPr id="145" name=""/>
              <p:cNvSpPr/>
              <p:nvPr/>
            </p:nvSpPr>
            <p:spPr>
              <a:xfrm>
                <a:off x="1492200" y="1717560"/>
                <a:ext cx="625680" cy="73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44640" y="1788840"/>
                <a:ext cx="1377720" cy="982800"/>
              </a:xfrm>
              <a:prstGeom prst="rect">
                <a:avLst/>
              </a:prstGeom>
              <a:ln w="15840">
                <a:solidFill>
                  <a:srgbClr val="630da3"/>
                </a:solidFill>
                <a:miter/>
              </a:ln>
            </p:spPr>
          </p:pic>
          <p:sp>
            <p:nvSpPr>
              <p:cNvPr id="147" name=""/>
              <p:cNvSpPr/>
              <p:nvPr/>
            </p:nvSpPr>
            <p:spPr>
              <a:xfrm>
                <a:off x="947880" y="1925280"/>
                <a:ext cx="1326960" cy="771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285920" y="1946160"/>
                <a:ext cx="623880" cy="75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308960" y="1965240"/>
                <a:ext cx="511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process begi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310400" y="2041200"/>
                <a:ext cx="550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wait until no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308960" y="2124000"/>
                <a:ext cx="6620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CLOCK'stabl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308240" y="2206440"/>
                <a:ext cx="7048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and CLOCK=1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309680" y="2293920"/>
                <a:ext cx="8557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if(ENABLE='1') the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307160" y="2374560"/>
                <a:ext cx="7214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TOGGLE&lt;= no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307880" y="2450880"/>
                <a:ext cx="413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TOGGLE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308960" y="2531880"/>
                <a:ext cx="2887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end if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308960" y="2606400"/>
                <a:ext cx="471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end process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944640" y="3225600"/>
              <a:ext cx="1374840" cy="988920"/>
              <a:chOff x="944640" y="3225600"/>
              <a:chExt cx="1374840" cy="988920"/>
            </a:xfrm>
          </p:grpSpPr>
          <p:sp>
            <p:nvSpPr>
              <p:cNvPr id="159" name=""/>
              <p:cNvSpPr/>
              <p:nvPr/>
            </p:nvSpPr>
            <p:spPr>
              <a:xfrm>
                <a:off x="944640" y="3225600"/>
                <a:ext cx="1374840" cy="988920"/>
              </a:xfrm>
              <a:prstGeom prst="rect">
                <a:avLst/>
              </a:prstGeom>
              <a:noFill/>
              <a:ln w="12600">
                <a:solidFill>
                  <a:srgbClr val="630d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538280" y="3612960"/>
                <a:ext cx="345960" cy="87480"/>
              </a:xfrm>
              <a:custGeom>
                <a:avLst/>
                <a:gdLst/>
                <a:ahLst/>
                <a:rect l="l" t="t" r="r" b="b"/>
                <a:pathLst>
                  <a:path w="162" h="35">
                    <a:moveTo>
                      <a:pt x="0" y="0"/>
                    </a:moveTo>
                    <a:lnTo>
                      <a:pt x="56" y="0"/>
                    </a:lnTo>
                    <a:lnTo>
                      <a:pt x="56" y="34"/>
                    </a:lnTo>
                    <a:lnTo>
                      <a:pt x="161" y="34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39680" y="3616200"/>
                <a:ext cx="9072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039680" y="3541680"/>
                <a:ext cx="9072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665360" y="3616200"/>
                <a:ext cx="41904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39680" y="3801960"/>
                <a:ext cx="9072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1278000" y="3993840"/>
                <a:ext cx="94680" cy="104400"/>
                <a:chOff x="1278000" y="3993840"/>
                <a:chExt cx="94680" cy="1044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1326240" y="3993840"/>
                  <a:ext cx="46440" cy="104400"/>
                </a:xfrm>
                <a:prstGeom prst="ellipse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278000" y="3993840"/>
                  <a:ext cx="50760" cy="10440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>
                <a:off x="1084320" y="3801960"/>
                <a:ext cx="0" cy="21564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84320" y="4017600"/>
                <a:ext cx="18576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930320" y="4044600"/>
                <a:ext cx="3430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382760" y="4074840"/>
                <a:ext cx="47952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084320" y="3892320"/>
                <a:ext cx="206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324080" y="347328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2" h="44">
                    <a:moveTo>
                      <a:pt x="0" y="0"/>
                    </a:moveTo>
                    <a:lnTo>
                      <a:pt x="0" y="43"/>
                    </a:lnTo>
                    <a:lnTo>
                      <a:pt x="51" y="43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407960" y="3740040"/>
                <a:ext cx="466920" cy="174600"/>
              </a:xfrm>
              <a:custGeom>
                <a:avLst/>
                <a:gdLst/>
                <a:ahLst/>
                <a:rect l="l" t="t" r="r" b="b"/>
                <a:pathLst>
                  <a:path w="219" h="70">
                    <a:moveTo>
                      <a:pt x="218" y="0"/>
                    </a:moveTo>
                    <a:lnTo>
                      <a:pt x="0" y="0"/>
                    </a:lnTo>
                    <a:lnTo>
                      <a:pt x="0" y="69"/>
                    </a:lnTo>
                    <a:lnTo>
                      <a:pt x="65" y="69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373040" y="3838320"/>
                <a:ext cx="738360" cy="3240"/>
              </a:xfrm>
              <a:custGeom>
                <a:avLst/>
                <a:gdLst/>
                <a:ahLst/>
                <a:rect l="l" t="t" r="r" b="b"/>
                <a:pathLst>
                  <a:path w="346" h="1">
                    <a:moveTo>
                      <a:pt x="0" y="0"/>
                    </a:moveTo>
                    <a:lnTo>
                      <a:pt x="345" y="0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6" name=""/>
              <p:cNvGrpSpPr/>
              <p:nvPr/>
            </p:nvGrpSpPr>
            <p:grpSpPr>
              <a:xfrm>
                <a:off x="1125360" y="3730320"/>
                <a:ext cx="91800" cy="98280"/>
                <a:chOff x="1125360" y="3730320"/>
                <a:chExt cx="91800" cy="9828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1167480" y="3730320"/>
                  <a:ext cx="49680" cy="98280"/>
                </a:xfrm>
                <a:prstGeom prst="ellipse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125360" y="3730320"/>
                  <a:ext cx="48240" cy="9828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1111320" y="3525480"/>
                <a:ext cx="101160" cy="107640"/>
                <a:chOff x="1111320" y="3525480"/>
                <a:chExt cx="101160" cy="1076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1163880" y="3525480"/>
                  <a:ext cx="48600" cy="107640"/>
                </a:xfrm>
                <a:prstGeom prst="ellipse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111320" y="3525480"/>
                  <a:ext cx="50400" cy="10764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1265400" y="3797280"/>
                <a:ext cx="101160" cy="101160"/>
                <a:chOff x="1265400" y="3797280"/>
                <a:chExt cx="101160" cy="1011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1316880" y="3797280"/>
                  <a:ext cx="49680" cy="101160"/>
                </a:xfrm>
                <a:prstGeom prst="ellipse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265400" y="3797280"/>
                  <a:ext cx="49680" cy="10116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1465200" y="3862080"/>
                <a:ext cx="98280" cy="107640"/>
                <a:chOff x="1465200" y="3862080"/>
                <a:chExt cx="98280" cy="1076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1510200" y="3862080"/>
                  <a:ext cx="53280" cy="107640"/>
                </a:xfrm>
                <a:prstGeom prst="ellipse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465200" y="3862080"/>
                  <a:ext cx="53280" cy="107640"/>
                </a:xfrm>
                <a:prstGeom prst="rect">
                  <a:avLst/>
                </a:prstGeom>
                <a:blipFill rotWithShape="0">
                  <a:blip r:embed="rId12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" name=""/>
              <p:cNvSpPr/>
              <p:nvPr/>
            </p:nvSpPr>
            <p:spPr>
              <a:xfrm>
                <a:off x="1576440" y="3914640"/>
                <a:ext cx="10476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28880" y="3733560"/>
                <a:ext cx="244440" cy="55440"/>
              </a:xfrm>
              <a:custGeom>
                <a:avLst/>
                <a:gdLst/>
                <a:ahLst/>
                <a:rect l="l" t="t" r="r" b="b"/>
                <a:pathLst>
                  <a:path w="115" h="22">
                    <a:moveTo>
                      <a:pt x="0" y="0"/>
                    </a:moveTo>
                    <a:lnTo>
                      <a:pt x="39" y="0"/>
                    </a:lnTo>
                    <a:lnTo>
                      <a:pt x="39" y="21"/>
                    </a:lnTo>
                    <a:lnTo>
                      <a:pt x="114" y="21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222200" y="3585960"/>
                <a:ext cx="209880" cy="60480"/>
              </a:xfrm>
              <a:custGeom>
                <a:avLst/>
                <a:gdLst/>
                <a:ahLst/>
                <a:rect l="l" t="t" r="r" b="b"/>
                <a:pathLst>
                  <a:path w="98" h="24">
                    <a:moveTo>
                      <a:pt x="0" y="0"/>
                    </a:moveTo>
                    <a:lnTo>
                      <a:pt x="33" y="0"/>
                    </a:lnTo>
                    <a:lnTo>
                      <a:pt x="33" y="23"/>
                    </a:lnTo>
                    <a:lnTo>
                      <a:pt x="97" y="23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1432080" y="3555720"/>
                <a:ext cx="96480" cy="106200"/>
                <a:chOff x="1432080" y="3555720"/>
                <a:chExt cx="96480" cy="1062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477080" y="3555720"/>
                  <a:ext cx="51480" cy="106200"/>
                </a:xfrm>
                <a:prstGeom prst="ellipse">
                  <a:avLst/>
                </a:prstGeom>
                <a:blipFill rotWithShape="0">
                  <a:blip r:embed="rId13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432080" y="3555720"/>
                  <a:ext cx="51480" cy="106200"/>
                </a:xfrm>
                <a:prstGeom prst="rect">
                  <a:avLst/>
                </a:prstGeom>
                <a:blipFill rotWithShape="0">
                  <a:blip r:embed="rId14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1789200" y="3904920"/>
                <a:ext cx="48420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" name=""/>
              <p:cNvGrpSpPr/>
              <p:nvPr/>
            </p:nvGrpSpPr>
            <p:grpSpPr>
              <a:xfrm>
                <a:off x="1690560" y="3817800"/>
                <a:ext cx="97920" cy="117000"/>
                <a:chOff x="1690560" y="3817800"/>
                <a:chExt cx="97920" cy="1170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1734480" y="3817800"/>
                  <a:ext cx="54000" cy="117000"/>
                </a:xfrm>
                <a:prstGeom prst="ellipse">
                  <a:avLst/>
                </a:prstGeom>
                <a:blipFill rotWithShape="0">
                  <a:blip r:embed="rId15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690560" y="3817800"/>
                  <a:ext cx="54720" cy="117000"/>
                </a:xfrm>
                <a:prstGeom prst="rect">
                  <a:avLst/>
                </a:prstGeom>
                <a:blipFill rotWithShape="0">
                  <a:blip r:embed="rId16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2109960" y="3749400"/>
                <a:ext cx="92880" cy="107640"/>
                <a:chOff x="2109960" y="3749400"/>
                <a:chExt cx="92880" cy="1076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2156400" y="3749400"/>
                  <a:ext cx="46440" cy="107640"/>
                </a:xfrm>
                <a:prstGeom prst="ellipse">
                  <a:avLst/>
                </a:prstGeom>
                <a:blipFill rotWithShape="0">
                  <a:blip r:embed="rId17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109960" y="3749400"/>
                  <a:ext cx="52920" cy="107640"/>
                </a:xfrm>
                <a:prstGeom prst="rect">
                  <a:avLst/>
                </a:prstGeom>
                <a:blipFill rotWithShape="0">
                  <a:blip r:embed="rId18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1854360" y="3987720"/>
                <a:ext cx="99000" cy="107640"/>
                <a:chOff x="1854360" y="3987720"/>
                <a:chExt cx="99000" cy="1076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898280" y="3987720"/>
                  <a:ext cx="55080" cy="107640"/>
                </a:xfrm>
                <a:prstGeom prst="ellipse">
                  <a:avLst/>
                </a:prstGeom>
                <a:blipFill rotWithShape="0">
                  <a:blip r:embed="rId19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854360" y="3987720"/>
                  <a:ext cx="48240" cy="107640"/>
                </a:xfrm>
                <a:prstGeom prst="rect">
                  <a:avLst/>
                </a:prstGeom>
                <a:blipFill rotWithShape="0">
                  <a:blip r:embed="rId20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1854360" y="3681360"/>
                <a:ext cx="101160" cy="112320"/>
                <a:chOff x="1854360" y="3681360"/>
                <a:chExt cx="101160" cy="1123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899720" y="3681360"/>
                  <a:ext cx="55800" cy="112320"/>
                </a:xfrm>
                <a:prstGeom prst="ellipse">
                  <a:avLst/>
                </a:prstGeom>
                <a:blipFill rotWithShape="0">
                  <a:blip r:embed="rId21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854360" y="3681360"/>
                  <a:ext cx="53640" cy="112320"/>
                </a:xfrm>
                <a:prstGeom prst="rect">
                  <a:avLst/>
                </a:prstGeom>
                <a:blipFill rotWithShape="0">
                  <a:blip r:embed="rId22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1407960" y="3912840"/>
                <a:ext cx="444600" cy="109800"/>
              </a:xfrm>
              <a:custGeom>
                <a:avLst/>
                <a:gdLst/>
                <a:ahLst/>
                <a:rect l="l" t="t" r="r" b="b"/>
                <a:pathLst>
                  <a:path w="208" h="44">
                    <a:moveTo>
                      <a:pt x="0" y="0"/>
                    </a:moveTo>
                    <a:lnTo>
                      <a:pt x="0" y="43"/>
                    </a:lnTo>
                    <a:lnTo>
                      <a:pt x="207" y="43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1762200" y="3446280"/>
                <a:ext cx="91800" cy="97920"/>
                <a:chOff x="1762200" y="3446280"/>
                <a:chExt cx="91800" cy="979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1806120" y="3446280"/>
                  <a:ext cx="47880" cy="97920"/>
                </a:xfrm>
                <a:prstGeom prst="ellipse">
                  <a:avLst/>
                </a:prstGeom>
                <a:blipFill rotWithShape="0">
                  <a:blip r:embed="rId23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762200" y="3446280"/>
                  <a:ext cx="50040" cy="97920"/>
                </a:xfrm>
                <a:prstGeom prst="rect">
                  <a:avLst/>
                </a:prstGeom>
                <a:blipFill rotWithShape="0">
                  <a:blip r:embed="rId24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2095560" y="3538440"/>
                <a:ext cx="97920" cy="107640"/>
                <a:chOff x="2095560" y="3538440"/>
                <a:chExt cx="97920" cy="1076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2139120" y="3538440"/>
                  <a:ext cx="54360" cy="107640"/>
                </a:xfrm>
                <a:prstGeom prst="ellipse">
                  <a:avLst/>
                </a:prstGeom>
                <a:blipFill rotWithShape="0">
                  <a:blip r:embed="rId25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095560" y="3538440"/>
                  <a:ext cx="50040" cy="107640"/>
                </a:xfrm>
                <a:prstGeom prst="rect">
                  <a:avLst/>
                </a:prstGeom>
                <a:blipFill rotWithShape="0">
                  <a:blip r:embed="rId26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1957320" y="3341520"/>
                <a:ext cx="99720" cy="101160"/>
                <a:chOff x="1957320" y="3341520"/>
                <a:chExt cx="99720" cy="1011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2005920" y="3341520"/>
                  <a:ext cx="51120" cy="101160"/>
                </a:xfrm>
                <a:prstGeom prst="ellipse">
                  <a:avLst/>
                </a:prstGeom>
                <a:blipFill rotWithShape="0">
                  <a:blip r:embed="rId27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957320" y="3341520"/>
                  <a:ext cx="52920" cy="101160"/>
                </a:xfrm>
                <a:prstGeom prst="rect">
                  <a:avLst/>
                </a:prstGeom>
                <a:blipFill rotWithShape="0">
                  <a:blip r:embed="rId28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1881360" y="3495600"/>
                <a:ext cx="207720" cy="60120"/>
              </a:xfrm>
              <a:custGeom>
                <a:avLst/>
                <a:gdLst/>
                <a:ahLst/>
                <a:rect l="l" t="t" r="r" b="b"/>
                <a:pathLst>
                  <a:path w="97" h="24">
                    <a:moveTo>
                      <a:pt x="0" y="0"/>
                    </a:moveTo>
                    <a:lnTo>
                      <a:pt x="33" y="0"/>
                    </a:lnTo>
                    <a:lnTo>
                      <a:pt x="33" y="23"/>
                    </a:lnTo>
                    <a:lnTo>
                      <a:pt x="96" y="23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544760" y="3500280"/>
                <a:ext cx="201600" cy="98280"/>
              </a:xfrm>
              <a:custGeom>
                <a:avLst/>
                <a:gdLst/>
                <a:ahLst/>
                <a:rect l="l" t="t" r="r" b="b"/>
                <a:pathLst>
                  <a:path w="95" h="39">
                    <a:moveTo>
                      <a:pt x="0" y="38"/>
                    </a:moveTo>
                    <a:lnTo>
                      <a:pt x="32" y="38"/>
                    </a:lnTo>
                    <a:lnTo>
                      <a:pt x="32" y="0"/>
                    </a:lnTo>
                    <a:lnTo>
                      <a:pt x="94" y="0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862280" y="3395520"/>
                <a:ext cx="83880" cy="79200"/>
              </a:xfrm>
              <a:custGeom>
                <a:avLst/>
                <a:gdLst/>
                <a:ahLst/>
                <a:rect l="l" t="t" r="r" b="b"/>
                <a:pathLst>
                  <a:path w="40" h="32">
                    <a:moveTo>
                      <a:pt x="0" y="31"/>
                    </a:moveTo>
                    <a:lnTo>
                      <a:pt x="13" y="31"/>
                    </a:lnTo>
                    <a:lnTo>
                      <a:pt x="13" y="0"/>
                    </a:lnTo>
                    <a:lnTo>
                      <a:pt x="39" y="0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800280" y="4524120"/>
              <a:ext cx="1660320" cy="1282680"/>
              <a:chOff x="800280" y="4524120"/>
              <a:chExt cx="1660320" cy="128268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800280" y="4524120"/>
                <a:ext cx="1660320" cy="1282680"/>
                <a:chOff x="800280" y="4524120"/>
                <a:chExt cx="1660320" cy="128268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800280" y="4524120"/>
                  <a:ext cx="1660320" cy="1282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100051"/>
                    </a:gs>
                    <a:gs pos="50000">
                      <a:srgbClr val="070025"/>
                    </a:gs>
                    <a:gs pos="100000">
                      <a:srgbClr val="1000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856440" y="4583160"/>
                  <a:ext cx="1532160" cy="1163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70025"/>
                    </a:gs>
                    <a:gs pos="50000">
                      <a:srgbClr val="100051"/>
                    </a:gs>
                    <a:gs pos="100000">
                      <a:srgbClr val="070025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24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915840" y="4660560"/>
                <a:ext cx="1414440" cy="1020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86560" y="5027760"/>
            <a:ext cx="220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ck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41560" y="5457960"/>
            <a:ext cx="2192400" cy="7318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Fabr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i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is an abstraction, i.e. a representation showing relevant features without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hesis is the generation of a circuit model starting from a less detailed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s of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al – the circuit performs a set of operations (HDL models or flow diagr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 – A digital circuit evaluates a set of logic functions (state transition diagrams or schemat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ical – a circuit is a set of geometrical entities (floor plans or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al – describes the function of the circuit regardless of it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– describes a model as an interconnection of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– relates to the physical objects of a design (e.g. transis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Abstraction and Vi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124000" y="2276640"/>
            <a:ext cx="460872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al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24000" y="3427560"/>
            <a:ext cx="460872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24000" y="4579920"/>
            <a:ext cx="460872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metrical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95640" y="1700280"/>
            <a:ext cx="2089080" cy="288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356000" y="1700280"/>
            <a:ext cx="2160720" cy="316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4869000"/>
            <a:ext cx="0" cy="10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92200" y="1652760"/>
            <a:ext cx="158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al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48680" y="165276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ctural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26560" y="544500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ysical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5360" y="5732640"/>
            <a:ext cx="22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ajski and Kun’s Y – ch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hesis can be seen as a set of transformations between two axial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al level synthesis -  generates a structural view of an architectural leve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 level synthesis – generates a structural view of a logic leve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ical level synthesis – generates a physical view at the geometric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al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al level model represents a set of operations and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chitec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s the hardware resources that can implement the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s the execution time of the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s the operations to th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a structural model of a datapath (interconnection of resources) and a logic level model of the control unit (issues control signals to the datapath according the sched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 area and performance depend on this 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9-02T16:03:08Z</dcterms:modified>
  <cp:revision>137</cp:revision>
  <dc:subject/>
  <dc:title>EL 6XX</dc:title>
</cp:coreProperties>
</file>