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B6DE-4D4E-413D-B821-A440BF6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25A5-2027-47F7-AF5E-1E2C96A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8011-6DD5-463E-8EA3-F2755BD8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50E2-8E46-4CFE-9656-56E42954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8D60-54FE-4F50-A439-BC552DA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D40-6203-49DF-BEBC-6D0ABF3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8BB-1087-4A60-A22F-9197A0EB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2C2B-0AEF-4603-BCD9-B748FDB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52B-888C-4614-BB85-E3FA965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D636-9336-4703-AF3A-84E689D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373-7885-4C5B-B899-D450534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4671-A458-477C-A885-8B396B2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07B-E032-4E83-8BE3-1873B48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04DD-0B11-4DFA-AFEA-1C1F8E8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891F-6261-4E4F-BF09-04533C24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AB51-403B-451A-8E60-4E85FF8E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C5A-2C5F-4532-B95D-95EA0DC5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16E5-EC5E-4FB7-B618-F217D876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68B3-C1DD-49AC-83D9-293AC5C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233C-EAAC-4233-84BB-EEBF1A6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F1C6-D10C-466C-B4DA-7110746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8E70-CC31-4C57-9ABE-86667361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9948-ABBF-4EA8-B99D-BF9E617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0C95-84C9-4E25-96BA-0659875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775-37F6-40E3-AB83-C93771E712D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67F-A32E-4D10-B4B4-FA72A73E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73E-515B-4D69-8BE0-0244640DBF4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AEF-1AD5-44BE-9A38-E889B82E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hesis and Opti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onsider the differential equation                  in the interval [0,a] with step size dx and initial values x(0) = x, y(0) = y and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Forward Euler Method (numerical s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732720" y="2060640"/>
                <a:ext cx="2016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3789360"/>
            <a:ext cx="518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iffeq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ad (x,y,u,dx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pea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x1 = x + 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u1 = u – (3 * x * u * dx) – (3 *y * d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y1 = y + u * d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 = x1 &lt;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 until 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rite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62864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162864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TEERING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TRO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80000" y="76464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58560" y="765000"/>
            <a:ext cx="43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765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3564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34920" y="90792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88000" y="1125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43280" y="126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6000" y="112536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92000" y="126828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1125360"/>
            <a:ext cx="14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126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708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08720" y="27079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068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270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24210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795640" y="191628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6720" y="3376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20240" y="59500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 model is provided by a state transition diagram or a finite state machine (FSM), or a circuit schematic (HDL model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pecified by a designer or synthesized from an architectural lev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is different depending on the nature of the circuit (sequential, combinational) and the type of the starting representation (state diagram or sche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outcome is a fully structural representation (e.g. net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enerating the layout of the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the layout correspond to the masks used for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design style (handcrafted or autom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ask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in general in conjunction with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miza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 to the sum of the areas of the circu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erived from a structural view of the circuit, once the area of each component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computation can be performed hierarc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area plays an important role, can be derived from physical view or estimated from a structur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ve quantity, it is not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requires a full analysis of the structure and the behavior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combinational circuit depends on the input/output propagation delay assuming all inputs are availab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synchronous sequential circuit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ooking for the fastest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ecessary time to execute the operations of the circuit. It could be measured in terms of cloc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execution time is provided by the product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timized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circuit can implement a sequence of operations in a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ircuit is the rate at which data are produced and consu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on pipelined circuit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ess or equal than the inverse of the produc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rate pipelining is whe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vers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ta are produced and consumed at each clock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binational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nchronous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ipelined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rea minimization and performance max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is subject to constraints (upper bounds of the area and lower bounds of the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ircuit – different feasible structur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inite se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esign point there are values of area and perform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s m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rea, latency, cycle time, an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evaluatio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ultidimensional space of thes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optimization – a circuit design that optimizes al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the optimization problem is a minimization problem (maximizes the throughput is equivalent to minimize the complement of the through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point in the design space with no other point with at least an inferio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rresponds to a global optimum in a monodimensional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the optimal trade-off points – image of the Pareto points in the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curve or surface – interpolation of the set of the optimal trade – off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techniques speed up the design cycle and reduce the hum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techniques enhances the desig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and optimization are used in mostly all circuit desig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design evaluation space (area –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points shown in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0000" y="2276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558972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76560" y="565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385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19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56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290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920" y="486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920" y="4172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920" y="3476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920" y="2781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321300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64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414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000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852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6360" y="3141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88000" y="357336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4076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4365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28000" y="479736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39480" y="5661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4000" y="2276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logic level models of sequential circuits is (area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non pipelined architectural level model is (area, latency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synchronous pipelined architectural level model is (area, latency, cycle-time, through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dela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dela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latenc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latenc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rot="10800000">
            <a:off x="61128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havio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0920" y="765000"/>
            <a:ext cx="165600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nguag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1128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ructu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1440" y="765000"/>
            <a:ext cx="165564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bstract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155736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0000" y="270828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457992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17017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perations &amp; depend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Data flow &amp; sequencing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817092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chitectural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817092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c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9890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9840" y="19875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285264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SMs – logic 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State diagrams &amp; 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127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9840" y="3125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76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7480" y="2276640"/>
            <a:ext cx="19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47959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erconnected logic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50706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98760" y="50688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10000" y="377496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39960" y="3970440"/>
            <a:ext cx="6061320" cy="1033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39960" y="267480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21574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305100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6880" y="356220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1040" y="2286000"/>
            <a:ext cx="358920" cy="507960"/>
          </a:xfrm>
          <a:prstGeom prst="downArrow">
            <a:avLst>
              <a:gd name="adj1" fmla="val 50000"/>
              <a:gd name="adj2" fmla="val 3538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6880" y="490212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4560" y="43275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1320" y="15573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6400" y="286380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1320" y="2870280"/>
            <a:ext cx="2190960" cy="718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1320" y="4140360"/>
            <a:ext cx="2190960" cy="731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86400" y="41403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0280" y="1628640"/>
            <a:ext cx="1660320" cy="4178160"/>
            <a:chOff x="800280" y="1628640"/>
            <a:chExt cx="1660320" cy="41781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21300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800280" y="3076560"/>
              <a:ext cx="1660320" cy="1282680"/>
              <a:chOff x="800280" y="3076560"/>
              <a:chExt cx="1660320" cy="1282680"/>
            </a:xfrm>
          </p:grpSpPr>
          <p:sp>
            <p:nvSpPr>
              <p:cNvPr id="139" name=""/>
              <p:cNvSpPr/>
              <p:nvPr/>
            </p:nvSpPr>
            <p:spPr>
              <a:xfrm>
                <a:off x="800280" y="307656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6440" y="313560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00280" y="1628640"/>
              <a:ext cx="1660320" cy="1282680"/>
              <a:chOff x="800280" y="1628640"/>
              <a:chExt cx="1660320" cy="1282680"/>
            </a:xfrm>
          </p:grpSpPr>
          <p:sp>
            <p:nvSpPr>
              <p:cNvPr id="142" name=""/>
              <p:cNvSpPr/>
              <p:nvPr/>
            </p:nvSpPr>
            <p:spPr>
              <a:xfrm>
                <a:off x="800280" y="162864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6440" y="168768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944640" y="1717560"/>
              <a:ext cx="1377720" cy="1054080"/>
              <a:chOff x="944640" y="1717560"/>
              <a:chExt cx="1377720" cy="1054080"/>
            </a:xfrm>
          </p:grpSpPr>
          <p:sp>
            <p:nvSpPr>
              <p:cNvPr id="145" name=""/>
              <p:cNvSpPr/>
              <p:nvPr/>
            </p:nvSpPr>
            <p:spPr>
              <a:xfrm>
                <a:off x="1492200" y="171756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78884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47880" y="192528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85920" y="194616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196524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10400" y="204120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08960" y="212400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220644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09680" y="229392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07160" y="237456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7880" y="245088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08960" y="253188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08960" y="260640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944640" y="3225600"/>
              <a:ext cx="1374840" cy="988920"/>
              <a:chOff x="944640" y="3225600"/>
              <a:chExt cx="1374840" cy="988920"/>
            </a:xfrm>
          </p:grpSpPr>
          <p:sp>
            <p:nvSpPr>
              <p:cNvPr id="159" name=""/>
              <p:cNvSpPr/>
              <p:nvPr/>
            </p:nvSpPr>
            <p:spPr>
              <a:xfrm>
                <a:off x="944640" y="322560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361296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9680" y="361620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9680" y="354168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65360" y="361620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39680" y="38019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278000" y="3993840"/>
                <a:ext cx="94680" cy="104400"/>
                <a:chOff x="1278000" y="3993840"/>
                <a:chExt cx="94680" cy="104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326240" y="399384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78000" y="399384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084320" y="380196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84320" y="401760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30320" y="404460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82760" y="407484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4320" y="389232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24080" y="3473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07960" y="374004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3040" y="383832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1125360" y="3730320"/>
                <a:ext cx="91800" cy="98280"/>
                <a:chOff x="1125360" y="3730320"/>
                <a:chExt cx="91800" cy="98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7480" y="373032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25360" y="373032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111320" y="3525480"/>
                <a:ext cx="101160" cy="107640"/>
                <a:chOff x="1111320" y="3525480"/>
                <a:chExt cx="101160" cy="107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163880" y="352548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11320" y="352548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265400" y="3797280"/>
                <a:ext cx="101160" cy="101160"/>
                <a:chOff x="1265400" y="3797280"/>
                <a:chExt cx="101160" cy="101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316880" y="379728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65400" y="379728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465200" y="3862080"/>
                <a:ext cx="98280" cy="107640"/>
                <a:chOff x="1465200" y="3862080"/>
                <a:chExt cx="98280" cy="107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510200" y="386208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386208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1576440" y="391464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8880" y="373356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22200" y="358596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432080" y="3555720"/>
                <a:ext cx="96480" cy="106200"/>
                <a:chOff x="1432080" y="3555720"/>
                <a:chExt cx="96480" cy="106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77080" y="355572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32080" y="355572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89200" y="390492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1690560" y="3817800"/>
                <a:ext cx="97920" cy="117000"/>
                <a:chOff x="1690560" y="3817800"/>
                <a:chExt cx="97920" cy="117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34480" y="381780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90560" y="381780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09960" y="3749400"/>
                <a:ext cx="92880" cy="107640"/>
                <a:chOff x="2109960" y="3749400"/>
                <a:chExt cx="92880" cy="107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156400" y="374940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09960" y="374940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854360" y="3987720"/>
                <a:ext cx="99000" cy="107640"/>
                <a:chOff x="1854360" y="3987720"/>
                <a:chExt cx="99000" cy="107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898280" y="398772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54360" y="398772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54360" y="3681360"/>
                <a:ext cx="101160" cy="112320"/>
                <a:chOff x="1854360" y="3681360"/>
                <a:chExt cx="101160" cy="112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99720" y="368136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54360" y="368136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407960" y="391284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762200" y="3446280"/>
                <a:ext cx="91800" cy="97920"/>
                <a:chOff x="1762200" y="3446280"/>
                <a:chExt cx="91800" cy="9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06120" y="344628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62200" y="344628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095560" y="3538440"/>
                <a:ext cx="97920" cy="107640"/>
                <a:chOff x="2095560" y="3538440"/>
                <a:chExt cx="97920" cy="107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39120" y="353844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95560" y="353844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957320" y="3341520"/>
                <a:ext cx="99720" cy="101160"/>
                <a:chOff x="1957320" y="3341520"/>
                <a:chExt cx="99720" cy="101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05920" y="334152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957320" y="334152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81360" y="349560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44760" y="350028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2280" y="339552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800280" y="4524120"/>
              <a:ext cx="1660320" cy="1282680"/>
              <a:chOff x="800280" y="4524120"/>
              <a:chExt cx="1660320" cy="1282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800280" y="4524120"/>
                <a:ext cx="1660320" cy="1282680"/>
                <a:chOff x="800280" y="4524120"/>
                <a:chExt cx="1660320" cy="1282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00280" y="452412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6440" y="458316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66056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6560" y="50277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560" y="54579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an abstraction, i.e. a representation showing relevant features with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is the generation of a circuit model starting from a less detail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– the circuit performs a set of operations (HDL models or flow dia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– A digital circuit evaluates a set of logic functions (state transition diagrams or sche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– a circuit is a set of geometrical entities (floor plans or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– describes the function of the circuit regardless of i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– describes a model as an interconnection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– relates to the physical objects of a design (e.g. transis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and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227664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42756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457992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700280"/>
            <a:ext cx="2089080" cy="28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356000" y="1700280"/>
            <a:ext cx="2160720" cy="31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486900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2200" y="16527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8680" y="16527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6560" y="544500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360" y="573264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ajski and Kun’s Y –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can be seen as a set of transformations between two axial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level synthesis -  generates a structural view of an architectural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level synthesis – generates a structural view of a logic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level synthesis – generates a physical view at the geometr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level model represents a set of opera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hardware resources that can implement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the execution time of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he operations to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tructural model of a datapath (interconnection of resources) and a logic level model of the control unit (issues control signals to the datapath according the 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02T16:03:08Z</dcterms:modified>
  <cp:revision>137</cp:revision>
  <dc:subject/>
  <dc:title>EL 6XX</dc:title>
</cp:coreProperties>
</file>