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32CC-F3F4-4F64-A9AE-561C8711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61E8-5A23-49E4-B1FE-36FBCBD1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769D2-A3F1-4D15-B495-8CF7730D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6E7B-0750-4973-8651-ECF4AF16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CF32-7E93-42F9-A5FA-A302DBF2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F29B-A81C-419D-957D-1071BBB0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E56C-44D9-4B4E-8FF1-2480B591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8529-7287-43D0-A37F-B6ABC7B5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4559-9B92-495E-9DC2-E2975A4B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ADE3-92AF-40FE-A536-6E9BA3D9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13D8-7001-4762-A4E9-B4262DE6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A7F0-DEBE-41EE-8EE8-1606B1E2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95F9-5EEE-43EA-B644-120D4AF1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BF8C-3F09-43E3-8FE5-29408B98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3227-C5F4-4C6B-BC27-3D94E93D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326A-DE3D-448A-BAA1-A4857613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CEF9-6F0D-4F32-9B80-2DBE60F1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F939-36A2-45A0-91C7-59146D2C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A92F-825B-4887-86DD-ED2E628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7315-5FE7-40B6-8F16-4A4544DF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A110-4402-452D-9CC3-776DFA05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3A126-3A5B-413C-A12E-2DD23253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AED8-F135-47C1-918F-B7C5A45D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165F-6C8A-4E24-B3EC-B64037C4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8767-FC1B-488F-8781-67751A92D46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2F8E-B968-4D67-A632-A0070C881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F672-7B85-46C7-9192-E3DCA384693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CB9B-FF20-4C18-91B8-AFDACA048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Combinatorio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ull adder tiene la siguiente tabla de verdad para la suma S y el carry Co en función de las entradas a, b y carry 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e las funciones de la tabla y escriba una descripción comportamental del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375240" y="1714680"/>
          <a:ext cx="2444760" cy="3585960"/>
        </p:xfrm>
        <a:graphic>
          <a:graphicData uri="http://schemas.openxmlformats.org/drawingml/2006/table">
            <a:tbl>
              <a:tblPr/>
              <a:tblGrid>
                <a:gridCol w="428760"/>
                <a:gridCol w="358920"/>
                <a:gridCol w="649080"/>
                <a:gridCol w="43200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loques Proced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ódigo comportamental de Verilog se encuentra dentro de los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ay dos tipos de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itial: se ejecuta solo una vez, al 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ways: se ejecuta siempre basado en los cambios de las variables mencionadas en el co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– Ini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637000"/>
            <a:ext cx="7489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initial_exampl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g clk,reset,enable,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lk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se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able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– 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637000"/>
            <a:ext cx="7489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initial_alway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g clk,reset,enable,q_in,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f (reset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&lt;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 else if (enable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&lt;= q_i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ssign en Bloques Proced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lo se asignan valores a variables del tipo reg, integer, real o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uede asignar a un reg el valor de una net, constante, otro reg o un valor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signaciones Bloqueantes y no Bloque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asignaciones bloqueantes (=) son secuenciales y se ejecutan en el orden en que son esc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asignaciones no bloqueantes (&lt;=) se ejecutan en paral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852640"/>
            <a:ext cx="1081080" cy="1224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IN/1 O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272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2720" y="34527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3692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2720" y="39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63000" y="323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63000" y="3659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1520" y="306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31520" y="329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3152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3152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68840" y="2736720"/>
          <a:ext cx="2603520" cy="1699920"/>
        </p:xfrm>
        <a:graphic>
          <a:graphicData uri="http://schemas.openxmlformats.org/drawingml/2006/table">
            <a:tbl>
              <a:tblPr/>
              <a:tblGrid>
                <a:gridCol w="444240"/>
                <a:gridCol w="432000"/>
                <a:gridCol w="431640"/>
                <a:gridCol w="432000"/>
                <a:gridCol w="431640"/>
                <a:gridCol w="432000"/>
              </a:tblGrid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484280"/>
            <a:ext cx="2592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module decod (a,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1:0]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utput [3:0]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wire [1:0]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3:0]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z = 4'b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00: z = 4'b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01: z = 4'b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10: z = 4'b01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11: z = 4'b1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haría el decodificador utilizando las instrucciones if …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42512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log puede ser usado para definir circuitos en 4 niveles de abs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orít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u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os tipos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l: descripción verbal del circuito sin considerar elementos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dural: usado para circuitos con elementos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lay 7 Seg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module sevenseg (a,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put [3:0]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output [6:0]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wire [3:0]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reg [6:0]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z = 7'b00000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lay 7 Seg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773360"/>
            <a:ext cx="7489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00: z = 7'b1110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01: z = 7'b001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10: z = 7'b10111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11: z = 7'b101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00: z = 7'b0111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01: z = 7'b110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10: z = 7'b1101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11: z = 7'b101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00: z = 7'b1111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01: z = 7'b111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1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11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0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01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1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11: z = 7'b11011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fault: z = 7'b000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647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oncepto de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ne solo una sal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requiere más de una salida, estas deben ser concate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ograma que llama la función puede extraer cada salida de la salida concate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00720" y="404640"/>
            <a:ext cx="46796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function[16:0] decode_ad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31:0] ins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add_fun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pcode,opr1,opr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code = instr[31:24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1 = instr[7: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 (opc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00: begin  //add two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instr[15:8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01: begin  //substract two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instr[15:8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10: begin  //increment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8'b0000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fault: begin  //decrement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8'b0000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code_add = {add_func,opr2, opr1}; //concatenated into 17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907920"/>
            <a:ext cx="4392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module simple_procesosor(instruction, out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31:0] instruc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utput [7:0] out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ut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fun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p1,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357720"/>
            <a:ext cx="457200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instruction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func,op2,op1} = decode_add(instructio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func =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 = op1 + 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 = op1 - 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2708280"/>
            <a:ext cx="1871640" cy="43344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611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ultiplexor 4 –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700280"/>
            <a:ext cx="45720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mux_behavioral(a,b,c,d,sel,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In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,b,c,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[1:0] se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Out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Port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a,b,c,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[1:0]se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1773360"/>
            <a:ext cx="45720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(sel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sel == 2'b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b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ódulo es la entidad principal de diseño en Veri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3860640"/>
            <a:ext cx="748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module_name (port_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inp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outp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ino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statemem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signación Contin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signación continua es usada para asignar un valor a un wire dentro de un mó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a través del comando assign o asignando un valor al wire en su decl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eclaraciones de asignación continua son concurrentes y son ejecutadas continu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orden de las asignaciones no tiene impor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4508640"/>
            <a:ext cx="748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wire_variable =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wire_variable =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anciación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nstanciación de un módulo crea un objet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uertos del módulo instanciado deben corresponder a los de la declaración del mód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 nombre, usando un punto ‘.template_por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 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292640"/>
            <a:ext cx="7489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1(port_connection_li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2(port connection li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n (port_connection_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anciación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637000"/>
            <a:ext cx="7489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 module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and4(a,b,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a,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c=a&amp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module instanti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in1, in2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[3:0] o1, o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 C1 is an instance of and 4 referenced by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4 C1(in1,in2,o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C2 is an instance of and 4 referenced b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4 C2(.c(o2), .a(in1), .b(in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struyendo la Descripción VHDL a Partir de la Tabla de Ver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421000"/>
          <a:ext cx="1366920" cy="3014640"/>
        </p:xfrm>
        <a:graphic>
          <a:graphicData uri="http://schemas.openxmlformats.org/drawingml/2006/table">
            <a:tbl>
              <a:tblPr/>
              <a:tblGrid>
                <a:gridCol w="358560"/>
                <a:gridCol w="360360"/>
                <a:gridCol w="360360"/>
                <a:gridCol w="2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76720" y="3141720"/>
                <a:ext cx="1511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ción 1 – Descripción Estruc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637000"/>
            <a:ext cx="7489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comb (a,b,c,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utput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ternal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nota,o1,o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not C1 (nota,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 C2 (o1,nota,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 C3 (o2,a,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r C4 (z,o1,o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ción 2 – Descripción Comporta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637000"/>
            <a:ext cx="748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comb (a,b,c,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utput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ssign z = (!a &amp;&amp; b) || (a &amp;&amp; 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8T22:15:17Z</dcterms:modified>
  <cp:revision>228</cp:revision>
  <dc:subject/>
  <dc:title>EL 6XX</dc:title>
</cp:coreProperties>
</file>