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B634-1EC3-413A-B857-2B70BADB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2788-32C7-4882-89C9-6C27308B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E818-8AC4-4379-9AC1-5935F9B9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360B-6053-4FDE-8921-F245A6E0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8876-3EA6-4546-9EDA-B0A54735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29B7-C821-4FE6-BFF4-3AFDD577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B1C7-9190-40C6-A404-503CEAD9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159A-653B-45B9-9DFF-63A93680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A464-EEFA-4DBB-AC26-F41E37C1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4BD2-DFE8-4FAB-9325-98801236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19A3-C03C-4C1F-944A-FC3D67C2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BA4B-9959-4877-8A84-F69A9A30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38C2-E80E-4A9C-97E6-CCC5D3D5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F42-2378-4A6F-9FC9-5047ADA4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1B33-3E72-4212-96D5-C02A77C2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F79C-A343-4196-BD18-A003655C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CFDA-7A0C-45B9-AD2A-2115D3A8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E2979-8A60-4758-A06F-4C3266BB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EC8E-6A9C-4088-BD3C-75A52B6A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7D424-26FC-4795-8CF6-71C4B959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4DBD-FCA0-4DAC-B77F-CC2760ED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7DED3-A411-47D5-841A-C282B8D5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DD71-D2DE-4AFD-B437-05AB1959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E892-0E6B-4A6C-B968-64916204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C710-D3CA-48EB-8CC2-78D2099BB07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F87F-EDFE-4F15-9048-9C78A70EC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9FFF-1BDB-4398-BF14-8FEAC7938AF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DC75-5771-4DF1-B3B5-CA9100B7E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Combinatorio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ull adder tiene la siguiente tabla de verdad para la suma S y el carry Co en función de las entradas a, b y carry 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e las funciones de la tabla y escriba una descripción comportamental del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375240" y="1714680"/>
          <a:ext cx="2444760" cy="3585960"/>
        </p:xfrm>
        <a:graphic>
          <a:graphicData uri="http://schemas.openxmlformats.org/drawingml/2006/table">
            <a:tbl>
              <a:tblPr/>
              <a:tblGrid>
                <a:gridCol w="428760"/>
                <a:gridCol w="358920"/>
                <a:gridCol w="649080"/>
                <a:gridCol w="43200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loques Proced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ódigo comportamental de Verilog se encuentra dentro de los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ay dos tipos de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itial: se ejecuta solo una vez, al 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ways: se ejecuta siempre basado en los cambios de las variables mencionadas en el co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Ini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637000"/>
            <a:ext cx="7489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exampl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lk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se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able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637000"/>
            <a:ext cx="7489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alway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q_in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f (reset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 else if (enable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q_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sign en Bloques Proced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o se asignan valores a variables del tipo reg, integer, real o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uede asignar a un reg el valor de una net, constante, otro reg o un valor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ignaciones Bloqueantes y no Bloque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bloqueantes (=) son secuenciales y se ejecutan en el orden en que son esc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no bloqueantes (&lt;=) se ejecutan en paral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852640"/>
            <a:ext cx="1081080" cy="1224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IN/1 O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272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2720" y="34527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3692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39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63000" y="323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63000" y="3659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1520" y="306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31520" y="329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3152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3152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68840" y="2736720"/>
          <a:ext cx="2603520" cy="1699920"/>
        </p:xfrm>
        <a:graphic>
          <a:graphicData uri="http://schemas.openxmlformats.org/drawingml/2006/table">
            <a:tbl>
              <a:tblPr/>
              <a:tblGrid>
                <a:gridCol w="444240"/>
                <a:gridCol w="432000"/>
                <a:gridCol w="431640"/>
                <a:gridCol w="432000"/>
                <a:gridCol w="431640"/>
                <a:gridCol w="432000"/>
              </a:tblGrid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484280"/>
            <a:ext cx="2592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decod (a,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wire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z = 4'b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0: z = 4'b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1: z = 4'b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0: z = 4'b01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1: z = 4'b1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haría el decodificador utilizando las instrucciones if …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4251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log puede ser usado para definir circuitos en 4 niveles de abs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orít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u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os tipos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l: descripción verbal del circuito sin considerar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dural: usado para circuitos con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module sevenseg (a,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put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output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wire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reg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z = 7'b00000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773360"/>
            <a:ext cx="7489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0: z = 7'b1110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1: z = 7'b0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0: z = 7'b101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1: z = 7'b10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0: z = 7'b0111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1: z = 7'b110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0: z = 7'b110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1: z = 7'b1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0: z = 7'b111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1: z = 7'b11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1: z = 7'b110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z = 7'b000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647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oncepto de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ne solo una sal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requiere más de una salida, estas deben ser concate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ograma que llama la función puede extraer cada salida de la salida concate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00720" y="404640"/>
            <a:ext cx="46796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function[16:0] decode_ad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add_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code,opr1,opr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code = instr[31:2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1 = instr[7: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 (opc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0: begin  //add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1: begin  //substract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10: begin  //in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begin  //de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code_add = {add_func,opr2, opr1}; //concatenated into 17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907920"/>
            <a:ext cx="4392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simple_procesosor(instruction, out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uc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1,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357720"/>
            <a:ext cx="45720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instruction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func,op2,op1} = decode_add(instructio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func =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+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-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2708280"/>
            <a:ext cx="1871640" cy="4334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611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ultiplexor 4 –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700280"/>
            <a:ext cx="45720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mux_behavioral(a,b,c,d,sel,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[1:0] 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[1:0]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1773360"/>
            <a:ext cx="45720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(sel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sel == 2'b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b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ódulo es la entidad principal de diseño en Veri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860640"/>
            <a:ext cx="748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module_name (port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out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o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statemem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signación Contin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signación continua es usada para asignar un valor a un wire dentro de un mó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a través del comando assign o asignando un valor al wire en su decl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eclaraciones de asignación continua son concurrentes y son ejecutadas continu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orden de las asignaciones no tiene impor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4508640"/>
            <a:ext cx="748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nstanciación de un módulo crea un objet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uertos del módulo instanciado deben corresponder a los de la declaración del mód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nombre, usando un punto ‘.template_por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292640"/>
            <a:ext cx="7489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1(port_connection_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2(port connection 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n (port_connection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637000"/>
            <a:ext cx="7489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module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and4(a,b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a,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c=a&amp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module instanti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in1, in2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[3:0] o1, 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C1 is an instance of and 4 referenced by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1(in1,in2,o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C2 is an instance of and 4 referenced b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2(.c(o2), .a(in1), .b(in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struyendo la Descripción VHDL a Partir de la Tabla de Ver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421000"/>
          <a:ext cx="1366920" cy="3014640"/>
        </p:xfrm>
        <a:graphic>
          <a:graphicData uri="http://schemas.openxmlformats.org/drawingml/2006/table">
            <a:tbl>
              <a:tblPr/>
              <a:tblGrid>
                <a:gridCol w="358560"/>
                <a:gridCol w="360360"/>
                <a:gridCol w="360360"/>
                <a:gridCol w="2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76720" y="3141720"/>
                <a:ext cx="1511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1 – Descripción Estruc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7489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ternal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nota,o1,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not C1 (nota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2 (o1,nota,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3 (o2,a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r C4 (z,o1,o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2 – Descripción Comporta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37000"/>
            <a:ext cx="748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ssign z = (!a &amp;&amp; b) || (a &amp;&amp; 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8T22:15:17Z</dcterms:modified>
  <cp:revision>228</cp:revision>
  <dc:subject/>
  <dc:title>EL 6XX</dc:title>
</cp:coreProperties>
</file>