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A2C6F-F083-46C6-88C1-54A2D29C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F1D5B-120D-4A5D-821B-FEC20648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15A88-C6EF-44B5-A9B4-9E68E9A7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EA0B9-6EE1-4E80-BC4B-F1724FD5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3507-9302-4560-BE95-B9298CD6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594A-B15C-4230-81C1-9A2D493B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475A-D8AF-49A6-B024-EB8C092A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F234-1A79-45A4-A9B1-B4DA4119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0D5E-F7FA-407D-939A-C98D4FDA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379D-149E-4ECB-9A61-FE66AA21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1937-1D26-456D-A82A-D7652BF6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AD62E-94A8-4E49-B99A-7EF0D3B4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FDE6-99D9-4F54-995B-DF8A5270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A730-3793-43A4-87BD-17C49EB2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E9EE-E4BA-4323-9890-D9891A3F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A9C9-D6D1-400C-BFB7-96252224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B909-339E-4B31-B595-81C1FF16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0D4CC-8B98-4A70-80DE-D3BEA093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5C2BF-33C1-485B-AE31-5AC0F595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9EC14-6B8B-4EE4-9F1A-187D09A9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E6713-CB75-4EB3-A8E2-971D092A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6C563-890D-4919-95D1-ED375CD7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65CC3-C730-4338-9772-72622B62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AF4FA-9C4A-4209-BB6E-21663263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7B69-9D41-4D3D-8647-DD12A7F02C5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5640-E56C-4E6D-B1F7-827993E14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211F-F994-4106-B863-E253487D43C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6B80-A824-4B99-A33F-0924A2D07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eño de Circuitos Lógicos Combinatorios (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re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338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full adder tiene la siguiente tabla de verdad para la suma S y el carry Co en función de las entradas a, b y carry 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rive las funciones de la tabla y escriba una descripción comportamental del circ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375240" y="1714680"/>
          <a:ext cx="2444760" cy="3585960"/>
        </p:xfrm>
        <a:graphic>
          <a:graphicData uri="http://schemas.openxmlformats.org/drawingml/2006/table">
            <a:tbl>
              <a:tblPr/>
              <a:tblGrid>
                <a:gridCol w="428760"/>
                <a:gridCol w="358920"/>
                <a:gridCol w="649080"/>
                <a:gridCol w="432000"/>
                <a:gridCol w="57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loques Procedu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ódigo comportamental de Verilog se encuentra dentro de los bloques proced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ay dos tipos de bloques proced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itial: se ejecuta solo una vez, al in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ways: se ejecuta siempre basado en los cambios de las variables mencionadas en el co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– Ini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2637000"/>
            <a:ext cx="7489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 initial_exampl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g clk,reset,enable,dat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clk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se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able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data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– Al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637000"/>
            <a:ext cx="7489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 initial_always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g clk,reset,enable,q_in,dat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f (reset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data &lt;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 else if (enable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data &lt;= q_i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ssign en Bloques Procedu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lo se asignan valores a variables del tipo reg, integer, real o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puede asignar a un reg el valor de una net, constante, otro reg o un valor espec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signaciones Bloqueantes y no Bloque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asignaciones bloqueantes (=) son secuenciales y se ejecutan en el orden en que son escri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asignaciones no bloqueantes (&lt;=) se ejecutan en paral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codif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2852640"/>
            <a:ext cx="1081080" cy="1224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IN/1 OF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2720" y="32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2720" y="34527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2720" y="36925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2720" y="393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3789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63000" y="3233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63000" y="3659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31520" y="3068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31520" y="329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31520" y="3573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3152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768840" y="2736720"/>
          <a:ext cx="2603520" cy="1699920"/>
        </p:xfrm>
        <a:graphic>
          <a:graphicData uri="http://schemas.openxmlformats.org/drawingml/2006/table">
            <a:tbl>
              <a:tblPr/>
              <a:tblGrid>
                <a:gridCol w="444240"/>
                <a:gridCol w="432000"/>
                <a:gridCol w="431640"/>
                <a:gridCol w="432000"/>
                <a:gridCol w="431640"/>
                <a:gridCol w="432000"/>
              </a:tblGrid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codif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1484280"/>
            <a:ext cx="25923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module decod (a,z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//Input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input [1:0] 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utput [3:0] 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//Port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wire [1:0] 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[3:0] 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z = 4'b00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lways @(a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case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2'b00: z = 4'b00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2'b01: z = 4'b00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2'b10: z = 4'b01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2'b11: z = 4'b10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re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57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haría el decodificador utilizando las instrucciones if …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425124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iveles de Abs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erilog puede ser usado para definir circuitos en 4 niveles de abstr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gorít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T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uer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isten dos tipos de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l: descripción verbal del circuito sin considerar elementos de 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cedural: usado para circuitos con elementos de 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play 7 Seg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2060640"/>
            <a:ext cx="7489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module sevenseg (a,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//Inpu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input [3:0]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output [6:0] z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//Port w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wire [3:0]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reg [6:0] z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z = 7'b00000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play 7 Seg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1773360"/>
            <a:ext cx="7489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lways @(a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case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000: z = 7'b11101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001: z = 7'b00100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010: z = 7'b10111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011: z = 7'b10110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100: z = 7'b01110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101: z = 7'b11010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110: z = 7'b11011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111: z = 7'b10100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000: z = 7'b11111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001: z = 7'b11110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010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011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100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101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110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111: z = 7'b11011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default: z = 7'b00000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6472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Concepto de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ene solo una sal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se requiere más de una salida, estas deben ser concaten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programa que llama la función puede extraer cada salida de la salida concate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00720" y="404640"/>
            <a:ext cx="46796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function[16:0] decode_ad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input [31:0] inst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add_fun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[7:0] opcode,opr1,opr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code = instr[31:24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1 = instr[7: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case (opc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8'b10001000: begin  //add two ope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dd_func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2 = instr[15:8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8'b10001001: begin  //substract two ope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dd_func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2 = instr[15:8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8'b10001010: begin  //increment ope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dd_func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2 = 8'b000000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default: begin  //decrement ope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dd_func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2 = 8'b000000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decode_add = {add_func,opr2, opr1}; //concatenated into 17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907920"/>
            <a:ext cx="43927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module simple_procesosor(instruction, outp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input [31:0] instructio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utput [7:0] out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[7:0] out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fun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[7:0] op1,op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3357720"/>
            <a:ext cx="457200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instruction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func,op2,op1} = decode_add(instructio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func =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 = op1 + op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 = op1 - op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2708280"/>
            <a:ext cx="1871640" cy="433440"/>
          </a:xfrm>
          <a:custGeom>
            <a:avLst/>
            <a:gdLst>
              <a:gd name="textAreaLeft" fmla="*/ 234000 w 1871640"/>
              <a:gd name="textAreaRight" fmla="*/ 1638000 w 1871640"/>
              <a:gd name="textAreaTop" fmla="*/ 108360 h 433440"/>
              <a:gd name="textAreaBottom" fmla="*/ 3250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5611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ultiplexor 4 –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1700280"/>
            <a:ext cx="457200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mux_behavioral(a,b,c,d,sel,y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Input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a,b,c,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[1:0] se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Output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Port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a,b,c,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[1:0]se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67280" y="1773360"/>
            <a:ext cx="457200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@(sel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sel == 2'b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 if (sel == 2'b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b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 if (sel == 2'b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 if (sel == 2'b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módulo es la entidad principal de diseño en Veri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nt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3860640"/>
            <a:ext cx="748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modul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module_name (port_li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msb:lsb] input_port_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msb:lsb] output_port_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ino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msb:lsb] inout_port_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i="1" lang="es-ES_tradnl" sz="14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i="1" lang="es-ES_tradnl" sz="1400" spc="-1" strike="noStrike">
                <a:solidFill>
                  <a:srgbClr val="000000"/>
                </a:solidFill>
                <a:latin typeface="Courier New"/>
              </a:rPr>
              <a:t>statemem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signación Continu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asignación continua es usada para asignar un valor a un wire dentro de un mód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aliza a través del comando assign o asignando un valor al wire en su decla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declaraciones de asignación continua son concurrentes y son ejecutadas continu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orden de las asignaciones no tiene impor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nt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4508640"/>
            <a:ext cx="748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wir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wire_variable = </a:t>
            </a:r>
            <a:r>
              <a:rPr b="0" i="1" lang="es-ES_tradnl" sz="14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assign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wire_variable = </a:t>
            </a:r>
            <a:r>
              <a:rPr b="0" i="1" lang="es-ES_tradnl" sz="1400" spc="-1" strike="noStrike">
                <a:solidFill>
                  <a:srgbClr val="000000"/>
                </a:solidFill>
                <a:latin typeface="Courier New"/>
              </a:rPr>
              <a:t>expression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anciación de 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instanciación de un módulo crea un objeto ú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puertos del módulo instanciado deben corresponder a los de la declaración del mód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r nombre, usando un punto ‘.template_port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r 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4292640"/>
            <a:ext cx="7489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_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stance_name_1(port_connection_list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stance_name_2(port connection list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stance_name_n (port_connection_li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anciación de 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637000"/>
            <a:ext cx="74898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 module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modul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and4(a,b,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3:0] a,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3:0] 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assign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c=a&amp;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module instanti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wir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3:0] in1, in2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wire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[3:0] o1, o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 C1 is an instance of and 4 referenced by 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nd4 C1(in1,in2,o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C2 is an instance of and 4 referenced by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nd4 C2(.c(o2), .a(in1), .b(in2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struyendo la Descripción VHDL a Partir de la Tabla de Ver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421000"/>
          <a:ext cx="1366920" cy="3014640"/>
        </p:xfrm>
        <a:graphic>
          <a:graphicData uri="http://schemas.openxmlformats.org/drawingml/2006/table">
            <a:tbl>
              <a:tblPr/>
              <a:tblGrid>
                <a:gridCol w="358560"/>
                <a:gridCol w="360360"/>
                <a:gridCol w="360360"/>
                <a:gridCol w="287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076720" y="3141720"/>
                <a:ext cx="15112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Opción 1 – Descripción Estructu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637000"/>
            <a:ext cx="7489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 comb (a,b,c,z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Inpu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put a,b,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output 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Port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a,b,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Internal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nota,o1,o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not C1 (nota,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nd C2 (o1,nota,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nd C3 (o2,a,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or C4 (z,o1,o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Opción 2 – Descripción Comportamen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2637000"/>
            <a:ext cx="74898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 comb (a,b,c,z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Inpu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put a,b,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output 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Port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a,b,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ssign z = (!a &amp;&amp; b) || (a &amp;&amp; 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8-08T22:15:17Z</dcterms:modified>
  <cp:revision>228</cp:revision>
  <dc:subject/>
  <dc:title>EL 6XX</dc:title>
</cp:coreProperties>
</file>