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E16-C9B7-46AF-AEBF-B69A929D5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contactos y los wells no aparecen en la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iste un condensador en los nodos internos, esto se debe a la granularidad de las dos fuentes (source) de los transistores en serie y a la capacidad de puertas sobrepuestas de los dos transistores en s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E1B2-CF39-4849-8272-08C1FEC0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9F4F-49D6-4DCF-8254-2279FB7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BCE7-2AD1-4F19-A1C9-25547803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4CC8-61C4-4A5A-866D-56100452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B2DD-CD56-4D0A-B787-DABDD502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F6C7-CD8C-4D98-8EFF-1ADFE67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8AB-0001-447A-B68B-08E0471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1D4E-A9E2-413C-A501-D06CCB6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24CB-132B-41CD-B386-6FBDF0C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F84-23A5-4BBC-9CC8-64F08489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8A6-094E-42C6-B50B-73A556B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C5E0-85FE-4083-B065-2CA4FD8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7BA8-A749-4C5E-9A83-9231D1C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36B-A508-439A-8DE8-5E8DA1B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6B6-95A5-4620-BBE0-B6F00A3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F55-DA0A-4EAF-8D9D-86F52740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324E-D303-4B17-97A0-0A19695B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F730-8868-4D80-95ED-4CFB0041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EF21-0BF4-45B6-B1FA-1BBD2CE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D164-8201-4DAA-BC01-F386B51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4756-9125-4069-BD2A-0133E1B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9CD6-33A5-44CA-826B-9BD4184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96B0-96D1-4F33-9E40-85D21EC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FA02-EA80-4A7E-BB7E-FAE01F1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81E-A45F-4287-9B57-C71BC7CE4C0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A0C-002F-4A9B-BE39-257EE43F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C81-BFD2-4CF5-B8B1-946101ED7A3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DD1-B6CA-48AC-8F8F-0C3B5900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de Cel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Estándares (Standard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ógica de propósi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sintet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ma altura, variación del 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iseños regulares y estructurados (aritm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algunos cableados en la ce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cho y alto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74796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74796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66236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66236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376360"/>
            <a:ext cx="15228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76360"/>
            <a:ext cx="152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04960"/>
            <a:ext cx="152280" cy="259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21480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74796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43376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281480"/>
            <a:ext cx="1828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604960"/>
            <a:ext cx="1371600" cy="1526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4796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281480"/>
            <a:ext cx="685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90060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292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300400"/>
            <a:ext cx="9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81880" y="29862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92240" y="5348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98620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34816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58128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58128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49568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9568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3352680"/>
            <a:ext cx="152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352680"/>
            <a:ext cx="1526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3352680"/>
            <a:ext cx="15228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04812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58128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26708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4114800"/>
            <a:ext cx="26672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58128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4114800"/>
            <a:ext cx="1526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7339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008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40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362320"/>
            <a:ext cx="145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canales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1880" y="2819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2240" y="5181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8195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51814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1599840" y="4419360"/>
            <a:ext cx="228600" cy="838440"/>
          </a:xfrm>
          <a:prstGeom prst="upDownArrow">
            <a:avLst>
              <a:gd name="adj1" fmla="val 50000"/>
              <a:gd name="adj2" fmla="val 73014"/>
            </a:avLst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776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3623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1880" y="23623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2240" y="571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2720" y="1865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0840" y="5715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90720" y="60040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rde de Ce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90960" y="5800680"/>
            <a:ext cx="68256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54280" y="166068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65560" y="1889280"/>
            <a:ext cx="4204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464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3000" y="55468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2193840"/>
            <a:ext cx="106668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36960" y="5089680"/>
            <a:ext cx="1066680" cy="7617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4160" y="2117880"/>
            <a:ext cx="152280" cy="3809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4680" y="1736640"/>
            <a:ext cx="144756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4680" y="5546880"/>
            <a:ext cx="1447560" cy="76176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9240" y="402264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4160" y="4022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12920" y="1812960"/>
            <a:ext cx="152640" cy="152280"/>
            <a:chOff x="4012920" y="181296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401328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132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01292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393800" y="1812960"/>
            <a:ext cx="152640" cy="152280"/>
            <a:chOff x="4393800" y="1812960"/>
            <a:chExt cx="152640" cy="152280"/>
          </a:xfrm>
        </p:grpSpPr>
        <p:sp>
          <p:nvSpPr>
            <p:cNvPr id="298" name=""/>
            <p:cNvSpPr/>
            <p:nvPr/>
          </p:nvSpPr>
          <p:spPr>
            <a:xfrm>
              <a:off x="439416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416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39380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74680" y="1812960"/>
            <a:ext cx="152640" cy="152280"/>
            <a:chOff x="4774680" y="1812960"/>
            <a:chExt cx="152640" cy="152280"/>
          </a:xfrm>
        </p:grpSpPr>
        <p:sp>
          <p:nvSpPr>
            <p:cNvPr id="302" name=""/>
            <p:cNvSpPr/>
            <p:nvPr/>
          </p:nvSpPr>
          <p:spPr>
            <a:xfrm>
              <a:off x="477504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504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746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088880" y="6080040"/>
            <a:ext cx="152640" cy="152280"/>
            <a:chOff x="4088880" y="608004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40892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92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0888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27280" y="6080040"/>
            <a:ext cx="152640" cy="152280"/>
            <a:chOff x="4427280" y="608004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44276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76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272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74680" y="6080040"/>
            <a:ext cx="152640" cy="152280"/>
            <a:chOff x="4774680" y="608004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47750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50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746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088880" y="2270160"/>
            <a:ext cx="152640" cy="152280"/>
            <a:chOff x="4088880" y="227016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4089240" y="2270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08888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36240" y="44038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50280" y="4251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08200" y="1965240"/>
            <a:ext cx="364680" cy="294480"/>
            <a:chOff x="5308200" y="1965240"/>
            <a:chExt cx="364680" cy="294480"/>
          </a:xfrm>
        </p:grpSpPr>
        <p:sp>
          <p:nvSpPr>
            <p:cNvPr id="324" name=""/>
            <p:cNvSpPr/>
            <p:nvPr/>
          </p:nvSpPr>
          <p:spPr>
            <a:xfrm>
              <a:off x="530820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6200" y="2046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08560" y="5851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3280" y="2498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13280" y="5241960"/>
            <a:ext cx="30456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2803680"/>
            <a:ext cx="30456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022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1360" y="3260880"/>
            <a:ext cx="228600" cy="1523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99080" y="4556160"/>
            <a:ext cx="30456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1889280"/>
            <a:ext cx="1447560" cy="42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1584360"/>
            <a:ext cx="1600200" cy="259092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88880" y="5622840"/>
            <a:ext cx="152640" cy="152280"/>
            <a:chOff x="4088880" y="5622840"/>
            <a:chExt cx="152640" cy="152280"/>
          </a:xfrm>
        </p:grpSpPr>
        <p:sp>
          <p:nvSpPr>
            <p:cNvPr id="336" name=""/>
            <p:cNvSpPr/>
            <p:nvPr/>
          </p:nvSpPr>
          <p:spPr>
            <a:xfrm>
              <a:off x="4089240" y="5622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924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08888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088880" y="5318280"/>
            <a:ext cx="152640" cy="152280"/>
            <a:chOff x="4088880" y="5318280"/>
            <a:chExt cx="152640" cy="152280"/>
          </a:xfrm>
        </p:grpSpPr>
        <p:sp>
          <p:nvSpPr>
            <p:cNvPr id="340" name=""/>
            <p:cNvSpPr/>
            <p:nvPr/>
          </p:nvSpPr>
          <p:spPr>
            <a:xfrm>
              <a:off x="4089240" y="53182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924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08888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4680" y="5165640"/>
            <a:ext cx="152640" cy="152280"/>
            <a:chOff x="4774680" y="5165640"/>
            <a:chExt cx="152640" cy="152280"/>
          </a:xfrm>
        </p:grpSpPr>
        <p:sp>
          <p:nvSpPr>
            <p:cNvPr id="344" name=""/>
            <p:cNvSpPr/>
            <p:nvPr/>
          </p:nvSpPr>
          <p:spPr>
            <a:xfrm>
              <a:off x="4775040" y="516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504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77468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65200" y="4098960"/>
            <a:ext cx="152640" cy="152280"/>
            <a:chOff x="4165200" y="4098960"/>
            <a:chExt cx="152640" cy="152280"/>
          </a:xfrm>
        </p:grpSpPr>
        <p:sp>
          <p:nvSpPr>
            <p:cNvPr id="348" name=""/>
            <p:cNvSpPr/>
            <p:nvPr/>
          </p:nvSpPr>
          <p:spPr>
            <a:xfrm>
              <a:off x="4165560" y="4098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56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16520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088880" y="2575080"/>
            <a:ext cx="152640" cy="152280"/>
            <a:chOff x="4088880" y="2575080"/>
            <a:chExt cx="152640" cy="152280"/>
          </a:xfrm>
        </p:grpSpPr>
        <p:sp>
          <p:nvSpPr>
            <p:cNvPr id="352" name=""/>
            <p:cNvSpPr/>
            <p:nvPr/>
          </p:nvSpPr>
          <p:spPr>
            <a:xfrm>
              <a:off x="4089240" y="25750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8924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08888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088880" y="2879640"/>
            <a:ext cx="152640" cy="152280"/>
            <a:chOff x="4088880" y="2879640"/>
            <a:chExt cx="152640" cy="152280"/>
          </a:xfrm>
        </p:grpSpPr>
        <p:sp>
          <p:nvSpPr>
            <p:cNvPr id="356" name=""/>
            <p:cNvSpPr/>
            <p:nvPr/>
          </p:nvSpPr>
          <p:spPr>
            <a:xfrm>
              <a:off x="40892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888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088880" y="3184560"/>
            <a:ext cx="152640" cy="152280"/>
            <a:chOff x="4088880" y="3184560"/>
            <a:chExt cx="152640" cy="152280"/>
          </a:xfrm>
        </p:grpSpPr>
        <p:sp>
          <p:nvSpPr>
            <p:cNvPr id="360" name=""/>
            <p:cNvSpPr/>
            <p:nvPr/>
          </p:nvSpPr>
          <p:spPr>
            <a:xfrm>
              <a:off x="40892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888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74680" y="2879640"/>
            <a:ext cx="152640" cy="152280"/>
            <a:chOff x="4774680" y="2879640"/>
            <a:chExt cx="152640" cy="152280"/>
          </a:xfrm>
        </p:grpSpPr>
        <p:sp>
          <p:nvSpPr>
            <p:cNvPr id="364" name=""/>
            <p:cNvSpPr/>
            <p:nvPr/>
          </p:nvSpPr>
          <p:spPr>
            <a:xfrm>
              <a:off x="47750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750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746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774680" y="3184560"/>
            <a:ext cx="152640" cy="152280"/>
            <a:chOff x="4774680" y="3184560"/>
            <a:chExt cx="152640" cy="152280"/>
          </a:xfrm>
        </p:grpSpPr>
        <p:sp>
          <p:nvSpPr>
            <p:cNvPr id="368" name=""/>
            <p:cNvSpPr/>
            <p:nvPr/>
          </p:nvSpPr>
          <p:spPr>
            <a:xfrm>
              <a:off x="47750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750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746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71560" y="451008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0240" y="566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ils ~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2705040"/>
          <a:ext cx="1311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5040"/>
                    <a:ext cx="1311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784600" y="2266920"/>
            <a:ext cx="106668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84600" y="5162400"/>
            <a:ext cx="106668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1800" y="2190600"/>
            <a:ext cx="15228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196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196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6880" y="409572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1800" y="4095720"/>
            <a:ext cx="7596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60200" y="1886040"/>
            <a:ext cx="152640" cy="152280"/>
            <a:chOff x="2860200" y="188604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28605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605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602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41440" y="1886040"/>
            <a:ext cx="152640" cy="152280"/>
            <a:chOff x="3241440" y="1886040"/>
            <a:chExt cx="152640" cy="152280"/>
          </a:xfrm>
        </p:grpSpPr>
        <p:sp>
          <p:nvSpPr>
            <p:cNvPr id="388" name=""/>
            <p:cNvSpPr/>
            <p:nvPr/>
          </p:nvSpPr>
          <p:spPr>
            <a:xfrm>
              <a:off x="32418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18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414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22320" y="1886040"/>
            <a:ext cx="152640" cy="152280"/>
            <a:chOff x="3622320" y="1886040"/>
            <a:chExt cx="152640" cy="152280"/>
          </a:xfrm>
        </p:grpSpPr>
        <p:sp>
          <p:nvSpPr>
            <p:cNvPr id="392" name=""/>
            <p:cNvSpPr/>
            <p:nvPr/>
          </p:nvSpPr>
          <p:spPr>
            <a:xfrm>
              <a:off x="36226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26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223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36520" y="6153120"/>
            <a:ext cx="152640" cy="152280"/>
            <a:chOff x="2936520" y="6153120"/>
            <a:chExt cx="152640" cy="152280"/>
          </a:xfrm>
        </p:grpSpPr>
        <p:sp>
          <p:nvSpPr>
            <p:cNvPr id="396" name=""/>
            <p:cNvSpPr/>
            <p:nvPr/>
          </p:nvSpPr>
          <p:spPr>
            <a:xfrm>
              <a:off x="2936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36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6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74560" y="6153120"/>
            <a:ext cx="152640" cy="152280"/>
            <a:chOff x="3274560" y="6153120"/>
            <a:chExt cx="152640" cy="152280"/>
          </a:xfrm>
        </p:grpSpPr>
        <p:sp>
          <p:nvSpPr>
            <p:cNvPr id="400" name=""/>
            <p:cNvSpPr/>
            <p:nvPr/>
          </p:nvSpPr>
          <p:spPr>
            <a:xfrm>
              <a:off x="327492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49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2745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2320" y="6153120"/>
            <a:ext cx="152640" cy="152280"/>
            <a:chOff x="3622320" y="6153120"/>
            <a:chExt cx="152640" cy="152280"/>
          </a:xfrm>
        </p:grpSpPr>
        <p:sp>
          <p:nvSpPr>
            <p:cNvPr id="404" name=""/>
            <p:cNvSpPr/>
            <p:nvPr/>
          </p:nvSpPr>
          <p:spPr>
            <a:xfrm>
              <a:off x="36226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26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223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936520" y="2343240"/>
            <a:ext cx="152640" cy="152280"/>
            <a:chOff x="2936520" y="234324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293688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688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3652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78352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9792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155840" y="2038320"/>
            <a:ext cx="364680" cy="294480"/>
            <a:chOff x="4155840" y="2038320"/>
            <a:chExt cx="364680" cy="294480"/>
          </a:xfrm>
        </p:grpSpPr>
        <p:sp>
          <p:nvSpPr>
            <p:cNvPr id="414" name=""/>
            <p:cNvSpPr/>
            <p:nvPr/>
          </p:nvSpPr>
          <p:spPr>
            <a:xfrm>
              <a:off x="415584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384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5620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0560" y="257184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60560" y="531504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6360" y="2876400"/>
            <a:ext cx="30492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60560" y="409572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99000" y="3333600"/>
            <a:ext cx="228600" cy="1524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6360" y="4629240"/>
            <a:ext cx="30492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3196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23080" y="2647800"/>
            <a:ext cx="91440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46760" y="4552920"/>
            <a:ext cx="99072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3960" y="219060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9448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9400" y="409572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3960" y="409572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99040" y="6153120"/>
            <a:ext cx="152640" cy="152280"/>
            <a:chOff x="6899040" y="6153120"/>
            <a:chExt cx="152640" cy="152280"/>
          </a:xfrm>
        </p:grpSpPr>
        <p:sp>
          <p:nvSpPr>
            <p:cNvPr id="432" name=""/>
            <p:cNvSpPr/>
            <p:nvPr/>
          </p:nvSpPr>
          <p:spPr>
            <a:xfrm>
              <a:off x="689940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4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9904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03600" y="6153120"/>
            <a:ext cx="152640" cy="152280"/>
            <a:chOff x="7203600" y="6153120"/>
            <a:chExt cx="152640" cy="152280"/>
          </a:xfrm>
        </p:grpSpPr>
        <p:sp>
          <p:nvSpPr>
            <p:cNvPr id="436" name=""/>
            <p:cNvSpPr/>
            <p:nvPr/>
          </p:nvSpPr>
          <p:spPr>
            <a:xfrm>
              <a:off x="720396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039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036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508520" y="6153120"/>
            <a:ext cx="152640" cy="152280"/>
            <a:chOff x="7508520" y="6153120"/>
            <a:chExt cx="152640" cy="152280"/>
          </a:xfrm>
        </p:grpSpPr>
        <p:sp>
          <p:nvSpPr>
            <p:cNvPr id="440" name=""/>
            <p:cNvSpPr/>
            <p:nvPr/>
          </p:nvSpPr>
          <p:spPr>
            <a:xfrm>
              <a:off x="7508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8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08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669720" y="432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008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118360" y="2038320"/>
            <a:ext cx="365040" cy="294480"/>
            <a:chOff x="8118360" y="2038320"/>
            <a:chExt cx="365040" cy="294480"/>
          </a:xfrm>
        </p:grpSpPr>
        <p:sp>
          <p:nvSpPr>
            <p:cNvPr id="446" name=""/>
            <p:cNvSpPr/>
            <p:nvPr/>
          </p:nvSpPr>
          <p:spPr>
            <a:xfrm>
              <a:off x="811836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672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11836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3080" y="409572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08880" y="3638520"/>
            <a:ext cx="22860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46760" y="5315040"/>
            <a:ext cx="381240" cy="609480"/>
          </a:xfrm>
          <a:prstGeom prst="rect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2560" y="4552920"/>
            <a:ext cx="304920" cy="380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448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1816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4676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800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46760" y="59245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9040" y="5695920"/>
            <a:ext cx="152640" cy="152280"/>
            <a:chOff x="6899040" y="5695920"/>
            <a:chExt cx="152640" cy="152280"/>
          </a:xfrm>
        </p:grpSpPr>
        <p:sp>
          <p:nvSpPr>
            <p:cNvPr id="459" name=""/>
            <p:cNvSpPr/>
            <p:nvPr/>
          </p:nvSpPr>
          <p:spPr>
            <a:xfrm>
              <a:off x="6899400" y="5695920"/>
              <a:ext cx="152280" cy="152280"/>
            </a:xfrm>
            <a:prstGeom prst="rect">
              <a:avLst/>
            </a:prstGeom>
            <a:solidFill>
              <a:srgbClr val="2e8caa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9940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9904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7128000" y="226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23080" y="2266920"/>
            <a:ext cx="304920" cy="457200"/>
          </a:xfrm>
          <a:prstGeom prst="rect">
            <a:avLst/>
          </a:prstGeom>
          <a:solidFill>
            <a:srgbClr val="a68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3080" y="226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9448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99040" y="1886040"/>
            <a:ext cx="152640" cy="152280"/>
            <a:chOff x="6899040" y="1886040"/>
            <a:chExt cx="152640" cy="152280"/>
          </a:xfrm>
        </p:grpSpPr>
        <p:sp>
          <p:nvSpPr>
            <p:cNvPr id="467" name=""/>
            <p:cNvSpPr/>
            <p:nvPr/>
          </p:nvSpPr>
          <p:spPr>
            <a:xfrm>
              <a:off x="68994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994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990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203600" y="1886040"/>
            <a:ext cx="152640" cy="152280"/>
            <a:chOff x="7203600" y="1886040"/>
            <a:chExt cx="152640" cy="152280"/>
          </a:xfrm>
        </p:grpSpPr>
        <p:sp>
          <p:nvSpPr>
            <p:cNvPr id="471" name=""/>
            <p:cNvSpPr/>
            <p:nvPr/>
          </p:nvSpPr>
          <p:spPr>
            <a:xfrm>
              <a:off x="72039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039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036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508520" y="1886040"/>
            <a:ext cx="152640" cy="152280"/>
            <a:chOff x="7508520" y="188604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75088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88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5085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23080" y="226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99040" y="2343240"/>
            <a:ext cx="152640" cy="152280"/>
            <a:chOff x="6899040" y="2343240"/>
            <a:chExt cx="152640" cy="152280"/>
          </a:xfrm>
        </p:grpSpPr>
        <p:sp>
          <p:nvSpPr>
            <p:cNvPr id="480" name=""/>
            <p:cNvSpPr/>
            <p:nvPr/>
          </p:nvSpPr>
          <p:spPr>
            <a:xfrm>
              <a:off x="689940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940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904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508520" y="4705200"/>
            <a:ext cx="152640" cy="152280"/>
            <a:chOff x="7508520" y="470520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7508880" y="47052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888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50852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75000" y="4172040"/>
            <a:ext cx="152640" cy="152280"/>
            <a:chOff x="6975000" y="4172040"/>
            <a:chExt cx="152640" cy="152280"/>
          </a:xfrm>
        </p:grpSpPr>
        <p:sp>
          <p:nvSpPr>
            <p:cNvPr id="488" name=""/>
            <p:cNvSpPr/>
            <p:nvPr/>
          </p:nvSpPr>
          <p:spPr>
            <a:xfrm>
              <a:off x="697536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536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9750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432560" y="3562200"/>
            <a:ext cx="304920" cy="381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508520" y="3638520"/>
            <a:ext cx="152640" cy="152280"/>
            <a:chOff x="7508520" y="3638520"/>
            <a:chExt cx="152640" cy="152280"/>
          </a:xfrm>
        </p:grpSpPr>
        <p:sp>
          <p:nvSpPr>
            <p:cNvPr id="493" name=""/>
            <p:cNvSpPr/>
            <p:nvPr/>
          </p:nvSpPr>
          <p:spPr>
            <a:xfrm>
              <a:off x="7508880" y="36385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888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50852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36520" y="5695920"/>
            <a:ext cx="152640" cy="152280"/>
            <a:chOff x="2936520" y="569592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2936880" y="5695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3688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3652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36520" y="5391000"/>
            <a:ext cx="152640" cy="152280"/>
            <a:chOff x="2936520" y="5391000"/>
            <a:chExt cx="152640" cy="152280"/>
          </a:xfrm>
        </p:grpSpPr>
        <p:sp>
          <p:nvSpPr>
            <p:cNvPr id="501" name=""/>
            <p:cNvSpPr/>
            <p:nvPr/>
          </p:nvSpPr>
          <p:spPr>
            <a:xfrm>
              <a:off x="2936880" y="53910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688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3652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22320" y="5238720"/>
            <a:ext cx="152640" cy="152280"/>
            <a:chOff x="3622320" y="5238720"/>
            <a:chExt cx="152640" cy="152280"/>
          </a:xfrm>
        </p:grpSpPr>
        <p:sp>
          <p:nvSpPr>
            <p:cNvPr id="505" name=""/>
            <p:cNvSpPr/>
            <p:nvPr/>
          </p:nvSpPr>
          <p:spPr>
            <a:xfrm>
              <a:off x="3622680" y="5238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268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62232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12840" y="4172040"/>
            <a:ext cx="152640" cy="152280"/>
            <a:chOff x="3012840" y="4172040"/>
            <a:chExt cx="152640" cy="152280"/>
          </a:xfrm>
        </p:grpSpPr>
        <p:sp>
          <p:nvSpPr>
            <p:cNvPr id="509" name=""/>
            <p:cNvSpPr/>
            <p:nvPr/>
          </p:nvSpPr>
          <p:spPr>
            <a:xfrm>
              <a:off x="301320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32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01284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936520" y="2647800"/>
            <a:ext cx="152640" cy="152280"/>
            <a:chOff x="2936520" y="2647800"/>
            <a:chExt cx="152640" cy="152280"/>
          </a:xfrm>
        </p:grpSpPr>
        <p:sp>
          <p:nvSpPr>
            <p:cNvPr id="513" name=""/>
            <p:cNvSpPr/>
            <p:nvPr/>
          </p:nvSpPr>
          <p:spPr>
            <a:xfrm>
              <a:off x="2936880" y="26478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688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93652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936520" y="2952720"/>
            <a:ext cx="152640" cy="152280"/>
            <a:chOff x="2936520" y="2952720"/>
            <a:chExt cx="152640" cy="152280"/>
          </a:xfrm>
        </p:grpSpPr>
        <p:sp>
          <p:nvSpPr>
            <p:cNvPr id="517" name=""/>
            <p:cNvSpPr/>
            <p:nvPr/>
          </p:nvSpPr>
          <p:spPr>
            <a:xfrm>
              <a:off x="29368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368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9365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936520" y="3257640"/>
            <a:ext cx="152640" cy="152280"/>
            <a:chOff x="2936520" y="3257640"/>
            <a:chExt cx="152640" cy="152280"/>
          </a:xfrm>
        </p:grpSpPr>
        <p:sp>
          <p:nvSpPr>
            <p:cNvPr id="521" name=""/>
            <p:cNvSpPr/>
            <p:nvPr/>
          </p:nvSpPr>
          <p:spPr>
            <a:xfrm>
              <a:off x="29368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68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365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22320" y="2952720"/>
            <a:ext cx="152640" cy="152280"/>
            <a:chOff x="3622320" y="2952720"/>
            <a:chExt cx="152640" cy="152280"/>
          </a:xfrm>
        </p:grpSpPr>
        <p:sp>
          <p:nvSpPr>
            <p:cNvPr id="525" name=""/>
            <p:cNvSpPr/>
            <p:nvPr/>
          </p:nvSpPr>
          <p:spPr>
            <a:xfrm>
              <a:off x="36226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226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223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22320" y="3257640"/>
            <a:ext cx="152640" cy="152280"/>
            <a:chOff x="3622320" y="3257640"/>
            <a:chExt cx="152640" cy="152280"/>
          </a:xfrm>
        </p:grpSpPr>
        <p:sp>
          <p:nvSpPr>
            <p:cNvPr id="529" name=""/>
            <p:cNvSpPr/>
            <p:nvPr/>
          </p:nvSpPr>
          <p:spPr>
            <a:xfrm>
              <a:off x="36226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26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223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ND de 2 Ent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2290680"/>
            <a:ext cx="2327400" cy="3802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83200" y="2409840"/>
            <a:ext cx="160020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3200" y="4772160"/>
            <a:ext cx="1371600" cy="129528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0400" y="233352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0920" y="195264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0920" y="576252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35840" y="4238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0400" y="4238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059160" y="2028960"/>
            <a:ext cx="152640" cy="152280"/>
            <a:chOff x="6059160" y="2028960"/>
            <a:chExt cx="152640" cy="152280"/>
          </a:xfrm>
        </p:grpSpPr>
        <p:sp>
          <p:nvSpPr>
            <p:cNvPr id="542" name=""/>
            <p:cNvSpPr/>
            <p:nvPr/>
          </p:nvSpPr>
          <p:spPr>
            <a:xfrm>
              <a:off x="6059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9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59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440040" y="2028960"/>
            <a:ext cx="152640" cy="152280"/>
            <a:chOff x="6440040" y="2028960"/>
            <a:chExt cx="152640" cy="152280"/>
          </a:xfrm>
        </p:grpSpPr>
        <p:sp>
          <p:nvSpPr>
            <p:cNvPr id="546" name=""/>
            <p:cNvSpPr/>
            <p:nvPr/>
          </p:nvSpPr>
          <p:spPr>
            <a:xfrm>
              <a:off x="644040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4040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400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21280" y="2028960"/>
            <a:ext cx="152640" cy="152280"/>
            <a:chOff x="6821280" y="2028960"/>
            <a:chExt cx="152640" cy="152280"/>
          </a:xfrm>
        </p:grpSpPr>
        <p:sp>
          <p:nvSpPr>
            <p:cNvPr id="550" name=""/>
            <p:cNvSpPr/>
            <p:nvPr/>
          </p:nvSpPr>
          <p:spPr>
            <a:xfrm>
              <a:off x="682164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16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2128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35480" y="6296040"/>
            <a:ext cx="152640" cy="152280"/>
            <a:chOff x="6135480" y="6296040"/>
            <a:chExt cx="152640" cy="152280"/>
          </a:xfrm>
        </p:grpSpPr>
        <p:sp>
          <p:nvSpPr>
            <p:cNvPr id="554" name=""/>
            <p:cNvSpPr/>
            <p:nvPr/>
          </p:nvSpPr>
          <p:spPr>
            <a:xfrm>
              <a:off x="61358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358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354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73520" y="6296040"/>
            <a:ext cx="152640" cy="152280"/>
            <a:chOff x="6473520" y="6296040"/>
            <a:chExt cx="152640" cy="152280"/>
          </a:xfrm>
        </p:grpSpPr>
        <p:sp>
          <p:nvSpPr>
            <p:cNvPr id="558" name=""/>
            <p:cNvSpPr/>
            <p:nvPr/>
          </p:nvSpPr>
          <p:spPr>
            <a:xfrm>
              <a:off x="647388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73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21280" y="6296040"/>
            <a:ext cx="152640" cy="152280"/>
            <a:chOff x="6821280" y="6296040"/>
            <a:chExt cx="152640" cy="152280"/>
          </a:xfrm>
        </p:grpSpPr>
        <p:sp>
          <p:nvSpPr>
            <p:cNvPr id="562" name=""/>
            <p:cNvSpPr/>
            <p:nvPr/>
          </p:nvSpPr>
          <p:spPr>
            <a:xfrm>
              <a:off x="68216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6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212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35480" y="2486160"/>
            <a:ext cx="152640" cy="152280"/>
            <a:chOff x="6135480" y="2486160"/>
            <a:chExt cx="152640" cy="152280"/>
          </a:xfrm>
        </p:grpSpPr>
        <p:sp>
          <p:nvSpPr>
            <p:cNvPr id="566" name=""/>
            <p:cNvSpPr/>
            <p:nvPr/>
          </p:nvSpPr>
          <p:spPr>
            <a:xfrm>
              <a:off x="613584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358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3548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0724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760" y="48481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354440" y="2181240"/>
            <a:ext cx="364680" cy="294480"/>
            <a:chOff x="7354440" y="2181240"/>
            <a:chExt cx="364680" cy="294480"/>
          </a:xfrm>
        </p:grpSpPr>
        <p:sp>
          <p:nvSpPr>
            <p:cNvPr id="572" name=""/>
            <p:cNvSpPr/>
            <p:nvPr/>
          </p:nvSpPr>
          <p:spPr>
            <a:xfrm>
              <a:off x="735444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2440" y="2262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54800" y="6067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71476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4848120"/>
            <a:ext cx="30492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9520" y="4238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73920" y="477216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0920" y="2104920"/>
            <a:ext cx="19051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4600" y="1800360"/>
            <a:ext cx="20574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135480" y="5838840"/>
            <a:ext cx="152640" cy="152280"/>
            <a:chOff x="6135480" y="5838840"/>
            <a:chExt cx="152640" cy="152280"/>
          </a:xfrm>
        </p:grpSpPr>
        <p:sp>
          <p:nvSpPr>
            <p:cNvPr id="582" name=""/>
            <p:cNvSpPr/>
            <p:nvPr/>
          </p:nvSpPr>
          <p:spPr>
            <a:xfrm>
              <a:off x="6135840" y="5838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3584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3548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135480" y="5533920"/>
            <a:ext cx="152640" cy="152280"/>
            <a:chOff x="6135480" y="5533920"/>
            <a:chExt cx="152640" cy="152280"/>
          </a:xfrm>
        </p:grpSpPr>
        <p:sp>
          <p:nvSpPr>
            <p:cNvPr id="586" name=""/>
            <p:cNvSpPr/>
            <p:nvPr/>
          </p:nvSpPr>
          <p:spPr>
            <a:xfrm>
              <a:off x="6135840" y="5533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584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548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049880" y="5153040"/>
            <a:ext cx="152640" cy="152280"/>
            <a:chOff x="7049880" y="5153040"/>
            <a:chExt cx="152640" cy="152280"/>
          </a:xfrm>
        </p:grpSpPr>
        <p:sp>
          <p:nvSpPr>
            <p:cNvPr id="590" name=""/>
            <p:cNvSpPr/>
            <p:nvPr/>
          </p:nvSpPr>
          <p:spPr>
            <a:xfrm>
              <a:off x="7050240" y="5153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024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4988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11440" y="4314960"/>
            <a:ext cx="152640" cy="152280"/>
            <a:chOff x="6211440" y="4314960"/>
            <a:chExt cx="152640" cy="152280"/>
          </a:xfrm>
        </p:grpSpPr>
        <p:sp>
          <p:nvSpPr>
            <p:cNvPr id="594" name=""/>
            <p:cNvSpPr/>
            <p:nvPr/>
          </p:nvSpPr>
          <p:spPr>
            <a:xfrm>
              <a:off x="621180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1180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21144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35480" y="2790720"/>
            <a:ext cx="152640" cy="152280"/>
            <a:chOff x="6135480" y="2790720"/>
            <a:chExt cx="152640" cy="152280"/>
          </a:xfrm>
        </p:grpSpPr>
        <p:sp>
          <p:nvSpPr>
            <p:cNvPr id="598" name=""/>
            <p:cNvSpPr/>
            <p:nvPr/>
          </p:nvSpPr>
          <p:spPr>
            <a:xfrm>
              <a:off x="613584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58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13548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35480" y="3095640"/>
            <a:ext cx="152640" cy="152280"/>
            <a:chOff x="6135480" y="3095640"/>
            <a:chExt cx="152640" cy="152280"/>
          </a:xfrm>
        </p:grpSpPr>
        <p:sp>
          <p:nvSpPr>
            <p:cNvPr id="602" name=""/>
            <p:cNvSpPr/>
            <p:nvPr/>
          </p:nvSpPr>
          <p:spPr>
            <a:xfrm>
              <a:off x="613584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358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13548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135480" y="3400560"/>
            <a:ext cx="152640" cy="152280"/>
            <a:chOff x="6135480" y="340056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613584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58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3548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45320" y="4238640"/>
            <a:ext cx="152280" cy="1905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69000" y="3019320"/>
            <a:ext cx="304920" cy="19814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44960" y="3095640"/>
            <a:ext cx="152640" cy="152280"/>
            <a:chOff x="6744960" y="309564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674532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532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4496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44960" y="3400560"/>
            <a:ext cx="152640" cy="152280"/>
            <a:chOff x="6744960" y="3400560"/>
            <a:chExt cx="152640" cy="152280"/>
          </a:xfrm>
        </p:grpSpPr>
        <p:sp>
          <p:nvSpPr>
            <p:cNvPr id="616" name=""/>
            <p:cNvSpPr/>
            <p:nvPr/>
          </p:nvSpPr>
          <p:spPr>
            <a:xfrm>
              <a:off x="674532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496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6745320" y="4238640"/>
            <a:ext cx="4572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0240" y="2333520"/>
            <a:ext cx="152280" cy="2057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238640"/>
            <a:ext cx="5335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26200" y="423864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202160" y="4314960"/>
            <a:ext cx="152640" cy="152280"/>
            <a:chOff x="7202160" y="431496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20252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0252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0216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54440" y="2486160"/>
            <a:ext cx="152640" cy="152280"/>
            <a:chOff x="7354440" y="2486160"/>
            <a:chExt cx="152640" cy="152280"/>
          </a:xfrm>
        </p:grpSpPr>
        <p:sp>
          <p:nvSpPr>
            <p:cNvPr id="628" name=""/>
            <p:cNvSpPr/>
            <p:nvPr/>
          </p:nvSpPr>
          <p:spPr>
            <a:xfrm>
              <a:off x="735480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480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3544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278840" y="2714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354440" y="2790720"/>
            <a:ext cx="152640" cy="152280"/>
            <a:chOff x="7354440" y="2790720"/>
            <a:chExt cx="152640" cy="152280"/>
          </a:xfrm>
        </p:grpSpPr>
        <p:sp>
          <p:nvSpPr>
            <p:cNvPr id="633" name=""/>
            <p:cNvSpPr/>
            <p:nvPr/>
          </p:nvSpPr>
          <p:spPr>
            <a:xfrm>
              <a:off x="735480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5480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3544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54440" y="3095640"/>
            <a:ext cx="152640" cy="152280"/>
            <a:chOff x="7354440" y="3095640"/>
            <a:chExt cx="152640" cy="152280"/>
          </a:xfrm>
        </p:grpSpPr>
        <p:sp>
          <p:nvSpPr>
            <p:cNvPr id="637" name=""/>
            <p:cNvSpPr/>
            <p:nvPr/>
          </p:nvSpPr>
          <p:spPr>
            <a:xfrm>
              <a:off x="735480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5480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3544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54440" y="3400560"/>
            <a:ext cx="152640" cy="152280"/>
            <a:chOff x="7354440" y="340056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35480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5480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544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43112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02160" y="6296040"/>
            <a:ext cx="152640" cy="152280"/>
            <a:chOff x="7202160" y="6296040"/>
            <a:chExt cx="152640" cy="152280"/>
          </a:xfrm>
        </p:grpSpPr>
        <p:sp>
          <p:nvSpPr>
            <p:cNvPr id="646" name=""/>
            <p:cNvSpPr/>
            <p:nvPr/>
          </p:nvSpPr>
          <p:spPr>
            <a:xfrm>
              <a:off x="720252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20216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202160" y="2028960"/>
            <a:ext cx="152640" cy="152280"/>
            <a:chOff x="7202160" y="2028960"/>
            <a:chExt cx="152640" cy="152280"/>
          </a:xfrm>
        </p:grpSpPr>
        <p:sp>
          <p:nvSpPr>
            <p:cNvPr id="650" name=""/>
            <p:cNvSpPr/>
            <p:nvPr/>
          </p:nvSpPr>
          <p:spPr>
            <a:xfrm>
              <a:off x="7202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2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02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049880" y="4848120"/>
            <a:ext cx="152640" cy="152280"/>
            <a:chOff x="7049880" y="4848120"/>
            <a:chExt cx="152640" cy="152280"/>
          </a:xfrm>
        </p:grpSpPr>
        <p:sp>
          <p:nvSpPr>
            <p:cNvPr id="654" name=""/>
            <p:cNvSpPr/>
            <p:nvPr/>
          </p:nvSpPr>
          <p:spPr>
            <a:xfrm>
              <a:off x="7050240" y="48481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5024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4988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5480" y="5229360"/>
            <a:ext cx="152640" cy="152280"/>
            <a:chOff x="6135480" y="5229360"/>
            <a:chExt cx="152640" cy="152280"/>
          </a:xfrm>
        </p:grpSpPr>
        <p:sp>
          <p:nvSpPr>
            <p:cNvPr id="658" name=""/>
            <p:cNvSpPr/>
            <p:nvPr/>
          </p:nvSpPr>
          <p:spPr>
            <a:xfrm>
              <a:off x="6135840" y="52293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584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13548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35480" y="4924440"/>
            <a:ext cx="152640" cy="152280"/>
            <a:chOff x="6135480" y="4924440"/>
            <a:chExt cx="152640" cy="152280"/>
          </a:xfrm>
        </p:grpSpPr>
        <p:sp>
          <p:nvSpPr>
            <p:cNvPr id="662" name=""/>
            <p:cNvSpPr/>
            <p:nvPr/>
          </p:nvSpPr>
          <p:spPr>
            <a:xfrm>
              <a:off x="6135840" y="49244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584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13548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rama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presenta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 la posición relativa de los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5432400"/>
            <a:ext cx="106668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4213080"/>
            <a:ext cx="9907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5203800"/>
            <a:ext cx="99072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527280"/>
            <a:ext cx="144756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813280"/>
            <a:ext cx="15238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984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27280"/>
            <a:ext cx="0" cy="68580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5203800"/>
            <a:ext cx="0" cy="6094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213080"/>
            <a:ext cx="0" cy="106704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20004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0004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8440" y="5508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16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52480" y="3451320"/>
            <a:ext cx="365040" cy="294480"/>
            <a:chOff x="1752480" y="3451320"/>
            <a:chExt cx="365040" cy="294480"/>
          </a:xfrm>
        </p:grpSpPr>
        <p:sp>
          <p:nvSpPr>
            <p:cNvPr id="687" name=""/>
            <p:cNvSpPr/>
            <p:nvPr/>
          </p:nvSpPr>
          <p:spPr>
            <a:xfrm>
              <a:off x="175248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084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6002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8320" y="37274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 Antiqua"/>
              </a:rPr>
              <a:t>Inve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832200"/>
            <a:ext cx="53316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52728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5813280"/>
            <a:ext cx="144792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5432400"/>
            <a:ext cx="0" cy="3808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1718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4137120"/>
            <a:ext cx="0" cy="12952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2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558468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78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562360" y="3451320"/>
            <a:ext cx="364680" cy="294480"/>
            <a:chOff x="5562360" y="3451320"/>
            <a:chExt cx="364680" cy="294480"/>
          </a:xfrm>
        </p:grpSpPr>
        <p:sp>
          <p:nvSpPr>
            <p:cNvPr id="704" name=""/>
            <p:cNvSpPr/>
            <p:nvPr/>
          </p:nvSpPr>
          <p:spPr>
            <a:xfrm>
              <a:off x="556236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036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864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3832200"/>
            <a:ext cx="5335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308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6290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0862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4137120"/>
            <a:ext cx="4572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383220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5846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8680" y="3879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N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Compl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901880" cy="4827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827960" y="320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27960" y="3433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7600" y="366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92840" y="3433680"/>
            <a:ext cx="457200" cy="533520"/>
          </a:xfrm>
          <a:prstGeom prst="flowChartDelay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435640" y="3357720"/>
            <a:ext cx="457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50" y="3068"/>
                  <a:pt x="17100" y="5080"/>
                  <a:pt x="17100" y="10800"/>
                </a:cubicBezTo>
                <a:cubicBezTo>
                  <a:pt x="17100" y="16520"/>
                  <a:pt x="19350" y="185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7040" y="3433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07040" y="3662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07040" y="3890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02320" y="37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50040" y="3662280"/>
            <a:ext cx="152280" cy="152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05800" y="353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s Versione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19640" y="955800"/>
                <a:ext cx="1657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35304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55960" y="2773440"/>
            <a:ext cx="7596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70360" y="2773440"/>
            <a:ext cx="7596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2773440"/>
            <a:ext cx="75960" cy="27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74720" y="4373640"/>
            <a:ext cx="175284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98760" y="3687840"/>
            <a:ext cx="266688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16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42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747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893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1240" y="3687840"/>
            <a:ext cx="76320" cy="76176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79840" y="4373640"/>
            <a:ext cx="68580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79840" y="43736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3160" y="437364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3160" y="4678200"/>
            <a:ext cx="11430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98760" y="33829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89320" y="33829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41760" y="33829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98760" y="3382920"/>
            <a:ext cx="76176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4560" y="3382920"/>
            <a:ext cx="53316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9520" y="2773440"/>
            <a:ext cx="76320" cy="274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7960" y="2773440"/>
            <a:ext cx="75960" cy="274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6040" y="2773440"/>
            <a:ext cx="76320" cy="274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4960" y="4373640"/>
            <a:ext cx="243828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4960" y="3687840"/>
            <a:ext cx="236196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3904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77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70760" y="437364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84960" y="40687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4960" y="40687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2520" y="40687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70960" y="3992400"/>
            <a:ext cx="75960" cy="4572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61120" y="3992400"/>
            <a:ext cx="6858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1120" y="36878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4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70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7240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0899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0002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33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36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8760" y="4983120"/>
            <a:ext cx="274320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98760" y="3078000"/>
            <a:ext cx="259056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2320" y="498312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8640" y="307800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131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 las Puertas C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protección al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encia de consumo estático (en estado estático no hay camino entre Vdd y G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de subida y bajada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rcuitos Combinatorios –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924280"/>
            <a:ext cx="1439640" cy="100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997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3860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560" y="3068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00" y="3268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9000" y="3268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3080" y="2924280"/>
            <a:ext cx="1440000" cy="122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78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9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458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63640" y="443700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933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1964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06864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35772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6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573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85440" y="3213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8360" y="3213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6120" y="51768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51642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4365720"/>
            <a:ext cx="1440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con Swit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387760" y="1668600"/>
            <a:ext cx="177840" cy="453960"/>
            <a:chOff x="5387760" y="1668600"/>
            <a:chExt cx="177840" cy="453960"/>
          </a:xfrm>
        </p:grpSpPr>
        <p:sp>
          <p:nvSpPr>
            <p:cNvPr id="788" name=""/>
            <p:cNvSpPr/>
            <p:nvPr/>
          </p:nvSpPr>
          <p:spPr>
            <a:xfrm>
              <a:off x="5476680" y="16686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87760" y="171396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8120" y="180468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387760" y="185004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8120" y="194076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87760" y="198648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8120" y="20772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435640" y="242100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187720"/>
            <a:ext cx="17784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473800" y="147492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244332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92560" y="212256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9880" y="16686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6400" y="185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640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16400" y="2160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4008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45000" y="21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1480" y="200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645000" y="162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54480" y="1932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25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1680" y="433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260960" y="4335480"/>
            <a:ext cx="603000" cy="1371240"/>
            <a:chOff x="4260960" y="4335480"/>
            <a:chExt cx="603000" cy="1371240"/>
          </a:xfrm>
        </p:grpSpPr>
        <p:grpSp>
          <p:nvGrpSpPr>
            <p:cNvPr id="842" name=""/>
            <p:cNvGrpSpPr/>
            <p:nvPr/>
          </p:nvGrpSpPr>
          <p:grpSpPr>
            <a:xfrm>
              <a:off x="4626000" y="4529160"/>
              <a:ext cx="177840" cy="453960"/>
              <a:chOff x="4626000" y="4529160"/>
              <a:chExt cx="177840" cy="453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714560" y="45291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626000" y="4574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26000" y="46652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626000" y="47106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6000" y="48013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6000" y="4847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6000" y="49377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86120" y="53071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640" y="50482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4686120" y="43354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86120" y="53722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0800" y="49831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0960" y="4487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59400" y="5630760"/>
              <a:ext cx="304560" cy="75960"/>
              <a:chOff x="4559400" y="5630760"/>
              <a:chExt cx="304560" cy="75960"/>
            </a:xfrm>
          </p:grpSpPr>
          <p:sp>
            <p:nvSpPr>
              <p:cNvPr id="857" name=""/>
              <p:cNvSpPr/>
              <p:nvPr/>
            </p:nvSpPr>
            <p:spPr>
              <a:xfrm>
                <a:off x="4559400" y="5630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635360" y="57067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5092560" y="4335480"/>
            <a:ext cx="747720" cy="663480"/>
            <a:chOff x="5092560" y="4335480"/>
            <a:chExt cx="747720" cy="663480"/>
          </a:xfrm>
        </p:grpSpPr>
        <p:grpSp>
          <p:nvGrpSpPr>
            <p:cNvPr id="860" name=""/>
            <p:cNvGrpSpPr/>
            <p:nvPr/>
          </p:nvGrpSpPr>
          <p:grpSpPr>
            <a:xfrm>
              <a:off x="5092560" y="4889880"/>
              <a:ext cx="352440" cy="55080"/>
              <a:chOff x="5092560" y="4889880"/>
              <a:chExt cx="352440" cy="55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092560" y="48898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51240" y="49449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268600" y="43354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2560" y="46123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2560" y="4668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68600" y="46681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92800" y="455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532400" y="31910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06560" y="177948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97080" y="3878280"/>
            <a:ext cx="747720" cy="663480"/>
            <a:chOff x="2197080" y="3878280"/>
            <a:chExt cx="747720" cy="663480"/>
          </a:xfrm>
        </p:grpSpPr>
        <p:grpSp>
          <p:nvGrpSpPr>
            <p:cNvPr id="872" name=""/>
            <p:cNvGrpSpPr/>
            <p:nvPr/>
          </p:nvGrpSpPr>
          <p:grpSpPr>
            <a:xfrm>
              <a:off x="2197080" y="4432680"/>
              <a:ext cx="352440" cy="55080"/>
              <a:chOff x="2197080" y="4432680"/>
              <a:chExt cx="352440" cy="55080"/>
            </a:xfrm>
          </p:grpSpPr>
          <p:sp>
            <p:nvSpPr>
              <p:cNvPr id="873" name=""/>
              <p:cNvSpPr/>
              <p:nvPr/>
            </p:nvSpPr>
            <p:spPr>
              <a:xfrm>
                <a:off x="2197080" y="44326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55760" y="44877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373120" y="38782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97080" y="4155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97080" y="42109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3120" y="42109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320" y="410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806480" y="4071960"/>
            <a:ext cx="177840" cy="453960"/>
            <a:chOff x="1806480" y="4071960"/>
            <a:chExt cx="177840" cy="453960"/>
          </a:xfrm>
        </p:grpSpPr>
        <p:sp>
          <p:nvSpPr>
            <p:cNvPr id="881" name=""/>
            <p:cNvSpPr/>
            <p:nvPr/>
          </p:nvSpPr>
          <p:spPr>
            <a:xfrm>
              <a:off x="1895040" y="4071960"/>
              <a:ext cx="8892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806480" y="411732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6480" y="420804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1806480" y="425340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06480" y="434412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806480" y="438984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06480" y="448056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66960" y="484992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9120" y="4591080"/>
            <a:ext cx="177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66960" y="38782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6960" y="491508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1280" y="452592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1440" y="40305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77760" y="2658960"/>
            <a:ext cx="869760" cy="1184040"/>
            <a:chOff x="977760" y="2658960"/>
            <a:chExt cx="869760" cy="1184040"/>
          </a:xfrm>
        </p:grpSpPr>
        <p:grpSp>
          <p:nvGrpSpPr>
            <p:cNvPr id="895" name=""/>
            <p:cNvGrpSpPr/>
            <p:nvPr/>
          </p:nvGrpSpPr>
          <p:grpSpPr>
            <a:xfrm>
              <a:off x="1272960" y="2852640"/>
              <a:ext cx="177840" cy="453960"/>
              <a:chOff x="1272960" y="2852640"/>
              <a:chExt cx="177840" cy="453960"/>
            </a:xfrm>
          </p:grpSpPr>
          <p:sp>
            <p:nvSpPr>
              <p:cNvPr id="896" name=""/>
              <p:cNvSpPr/>
              <p:nvPr/>
            </p:nvSpPr>
            <p:spPr>
              <a:xfrm>
                <a:off x="13615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2729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729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2729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729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12729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3330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556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3330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777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000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777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586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063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892160" y="2658960"/>
            <a:ext cx="869760" cy="1184040"/>
            <a:chOff x="1892160" y="2658960"/>
            <a:chExt cx="869760" cy="1184040"/>
          </a:xfrm>
        </p:grpSpPr>
        <p:grpSp>
          <p:nvGrpSpPr>
            <p:cNvPr id="912" name=""/>
            <p:cNvGrpSpPr/>
            <p:nvPr/>
          </p:nvGrpSpPr>
          <p:grpSpPr>
            <a:xfrm>
              <a:off x="2187360" y="2852640"/>
              <a:ext cx="177840" cy="453960"/>
              <a:chOff x="2187360" y="2852640"/>
              <a:chExt cx="177840" cy="453960"/>
            </a:xfrm>
          </p:grpSpPr>
          <p:sp>
            <p:nvSpPr>
              <p:cNvPr id="913" name=""/>
              <p:cNvSpPr/>
              <p:nvPr/>
            </p:nvSpPr>
            <p:spPr>
              <a:xfrm>
                <a:off x="22759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1873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873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1873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873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1873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873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2474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700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74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21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144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21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2730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07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359000" y="387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41440" y="5021280"/>
            <a:ext cx="603000" cy="1371240"/>
            <a:chOff x="1441440" y="5021280"/>
            <a:chExt cx="603000" cy="1371240"/>
          </a:xfrm>
        </p:grpSpPr>
        <p:grpSp>
          <p:nvGrpSpPr>
            <p:cNvPr id="930" name=""/>
            <p:cNvGrpSpPr/>
            <p:nvPr/>
          </p:nvGrpSpPr>
          <p:grpSpPr>
            <a:xfrm>
              <a:off x="1806480" y="5214960"/>
              <a:ext cx="177840" cy="453960"/>
              <a:chOff x="1806480" y="5214960"/>
              <a:chExt cx="177840" cy="453960"/>
            </a:xfrm>
          </p:grpSpPr>
          <p:sp>
            <p:nvSpPr>
              <p:cNvPr id="931" name=""/>
              <p:cNvSpPr/>
              <p:nvPr/>
            </p:nvSpPr>
            <p:spPr>
              <a:xfrm>
                <a:off x="1895040" y="52149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806480" y="52603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06480" y="53510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06480" y="53964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6480" y="54871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6480" y="55328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06480" y="56235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1866600" y="59929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89120" y="57340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66600" y="50212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66600" y="60580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11280" y="56689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1440" y="517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739880" y="6316560"/>
              <a:ext cx="304560" cy="75960"/>
              <a:chOff x="1739880" y="6316560"/>
              <a:chExt cx="304560" cy="759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9880" y="631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15840" y="63925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197080" y="5651640"/>
            <a:ext cx="352440" cy="55440"/>
            <a:chOff x="2197080" y="5651640"/>
            <a:chExt cx="352440" cy="55440"/>
          </a:xfrm>
        </p:grpSpPr>
        <p:sp>
          <p:nvSpPr>
            <p:cNvPr id="948" name=""/>
            <p:cNvSpPr/>
            <p:nvPr/>
          </p:nvSpPr>
          <p:spPr>
            <a:xfrm>
              <a:off x="2197080" y="565164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55760" y="5707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373480" y="509760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97080" y="53751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54309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73480" y="543096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01280" y="53197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92160" y="509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074000" y="2506320"/>
            <a:ext cx="869040" cy="1295280"/>
            <a:chOff x="7074000" y="2506320"/>
            <a:chExt cx="869040" cy="1295280"/>
          </a:xfrm>
        </p:grpSpPr>
        <p:grpSp>
          <p:nvGrpSpPr>
            <p:cNvPr id="957" name=""/>
            <p:cNvGrpSpPr/>
            <p:nvPr/>
          </p:nvGrpSpPr>
          <p:grpSpPr>
            <a:xfrm>
              <a:off x="7369920" y="2700720"/>
              <a:ext cx="177120" cy="452880"/>
              <a:chOff x="7369920" y="2700720"/>
              <a:chExt cx="177120" cy="452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458120" y="27007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7369920" y="27460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369920" y="28364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7369920" y="28818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69920" y="29721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369920" y="30175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69920" y="31082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28600" y="34779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51120" y="32187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28600" y="25063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8600" y="35427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31539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95560" y="2700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074000" y="3573000"/>
            <a:ext cx="869040" cy="1295640"/>
            <a:chOff x="7074000" y="3573000"/>
            <a:chExt cx="869040" cy="1295640"/>
          </a:xfrm>
        </p:grpSpPr>
        <p:grpSp>
          <p:nvGrpSpPr>
            <p:cNvPr id="972" name=""/>
            <p:cNvGrpSpPr/>
            <p:nvPr/>
          </p:nvGrpSpPr>
          <p:grpSpPr>
            <a:xfrm>
              <a:off x="7369920" y="3767400"/>
              <a:ext cx="177120" cy="453240"/>
              <a:chOff x="7369920" y="3767400"/>
              <a:chExt cx="177120" cy="453240"/>
            </a:xfrm>
          </p:grpSpPr>
          <p:sp>
            <p:nvSpPr>
              <p:cNvPr id="973" name=""/>
              <p:cNvSpPr/>
              <p:nvPr/>
            </p:nvSpPr>
            <p:spPr>
              <a:xfrm>
                <a:off x="7458120" y="376740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9920" y="38127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9920" y="390312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7369920" y="39484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9920" y="403920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7369920" y="40845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69920" y="417528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7428600" y="454500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1120" y="4285800"/>
              <a:ext cx="17712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28600" y="357300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28600" y="4609440"/>
              <a:ext cx="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74000" y="42210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5560" y="37674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02600" y="2506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546960" y="4869000"/>
            <a:ext cx="603000" cy="1371240"/>
            <a:chOff x="6546960" y="4869000"/>
            <a:chExt cx="603000" cy="1371240"/>
          </a:xfrm>
        </p:grpSpPr>
        <p:grpSp>
          <p:nvGrpSpPr>
            <p:cNvPr id="988" name=""/>
            <p:cNvGrpSpPr/>
            <p:nvPr/>
          </p:nvGrpSpPr>
          <p:grpSpPr>
            <a:xfrm>
              <a:off x="6912000" y="5062680"/>
              <a:ext cx="177840" cy="453960"/>
              <a:chOff x="6912000" y="5062680"/>
              <a:chExt cx="177840" cy="453960"/>
            </a:xfrm>
          </p:grpSpPr>
          <p:sp>
            <p:nvSpPr>
              <p:cNvPr id="989" name=""/>
              <p:cNvSpPr/>
              <p:nvPr/>
            </p:nvSpPr>
            <p:spPr>
              <a:xfrm>
                <a:off x="700056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691200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1200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691200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200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91200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97212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464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97212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7212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1680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4696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845400" y="6164280"/>
              <a:ext cx="304560" cy="75960"/>
              <a:chOff x="6845400" y="6164280"/>
              <a:chExt cx="304560" cy="759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84540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2136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7537680" y="4869000"/>
            <a:ext cx="603000" cy="1371240"/>
            <a:chOff x="7537680" y="4869000"/>
            <a:chExt cx="603000" cy="1371240"/>
          </a:xfrm>
        </p:grpSpPr>
        <p:grpSp>
          <p:nvGrpSpPr>
            <p:cNvPr id="1006" name=""/>
            <p:cNvGrpSpPr/>
            <p:nvPr/>
          </p:nvGrpSpPr>
          <p:grpSpPr>
            <a:xfrm>
              <a:off x="7902720" y="5062680"/>
              <a:ext cx="177840" cy="453960"/>
              <a:chOff x="7902720" y="5062680"/>
              <a:chExt cx="177840" cy="453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799128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90272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0272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90272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0272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72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96284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8536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96284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6284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0752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3768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7836120" y="6164280"/>
              <a:ext cx="304560" cy="75960"/>
              <a:chOff x="7836120" y="6164280"/>
              <a:chExt cx="304560" cy="75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783612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1208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6997680" y="4869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8217000" y="4869000"/>
            <a:ext cx="747000" cy="663120"/>
            <a:chOff x="8217000" y="4869000"/>
            <a:chExt cx="747000" cy="663120"/>
          </a:xfrm>
        </p:grpSpPr>
        <p:grpSp>
          <p:nvGrpSpPr>
            <p:cNvPr id="1025" name=""/>
            <p:cNvGrpSpPr/>
            <p:nvPr/>
          </p:nvGrpSpPr>
          <p:grpSpPr>
            <a:xfrm>
              <a:off x="8217000" y="5423040"/>
              <a:ext cx="352440" cy="55080"/>
              <a:chOff x="8217000" y="5423040"/>
              <a:chExt cx="352440" cy="55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8217000" y="542304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75680" y="547812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393040" y="486900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7000" y="514584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7000" y="52012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3040" y="520128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520" y="5091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074000" y="319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4000" y="42591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7912080" y="4203720"/>
            <a:ext cx="352440" cy="55440"/>
            <a:chOff x="7912080" y="4203720"/>
            <a:chExt cx="352440" cy="55440"/>
          </a:xfrm>
        </p:grpSpPr>
        <p:sp>
          <p:nvSpPr>
            <p:cNvPr id="1036" name=""/>
            <p:cNvSpPr/>
            <p:nvPr/>
          </p:nvSpPr>
          <p:spPr>
            <a:xfrm>
              <a:off x="7912080" y="420372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70760" y="425916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8480" y="36496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12080" y="3927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12080" y="398304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8480" y="398304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216280" y="387180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54880" y="364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640" y="6056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AN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56200" y="59529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249040" y="5808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bajo a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ntrada cambia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alto a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alto: retardo = 0.69 2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892160" y="3468600"/>
            <a:ext cx="715320" cy="643320"/>
            <a:chOff x="1892160" y="3468600"/>
            <a:chExt cx="715320" cy="643320"/>
          </a:xfrm>
        </p:grpSpPr>
        <p:grpSp>
          <p:nvGrpSpPr>
            <p:cNvPr id="1050" name=""/>
            <p:cNvGrpSpPr/>
            <p:nvPr/>
          </p:nvGrpSpPr>
          <p:grpSpPr>
            <a:xfrm>
              <a:off x="1892160" y="3978360"/>
              <a:ext cx="308160" cy="50760"/>
              <a:chOff x="1892160" y="3978360"/>
              <a:chExt cx="308160" cy="507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92160" y="3978360"/>
                <a:ext cx="30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43280" y="402912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046240" y="3468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92160" y="372348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92160" y="37746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46240" y="3774600"/>
              <a:ext cx="0" cy="20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0000" y="36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550880" y="3646440"/>
            <a:ext cx="155520" cy="417600"/>
            <a:chOff x="1550880" y="3646440"/>
            <a:chExt cx="155520" cy="417600"/>
          </a:xfrm>
        </p:grpSpPr>
        <p:sp>
          <p:nvSpPr>
            <p:cNvPr id="1059" name=""/>
            <p:cNvSpPr/>
            <p:nvPr/>
          </p:nvSpPr>
          <p:spPr>
            <a:xfrm>
              <a:off x="1628280" y="3646440"/>
              <a:ext cx="77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550880" y="368820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0880" y="377172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550880" y="381348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0880" y="389700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550880" y="393876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880" y="4022280"/>
              <a:ext cx="774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04880" y="4361040"/>
            <a:ext cx="50760" cy="6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49360" y="4124160"/>
            <a:ext cx="155520" cy="2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4880" y="34686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4880" y="44211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3840" y="406404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31920" y="3608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826920" y="2349360"/>
            <a:ext cx="818640" cy="1087200"/>
            <a:chOff x="826920" y="2349360"/>
            <a:chExt cx="818640" cy="1087200"/>
          </a:xfrm>
        </p:grpSpPr>
        <p:grpSp>
          <p:nvGrpSpPr>
            <p:cNvPr id="1073" name=""/>
            <p:cNvGrpSpPr/>
            <p:nvPr/>
          </p:nvGrpSpPr>
          <p:grpSpPr>
            <a:xfrm>
              <a:off x="1085040" y="2527200"/>
              <a:ext cx="155520" cy="416880"/>
              <a:chOff x="1085040" y="2527200"/>
              <a:chExt cx="155520" cy="4168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6244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085040" y="256896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85040" y="265212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085040" y="269388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85040" y="277704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085040" y="28188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504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113760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82440" y="300384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13760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6920" y="2944080"/>
              <a:ext cx="2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98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692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15992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72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625760" y="2349360"/>
            <a:ext cx="820800" cy="1087200"/>
            <a:chOff x="1625760" y="2349360"/>
            <a:chExt cx="820800" cy="1087200"/>
          </a:xfrm>
        </p:grpSpPr>
        <p:grpSp>
          <p:nvGrpSpPr>
            <p:cNvPr id="1090" name=""/>
            <p:cNvGrpSpPr/>
            <p:nvPr/>
          </p:nvGrpSpPr>
          <p:grpSpPr>
            <a:xfrm>
              <a:off x="1884960" y="2527200"/>
              <a:ext cx="155520" cy="416880"/>
              <a:chOff x="1884960" y="2527200"/>
              <a:chExt cx="155520" cy="416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196272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84960" y="256896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85320" y="265212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884960" y="269388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85320" y="277704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884960" y="281880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532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93788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82720" y="3003840"/>
              <a:ext cx="15480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93788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5760" y="294408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99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2720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96020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700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1160640" y="3468600"/>
            <a:ext cx="10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32280" y="4519080"/>
            <a:ext cx="527760" cy="1258920"/>
            <a:chOff x="1232280" y="4519080"/>
            <a:chExt cx="527760" cy="1258920"/>
          </a:xfrm>
        </p:grpSpPr>
        <p:grpSp>
          <p:nvGrpSpPr>
            <p:cNvPr id="1108" name=""/>
            <p:cNvGrpSpPr/>
            <p:nvPr/>
          </p:nvGrpSpPr>
          <p:grpSpPr>
            <a:xfrm>
              <a:off x="1551960" y="4696920"/>
              <a:ext cx="155520" cy="416160"/>
              <a:chOff x="1551960" y="4696920"/>
              <a:chExt cx="155520" cy="416160"/>
            </a:xfrm>
          </p:grpSpPr>
          <p:sp>
            <p:nvSpPr>
              <p:cNvPr id="1109" name=""/>
              <p:cNvSpPr/>
              <p:nvPr/>
            </p:nvSpPr>
            <p:spPr>
              <a:xfrm>
                <a:off x="1629360" y="4696920"/>
                <a:ext cx="77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551960" y="47383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51960" y="482184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551960" y="48636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51960" y="494676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551960" y="49885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51960" y="5071680"/>
                <a:ext cx="77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604520" y="541116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49000" y="517356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604520" y="451908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04520" y="547092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94560" y="5113800"/>
              <a:ext cx="2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32280" y="4659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1493640" y="5708160"/>
              <a:ext cx="266400" cy="69840"/>
              <a:chOff x="1493640" y="5708160"/>
              <a:chExt cx="266400" cy="69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1493640" y="5708160"/>
                <a:ext cx="26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60240" y="5778000"/>
                <a:ext cx="13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1892160" y="4589640"/>
            <a:ext cx="789480" cy="642600"/>
            <a:chOff x="1892160" y="4589640"/>
            <a:chExt cx="789480" cy="642600"/>
          </a:xfrm>
        </p:grpSpPr>
        <p:grpSp>
          <p:nvGrpSpPr>
            <p:cNvPr id="1126" name=""/>
            <p:cNvGrpSpPr/>
            <p:nvPr/>
          </p:nvGrpSpPr>
          <p:grpSpPr>
            <a:xfrm>
              <a:off x="1892160" y="5097960"/>
              <a:ext cx="308520" cy="50400"/>
              <a:chOff x="1892160" y="5097960"/>
              <a:chExt cx="308520" cy="50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1892160" y="50979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43640" y="514836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46240" y="4589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2160" y="484380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92160" y="489456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46240" y="4894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59640" y="479160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1627200" y="45896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1268280"/>
          <a:ext cx="5943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268280"/>
                    <a:ext cx="5943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051600" y="1557360"/>
          <a:ext cx="274320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r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5594400" y="5291280"/>
            <a:ext cx="312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= 0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S = 0.7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497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[p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-562320" y="3103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taje 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término: Es una función booleana AND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xtérmino: Es una función booleana OR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verdadera en la línea i de la tabla de verdad , el min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falsa en la línea i de la tabla de verdad , el max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971640" y="1844640"/>
          <a:ext cx="2819160" cy="4100400"/>
        </p:xfrm>
        <a:graphic>
          <a:graphicData uri="http://schemas.openxmlformats.org/drawingml/2006/table">
            <a:tbl>
              <a:tblPr/>
              <a:tblGrid>
                <a:gridCol w="442440"/>
                <a:gridCol w="503280"/>
                <a:gridCol w="504720"/>
                <a:gridCol w="576360"/>
                <a:gridCol w="7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"/>
          <p:cNvSpPr/>
          <p:nvPr/>
        </p:nvSpPr>
        <p:spPr>
          <a:xfrm>
            <a:off x="4284720" y="191628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in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8840" y="3451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ax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00364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376880" y="2330280"/>
                <a:ext cx="41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05240" y="3857760"/>
                <a:ext cx="41767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es un término que cubre al menos un valor verdadero y ningún valor falso de la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2827800" y="40244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916360" y="4437000"/>
                <a:ext cx="2087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2826000" y="48355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no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16360" y="515772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mplicante primo es un implicante que cubre uno o más mintérminos de modo que los mintérminos no están todos cubiertos por otro impl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28160" y="4024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291636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primo esencial es un implicante primo que cubre un implicante no cubierto por otros implicantes 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829600" y="40244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esenci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298764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s de Circuito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de una puerta está conectada a Vdd o Vss en cualquier momento a través un camino con baj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corresponde al resultado de la función booleana, ignorando los efectos trans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 del almacenamiento temporal de los valores de la señal en un conden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unción de un circuito lógico combinatorio puede ser descrita por una o más expresiones boole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general, estas expresiones no están en su forma mínima, por lo que la cantidad de hardware necesario para su implementación es excesiva (no es mí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ar significa encontrar el conjunto de implicantes primos de la función necesarios para describirla compl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r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s de Karn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es de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limitad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oritmo de Quine-McClu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hacer a mano pero es preferible a través de programa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umerar en una tabla todos los mintérminos en forma binaria, organizados según el número de unos que con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os grupos adyacentes buscar los mintérminos que sólo difieren en un bit en la misma posición, para hallar los primeros implicantes pr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uir una tabla que enumere los implicantes primos y los mintérminos contenidos por cada implicante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busca los primeros implicados esenciales, es decir aquellos implicantes que cubren sólo un min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los mínterminos que están cubiertos por los primeros implica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los míntérminos no cubier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otros implicantes primos que cubran a estos min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0920" y="1700280"/>
                <a:ext cx="698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5" name=""/>
          <p:cNvGraphicFramePr/>
          <p:nvPr/>
        </p:nvGraphicFramePr>
        <p:xfrm>
          <a:off x="2627280" y="2997360"/>
          <a:ext cx="345744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8720"/>
                <a:gridCol w="287280"/>
                <a:gridCol w="289080"/>
                <a:gridCol w="11523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3276720" y="2133720"/>
          <a:ext cx="2305080" cy="341316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4000" y="2131920"/>
          <a:ext cx="2305080" cy="311004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9" name=""/>
          <p:cNvGraphicFramePr/>
          <p:nvPr/>
        </p:nvGraphicFramePr>
        <p:xfrm>
          <a:off x="6156360" y="2133720"/>
          <a:ext cx="2305080" cy="9874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3132000" y="2133720"/>
          <a:ext cx="2808360" cy="341316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  <a:gridCol w="5032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324000" y="2131920"/>
          <a:ext cx="2593800" cy="3109680"/>
        </p:xfrm>
        <a:graphic>
          <a:graphicData uri="http://schemas.openxmlformats.org/drawingml/2006/table">
            <a:tbl>
              <a:tblPr/>
              <a:tblGrid>
                <a:gridCol w="1152000"/>
                <a:gridCol w="287640"/>
                <a:gridCol w="288720"/>
                <a:gridCol w="287280"/>
                <a:gridCol w="289080"/>
                <a:gridCol w="2890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6156360" y="2133720"/>
          <a:ext cx="2808360" cy="9874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  <a:gridCol w="5032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755640" y="1700280"/>
          <a:ext cx="3960720" cy="26812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  <a:gridCol w="289080"/>
                <a:gridCol w="288720"/>
                <a:gridCol w="289080"/>
                <a:gridCol w="396720"/>
                <a:gridCol w="392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5508720" y="1700280"/>
          <a:ext cx="2414520" cy="207468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8720"/>
                <a:gridCol w="3970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55640" y="4724280"/>
                <a:ext cx="3672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e usando mapas de Karnaugh y luego por el algoritmo de Quine-McClu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900000" y="3416400"/>
                <a:ext cx="5256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actores Temp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 puerta produce un retardo finito entre un cambio en una señal de entrada y el cambio en la señal de sa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utilización de puertas en un circuito produce diversos caminos para las señales por lo que existen diversos retar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bujar diagramas de tiempo ayuda a entender est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ito de tipo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esto de dos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up network (P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down network (P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o una de las redes conduce en un estad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número de transistores necesario para implementar una puerta de n entradas es de 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2689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268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83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7440" y="5127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840" y="550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5160" y="5584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1480" y="566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137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10160" y="228132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26720" y="39574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In1,In2,…I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3146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1680" y="296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64280" y="30700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44416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337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3755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4518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304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3040" y="5127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1680" y="3271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1680" y="37288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1680" y="433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1680" y="4643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1680" y="5024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8360" y="322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8360" y="4594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6960" y="3070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36600" y="4822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343000">
            <a:off x="4823640" y="3313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343000">
            <a:off x="4823640" y="46846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5240" y="179244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la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C es generado a través de la inversión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2195640" y="1844640"/>
                <a:ext cx="1224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176364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698920" y="3201840"/>
            <a:ext cx="2931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5960" y="1792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osible implementación de la función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1476360" y="3127320"/>
            <a:ext cx="5780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19120" y="1792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agrama de tiempo equivalente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3994200" y="1052640"/>
            <a:ext cx="4178160" cy="502596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5580000" y="5157720"/>
            <a:ext cx="3164040" cy="1150920"/>
            <a:chOff x="5580000" y="5157720"/>
            <a:chExt cx="3164040" cy="1150920"/>
          </a:xfrm>
        </p:grpSpPr>
        <p:sp>
          <p:nvSpPr>
            <p:cNvPr id="1215" name=""/>
            <p:cNvSpPr/>
            <p:nvPr/>
          </p:nvSpPr>
          <p:spPr>
            <a:xfrm>
              <a:off x="5580000" y="5157720"/>
              <a:ext cx="1152720" cy="1150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87800" y="5608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Hazard estátic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197080" cy="3818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4146480" y="213372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Estático, ocurre en lógicas AND-OR o NAND-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46480" y="314172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Estático, ocurre en lógicas OR-AND o NOR-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76640" y="4292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Dinámico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76640" y="5300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Dinámico 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ámico ocurre cuando la factorización multinivel es 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tático puede ser evitado poniendo lógica redundante, considerando el ejempl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255744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067280" y="4724280"/>
                <a:ext cx="2665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N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NMOS se cierra cuando la señal de entrada del gate está en nivel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00560" y="2060640"/>
            <a:ext cx="28353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11080" y="285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00560" y="3440160"/>
          <a:ext cx="182736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0560" y="3440160"/>
                    <a:ext cx="18273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10360" y="5149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P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PMOS se cierra cuando la señal de entrada del gate está en nivel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435640" y="2060640"/>
          <a:ext cx="2332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060640"/>
                    <a:ext cx="2332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8108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and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3868560"/>
            <a:ext cx="1682640" cy="164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80720" y="5516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or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and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27400" cy="38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35720" y="5013360"/>
                <a:ext cx="1671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5013360"/>
                <a:ext cx="1727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1533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Función Comple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95880" y="3687840"/>
                <a:ext cx="3001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0271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1T16:27:41Z</dcterms:modified>
  <cp:revision>215</cp:revision>
  <dc:subject/>
  <dc:title>EL 6XX</dc:title>
</cp:coreProperties>
</file>