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CED5-1157-47F7-8C1A-F2888A43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B83E-D792-446A-A806-E9F451E8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B49C-63D2-4F5A-852B-43FEDCC6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D12A-70FC-4AF2-B54C-0CE5F3CD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98C7-FAAA-4FDB-A93D-B2B8548A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B2F9-512A-43F3-AC7A-3DAB41FD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A195-ECE9-4A7B-86D5-AF18329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64AA-8095-4B7F-89BF-0C8BC62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012D-8D1C-4049-8AD4-F58BC7C6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B733-0DF4-4779-B7CD-9DBED2AB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36B8-A3C4-4422-8425-367886B9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ACEF-9A26-42E1-87DC-FDC0A626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B0A0-F376-423F-9387-2A22E48B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027A-1D37-4BBF-9FF6-B9C6B922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5865-13DD-4F58-9AC5-8C3BAC4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0446-768D-4F58-8754-025767A5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F91D-29A2-49C8-9453-920A39D6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2B32-50BF-48BA-9E1B-A2159ECF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70A0-4005-4929-AD27-A5E60E4C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41DE-AA43-445E-9F76-16D0042E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060A-CFD2-47CD-A279-3E161422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C572-D37E-4F69-B194-53797CB3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848C-267D-4976-AEA9-492A7CA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0BA0-2BCD-40A4-9B29-12CF24F7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A88E-4F5A-4DFA-A10B-9E79A23B831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250A-439A-4298-AF45-0F776E24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D64B-014D-432A-9A54-9DE24FC6881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6269-9C82-4116-B037-854D81D6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7.png"/><Relationship Id="rId40" Type="http://schemas.openxmlformats.org/officeDocument/2006/relationships/image" Target="../media/image17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7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6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7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7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7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7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4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6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8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3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9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3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3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3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image" Target="../media/image2.png"/><Relationship Id="rId269" Type="http://schemas.openxmlformats.org/officeDocument/2006/relationships/image" Target="../media/image2.png"/><Relationship Id="rId270" Type="http://schemas.openxmlformats.org/officeDocument/2006/relationships/image" Target="../media/image2.png"/><Relationship Id="rId271" Type="http://schemas.openxmlformats.org/officeDocument/2006/relationships/image" Target="../media/image2.png"/><Relationship Id="rId272" Type="http://schemas.openxmlformats.org/officeDocument/2006/relationships/image" Target="../media/image2.png"/><Relationship Id="rId273" Type="http://schemas.openxmlformats.org/officeDocument/2006/relationships/image" Target="../media/image2.png"/><Relationship Id="rId274" Type="http://schemas.openxmlformats.org/officeDocument/2006/relationships/image" Target="../media/image2.png"/><Relationship Id="rId27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Integr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ductiv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6696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114800" y="1744560"/>
            <a:ext cx="3822840" cy="2357640"/>
            <a:chOff x="4114800" y="1744560"/>
            <a:chExt cx="3822840" cy="2357640"/>
          </a:xfrm>
        </p:grpSpPr>
        <p:sp>
          <p:nvSpPr>
            <p:cNvPr id="451" name=""/>
            <p:cNvSpPr/>
            <p:nvPr/>
          </p:nvSpPr>
          <p:spPr>
            <a:xfrm>
              <a:off x="5105520" y="1744560"/>
              <a:ext cx="1150920" cy="42408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Floor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52880" y="3040200"/>
              <a:ext cx="1605240" cy="10620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Sínt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Test (SCAN/JTA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Reducción de po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146480" y="2049120"/>
              <a:ext cx="9590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57800" y="2481120"/>
              <a:ext cx="851040" cy="33048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W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83320" y="220176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14800" y="2963880"/>
              <a:ext cx="8380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24360" y="2811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10280" y="309096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L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10280" y="347184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553080" y="3268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553080" y="3649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4480" y="2451240"/>
              <a:ext cx="1613160" cy="36324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00"/>
                  </a:solidFill>
                  <a:latin typeface="Arial"/>
                </a:rPr>
                <a:t>Restri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476760" y="28116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05640" y="2455920"/>
            <a:ext cx="4723200" cy="3200400"/>
            <a:chOff x="305640" y="2455920"/>
            <a:chExt cx="4723200" cy="3200400"/>
          </a:xfrm>
        </p:grpSpPr>
        <p:grpSp>
          <p:nvGrpSpPr>
            <p:cNvPr id="465" name=""/>
            <p:cNvGrpSpPr/>
            <p:nvPr/>
          </p:nvGrpSpPr>
          <p:grpSpPr>
            <a:xfrm>
              <a:off x="305640" y="2455920"/>
              <a:ext cx="4723200" cy="3200400"/>
              <a:chOff x="305640" y="2455920"/>
              <a:chExt cx="4723200" cy="3200400"/>
            </a:xfrm>
          </p:grpSpPr>
          <p:sp>
            <p:nvSpPr>
              <p:cNvPr id="466" name=""/>
              <p:cNvSpPr/>
              <p:nvPr/>
            </p:nvSpPr>
            <p:spPr>
              <a:xfrm>
                <a:off x="3962520" y="311616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3280" y="2924280"/>
                <a:ext cx="0" cy="80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8600" y="3713040"/>
                <a:ext cx="180468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form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8280" y="5300640"/>
                <a:ext cx="2063880" cy="3556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puert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7200" y="3370320"/>
                <a:ext cx="0" cy="19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457200" y="3370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8080" y="3141720"/>
                <a:ext cx="0" cy="58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05640" y="2455920"/>
                <a:ext cx="944280" cy="714240"/>
                <a:chOff x="305640" y="2455920"/>
                <a:chExt cx="944280" cy="714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05640" y="2455920"/>
                  <a:ext cx="944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Testbe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609480" y="2684520"/>
                  <a:ext cx="372960" cy="485640"/>
                  <a:chOff x="609480" y="2684520"/>
                  <a:chExt cx="372960" cy="485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609480" y="2684520"/>
                    <a:ext cx="372960" cy="48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639720" y="2720880"/>
                    <a:ext cx="317520" cy="425520"/>
                    <a:chOff x="639720" y="2720880"/>
                    <a:chExt cx="317520" cy="425520"/>
                  </a:xfrm>
                </p:grpSpPr>
                <p:grpSp>
                  <p:nvGrpSpPr>
                    <p:cNvPr id="478" name=""/>
                    <p:cNvGrpSpPr/>
                    <p:nvPr/>
                  </p:nvGrpSpPr>
                  <p:grpSpPr>
                    <a:xfrm>
                      <a:off x="641160" y="2720880"/>
                      <a:ext cx="316080" cy="249480"/>
                      <a:chOff x="641160" y="2720880"/>
                      <a:chExt cx="316080" cy="249480"/>
                    </a:xfrm>
                  </p:grpSpPr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641160" y="2720880"/>
                        <a:ext cx="88920" cy="25560"/>
                      </a:xfrm>
                      <a:prstGeom prst="rect">
                        <a:avLst/>
                      </a:pr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689040" y="2745000"/>
                        <a:ext cx="210960" cy="25200"/>
                      </a:xfrm>
                      <a:prstGeom prst="rect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689040" y="2770200"/>
                        <a:ext cx="163440" cy="25560"/>
                      </a:xfrm>
                      <a:prstGeom prst="rect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741240" y="2795760"/>
                        <a:ext cx="127080" cy="27000"/>
                      </a:xfrm>
                      <a:prstGeom prst="rect">
                        <a:avLst/>
                      </a:pr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744480" y="2844720"/>
                        <a:ext cx="198360" cy="25560"/>
                      </a:xfrm>
                      <a:prstGeom prst="rect">
                        <a:avLst/>
                      </a:pr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641160" y="2868840"/>
                        <a:ext cx="225720" cy="25200"/>
                      </a:xfrm>
                      <a:prstGeom prst="rect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691920" y="2894040"/>
                        <a:ext cx="265320" cy="25560"/>
                      </a:xfrm>
                      <a:prstGeom prst="rect">
                        <a:avLst/>
                      </a:prstGeom>
                      <a:blipFill rotWithShape="0">
                        <a:blip r:embed="rId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689040" y="2917800"/>
                        <a:ext cx="228600" cy="25560"/>
                      </a:xfrm>
                      <a:prstGeom prst="rect">
                        <a:avLst/>
                      </a:prstGeom>
                      <a:blipFill rotWithShape="0">
                        <a:blip r:embed="rId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641160" y="2943360"/>
                        <a:ext cx="158760" cy="27000"/>
                      </a:xfrm>
                      <a:prstGeom prst="rect">
                        <a:avLst/>
                      </a:pr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741240" y="2816280"/>
                        <a:ext cx="117360" cy="25560"/>
                      </a:xfrm>
                      <a:prstGeom prst="rect">
                        <a:avLst/>
                      </a:pr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639720" y="2971800"/>
                      <a:ext cx="315720" cy="174600"/>
                      <a:chOff x="639720" y="2971800"/>
                      <a:chExt cx="315720" cy="17460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738000" y="2971800"/>
                        <a:ext cx="130320" cy="27000"/>
                      </a:xfrm>
                      <a:prstGeom prst="rect">
                        <a:avLst/>
                      </a:pr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739800" y="3019320"/>
                        <a:ext cx="199800" cy="27000"/>
                      </a:xfrm>
                      <a:prstGeom prst="rect">
                        <a:avLst/>
                      </a:pr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639720" y="3046320"/>
                        <a:ext cx="218880" cy="25560"/>
                      </a:xfrm>
                      <a:prstGeom prst="rect">
                        <a:avLst/>
                      </a:prstGeom>
                      <a:blipFill rotWithShape="0">
                        <a:blip r:embed="rId1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685800" y="3070440"/>
                        <a:ext cx="269640" cy="25200"/>
                      </a:xfrm>
                      <a:prstGeom prst="rect">
                        <a:avLst/>
                      </a:prstGeom>
                      <a:blipFill rotWithShape="0">
                        <a:blip r:embed="rId1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685800" y="3092400"/>
                        <a:ext cx="226800" cy="25560"/>
                      </a:xfrm>
                      <a:prstGeom prst="rect">
                        <a:avLst/>
                      </a:prstGeom>
                      <a:blipFill rotWithShape="0">
                        <a:blip r:embed="rId1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639720" y="3119400"/>
                        <a:ext cx="155520" cy="27000"/>
                      </a:xfrm>
                      <a:prstGeom prst="rect">
                        <a:avLst/>
                      </a:prstGeom>
                      <a:blipFill rotWithShape="0">
                        <a:blip r:embed="rId1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738000" y="2994120"/>
                        <a:ext cx="114480" cy="2520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97" name=""/>
              <p:cNvSpPr/>
              <p:nvPr/>
            </p:nvSpPr>
            <p:spPr>
              <a:xfrm>
                <a:off x="1371600" y="296388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5120" y="3713040"/>
                <a:ext cx="153972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06480" y="4487760"/>
                <a:ext cx="1150920" cy="4240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ATP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2057400" y="4716360"/>
                <a:ext cx="186696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24360" y="407664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924000" y="4653000"/>
                <a:ext cx="1104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2438280" y="5478480"/>
                <a:ext cx="152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flipH="1">
              <a:off x="2438280" y="547848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30120" y="1219320"/>
            <a:ext cx="4386240" cy="1915920"/>
            <a:chOff x="330120" y="1219320"/>
            <a:chExt cx="4386240" cy="1915920"/>
          </a:xfrm>
        </p:grpSpPr>
        <p:sp>
          <p:nvSpPr>
            <p:cNvPr id="506" name=""/>
            <p:cNvSpPr/>
            <p:nvPr/>
          </p:nvSpPr>
          <p:spPr>
            <a:xfrm>
              <a:off x="826920" y="1628640"/>
              <a:ext cx="69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29000" y="1363680"/>
              <a:ext cx="1054080" cy="3096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ódigo 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30120" y="1219320"/>
              <a:ext cx="584280" cy="679320"/>
              <a:chOff x="330120" y="1219320"/>
              <a:chExt cx="584280" cy="6793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433440" y="1413000"/>
                <a:ext cx="372960" cy="485640"/>
                <a:chOff x="433440" y="1413000"/>
                <a:chExt cx="372960" cy="485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33440" y="14130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463680" y="1449360"/>
                  <a:ext cx="317520" cy="425520"/>
                  <a:chOff x="463680" y="1449360"/>
                  <a:chExt cx="317520" cy="42552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465120" y="1449360"/>
                    <a:ext cx="316080" cy="249480"/>
                    <a:chOff x="465120" y="1449360"/>
                    <a:chExt cx="316080" cy="24948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465120" y="14493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12640" y="1473120"/>
                      <a:ext cx="211320" cy="25560"/>
                    </a:xfrm>
                    <a:prstGeom prst="rect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12640" y="1498680"/>
                      <a:ext cx="163800" cy="25560"/>
                    </a:xfrm>
                    <a:prstGeom prst="rect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65200" y="15242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568440" y="15732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65120" y="1596960"/>
                      <a:ext cx="225360" cy="25560"/>
                    </a:xfrm>
                    <a:prstGeom prst="rect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515880" y="16225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512640" y="16462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65120" y="16718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65200" y="1544760"/>
                      <a:ext cx="117360" cy="25200"/>
                    </a:xfrm>
                    <a:prstGeom prst="rect">
                      <a:avLst/>
                    </a:pr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463680" y="1700280"/>
                    <a:ext cx="315720" cy="174600"/>
                    <a:chOff x="463680" y="1700280"/>
                    <a:chExt cx="315720" cy="1746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61960" y="17002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63760" y="17478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463680" y="17748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09760" y="1798560"/>
                      <a:ext cx="269640" cy="25560"/>
                    </a:xfrm>
                    <a:prstGeom prst="rect">
                      <a:avLst/>
                    </a:pr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09760" y="18208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463680" y="18478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61960" y="17226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31" name=""/>
              <p:cNvSpPr/>
              <p:nvPr/>
            </p:nvSpPr>
            <p:spPr>
              <a:xfrm>
                <a:off x="330120" y="1219320"/>
                <a:ext cx="58428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p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1523880" y="1344600"/>
              <a:ext cx="1397160" cy="55404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elección de arquitec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24360" y="1668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16360" y="1484280"/>
              <a:ext cx="51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664080" y="2455920"/>
              <a:ext cx="583920" cy="679320"/>
              <a:chOff x="3664080" y="2455920"/>
              <a:chExt cx="583920" cy="679320"/>
            </a:xfrm>
          </p:grpSpPr>
          <p:sp>
            <p:nvSpPr>
              <p:cNvPr id="536" name=""/>
              <p:cNvSpPr/>
              <p:nvPr/>
            </p:nvSpPr>
            <p:spPr>
              <a:xfrm>
                <a:off x="3664080" y="2455920"/>
                <a:ext cx="5839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767040" y="2649600"/>
                <a:ext cx="372960" cy="485640"/>
                <a:chOff x="3767040" y="2649600"/>
                <a:chExt cx="372960" cy="4856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767040" y="26496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9" name=""/>
                <p:cNvGrpSpPr/>
                <p:nvPr/>
              </p:nvGrpSpPr>
              <p:grpSpPr>
                <a:xfrm>
                  <a:off x="3797280" y="2685960"/>
                  <a:ext cx="317520" cy="425520"/>
                  <a:chOff x="3797280" y="2685960"/>
                  <a:chExt cx="317520" cy="42552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798720" y="2685960"/>
                    <a:ext cx="316080" cy="249480"/>
                    <a:chOff x="3798720" y="2685960"/>
                    <a:chExt cx="316080" cy="2494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3798720" y="26859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3846600" y="2710080"/>
                      <a:ext cx="210960" cy="25200"/>
                    </a:xfrm>
                    <a:prstGeom prst="rect">
                      <a:avLst/>
                    </a:pr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3846600" y="2735280"/>
                      <a:ext cx="163440" cy="25560"/>
                    </a:xfrm>
                    <a:prstGeom prst="rect">
                      <a:avLst/>
                    </a:pr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3898800" y="27608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902040" y="28098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3798720" y="2833920"/>
                      <a:ext cx="225720" cy="25200"/>
                    </a:xfrm>
                    <a:prstGeom prst="rect">
                      <a:avLst/>
                    </a:pr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849480" y="28591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846600" y="28828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798720" y="29084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898800" y="2781360"/>
                      <a:ext cx="117360" cy="25560"/>
                    </a:xfrm>
                    <a:prstGeom prst="rect">
                      <a:avLst/>
                    </a:pr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797280" y="2936880"/>
                    <a:ext cx="315720" cy="174600"/>
                    <a:chOff x="3797280" y="2936880"/>
                    <a:chExt cx="315720" cy="174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895560" y="29368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897360" y="29844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797280" y="30114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3843360" y="3035520"/>
                      <a:ext cx="269640" cy="25200"/>
                    </a:xfrm>
                    <a:prstGeom prst="rect">
                      <a:avLst/>
                    </a:pr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843360" y="30574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3797280" y="30844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3895560" y="29592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59" name=""/>
            <p:cNvSpPr/>
            <p:nvPr/>
          </p:nvSpPr>
          <p:spPr>
            <a:xfrm>
              <a:off x="3121200" y="1973160"/>
              <a:ext cx="1595160" cy="3049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hequeo códi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24360" y="2278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971800" y="1972800"/>
            <a:ext cx="6208560" cy="4513680"/>
            <a:chOff x="2971800" y="1972800"/>
            <a:chExt cx="6208560" cy="4513680"/>
          </a:xfrm>
        </p:grpSpPr>
        <p:sp>
          <p:nvSpPr>
            <p:cNvPr id="562" name=""/>
            <p:cNvSpPr/>
            <p:nvPr/>
          </p:nvSpPr>
          <p:spPr>
            <a:xfrm>
              <a:off x="5003640" y="6021360"/>
              <a:ext cx="1451160" cy="4651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iseño fís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08480" y="5229360"/>
              <a:ext cx="1182960" cy="53496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Análisis estático del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200" y="4411800"/>
              <a:ext cx="1422360" cy="5299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Netlist puer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15000" y="4106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21480" y="573408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1440" y="5037120"/>
              <a:ext cx="1618920" cy="50796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00"/>
                  </a:solidFill>
                  <a:latin typeface="Arial"/>
                </a:rPr>
                <a:t>Información posicion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443640" y="6308640"/>
              <a:ext cx="19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43640" y="6165720"/>
              <a:ext cx="10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8381880" y="5554800"/>
              <a:ext cx="6480" cy="75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48520" y="197316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451640" y="3954600"/>
              <a:ext cx="15840" cy="22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53080" y="3954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067280" y="62373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71800" y="6021360"/>
              <a:ext cx="1079640" cy="45720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15000" y="4941720"/>
              <a:ext cx="936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381880" y="1972800"/>
              <a:ext cx="0" cy="304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Simpl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94200" y="1557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2239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94200" y="292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43280" y="3573360"/>
            <a:ext cx="1368360" cy="505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94200" y="436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013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94200" y="5805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2292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0400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Generador de mód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6920" y="213372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27280" y="1917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7280" y="268776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284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27280" y="4076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27280" y="472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27280" y="5518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35280" y="2492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378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35280" y="522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24360" y="1700280"/>
            <a:ext cx="35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5164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0872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24000" y="4508640"/>
            <a:ext cx="33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308720" y="270792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270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924000" y="6021360"/>
            <a:ext cx="3816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74072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79600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compuerta (100 puertas / semana) – editor de pu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transistor (10-20 puertas / semana) – editor de transi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o en costo y tiempo de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brerías, celdas de 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dor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parametrizado d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morias (largo palabra, # palabras, # puer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mable logic arrays (P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gi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asionalmente us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ltipl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de propósito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94200" y="1773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43280" y="2455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43280" y="522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94200" y="602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26920" y="234936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27280" y="2133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27280" y="290340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27280" y="494172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27280" y="5734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5280" y="2708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35280" y="544500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b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da celda con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forma código HDL en una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54200" y="25304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321300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54200" y="389880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87640" y="289080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87640" y="366084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edad de transformaciones y optim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ón estructurada de 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ones boole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eo a una librería fí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 una netlist secuencial en un circuit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os componentes del 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e las mascaras correspo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as tablas loo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94200" y="306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3280" y="371628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94200" y="450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2728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27280" y="42210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54240" y="2681280"/>
            <a:ext cx="5673600" cy="3459240"/>
          </a:xfrm>
          <a:custGeom>
            <a:avLst/>
            <a:gdLst/>
            <a:ahLst/>
            <a:rect l="l" t="t" r="r" b="b"/>
            <a:pathLst>
              <a:path w="3574" h="2179">
                <a:moveTo>
                  <a:pt x="138" y="0"/>
                </a:moveTo>
                <a:lnTo>
                  <a:pt x="84" y="8"/>
                </a:lnTo>
                <a:lnTo>
                  <a:pt x="46" y="39"/>
                </a:lnTo>
                <a:lnTo>
                  <a:pt x="16" y="85"/>
                </a:lnTo>
                <a:lnTo>
                  <a:pt x="0" y="138"/>
                </a:lnTo>
                <a:lnTo>
                  <a:pt x="0" y="1086"/>
                </a:lnTo>
                <a:lnTo>
                  <a:pt x="0" y="2041"/>
                </a:lnTo>
                <a:lnTo>
                  <a:pt x="16" y="2095"/>
                </a:lnTo>
                <a:lnTo>
                  <a:pt x="46" y="2141"/>
                </a:lnTo>
                <a:lnTo>
                  <a:pt x="84" y="2171"/>
                </a:lnTo>
                <a:lnTo>
                  <a:pt x="138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528" y="2141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38"/>
                </a:lnTo>
                <a:lnTo>
                  <a:pt x="3558" y="85"/>
                </a:lnTo>
                <a:lnTo>
                  <a:pt x="3528" y="39"/>
                </a:lnTo>
                <a:lnTo>
                  <a:pt x="3490" y="8"/>
                </a:lnTo>
                <a:lnTo>
                  <a:pt x="3436" y="0"/>
                </a:lnTo>
                <a:lnTo>
                  <a:pt x="1783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4240" y="2681280"/>
            <a:ext cx="5684760" cy="3470400"/>
          </a:xfrm>
          <a:custGeom>
            <a:avLst/>
            <a:gdLst/>
            <a:ahLst/>
            <a:rect l="l" t="t" r="r" b="b"/>
            <a:pathLst>
              <a:path w="3581" h="2186">
                <a:moveTo>
                  <a:pt x="138" y="8"/>
                </a:moveTo>
                <a:lnTo>
                  <a:pt x="84" y="16"/>
                </a:lnTo>
                <a:lnTo>
                  <a:pt x="92" y="16"/>
                </a:lnTo>
                <a:lnTo>
                  <a:pt x="92" y="16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23" y="92"/>
                </a:lnTo>
                <a:lnTo>
                  <a:pt x="23" y="85"/>
                </a:lnTo>
                <a:lnTo>
                  <a:pt x="23" y="85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1086"/>
                </a:lnTo>
                <a:lnTo>
                  <a:pt x="8" y="1086"/>
                </a:lnTo>
                <a:lnTo>
                  <a:pt x="8" y="1086"/>
                </a:lnTo>
                <a:lnTo>
                  <a:pt x="8" y="2041"/>
                </a:lnTo>
                <a:lnTo>
                  <a:pt x="8" y="2041"/>
                </a:lnTo>
                <a:lnTo>
                  <a:pt x="8" y="2041"/>
                </a:lnTo>
                <a:lnTo>
                  <a:pt x="23" y="2095"/>
                </a:lnTo>
                <a:lnTo>
                  <a:pt x="23" y="2095"/>
                </a:lnTo>
                <a:lnTo>
                  <a:pt x="23" y="2095"/>
                </a:lnTo>
                <a:lnTo>
                  <a:pt x="54" y="2141"/>
                </a:lnTo>
                <a:lnTo>
                  <a:pt x="54" y="2141"/>
                </a:lnTo>
                <a:lnTo>
                  <a:pt x="54" y="2141"/>
                </a:lnTo>
                <a:lnTo>
                  <a:pt x="92" y="2171"/>
                </a:lnTo>
                <a:lnTo>
                  <a:pt x="84" y="2171"/>
                </a:lnTo>
                <a:lnTo>
                  <a:pt x="84" y="2171"/>
                </a:lnTo>
                <a:lnTo>
                  <a:pt x="138" y="2179"/>
                </a:lnTo>
                <a:lnTo>
                  <a:pt x="138" y="2179"/>
                </a:lnTo>
                <a:lnTo>
                  <a:pt x="138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490" y="2171"/>
                </a:lnTo>
                <a:lnTo>
                  <a:pt x="3490" y="2171"/>
                </a:lnTo>
                <a:lnTo>
                  <a:pt x="3528" y="2141"/>
                </a:lnTo>
                <a:lnTo>
                  <a:pt x="3528" y="2141"/>
                </a:lnTo>
                <a:lnTo>
                  <a:pt x="3528" y="2141"/>
                </a:lnTo>
                <a:lnTo>
                  <a:pt x="3558" y="2095"/>
                </a:lnTo>
                <a:lnTo>
                  <a:pt x="3558" y="2095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38"/>
                </a:lnTo>
                <a:lnTo>
                  <a:pt x="3574" y="138"/>
                </a:lnTo>
                <a:lnTo>
                  <a:pt x="3574" y="138"/>
                </a:lnTo>
                <a:lnTo>
                  <a:pt x="3558" y="85"/>
                </a:lnTo>
                <a:lnTo>
                  <a:pt x="3558" y="92"/>
                </a:lnTo>
                <a:lnTo>
                  <a:pt x="3558" y="92"/>
                </a:lnTo>
                <a:lnTo>
                  <a:pt x="3528" y="46"/>
                </a:lnTo>
                <a:lnTo>
                  <a:pt x="3528" y="46"/>
                </a:lnTo>
                <a:lnTo>
                  <a:pt x="3528" y="46"/>
                </a:lnTo>
                <a:lnTo>
                  <a:pt x="3490" y="16"/>
                </a:lnTo>
                <a:lnTo>
                  <a:pt x="3490" y="16"/>
                </a:lnTo>
                <a:lnTo>
                  <a:pt x="3490" y="16"/>
                </a:lnTo>
                <a:lnTo>
                  <a:pt x="3436" y="8"/>
                </a:lnTo>
                <a:lnTo>
                  <a:pt x="3436" y="8"/>
                </a:lnTo>
                <a:lnTo>
                  <a:pt x="3436" y="8"/>
                </a:lnTo>
                <a:lnTo>
                  <a:pt x="1783" y="8"/>
                </a:lnTo>
                <a:lnTo>
                  <a:pt x="1783" y="8"/>
                </a:lnTo>
                <a:lnTo>
                  <a:pt x="1783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783" y="0"/>
                </a:lnTo>
                <a:lnTo>
                  <a:pt x="1783" y="0"/>
                </a:lnTo>
                <a:lnTo>
                  <a:pt x="1783" y="0"/>
                </a:lnTo>
                <a:lnTo>
                  <a:pt x="3436" y="0"/>
                </a:lnTo>
                <a:lnTo>
                  <a:pt x="3436" y="0"/>
                </a:lnTo>
                <a:lnTo>
                  <a:pt x="3436" y="0"/>
                </a:lnTo>
                <a:lnTo>
                  <a:pt x="3490" y="8"/>
                </a:lnTo>
                <a:lnTo>
                  <a:pt x="3490" y="8"/>
                </a:lnTo>
                <a:lnTo>
                  <a:pt x="3497" y="8"/>
                </a:lnTo>
                <a:lnTo>
                  <a:pt x="3536" y="39"/>
                </a:lnTo>
                <a:lnTo>
                  <a:pt x="3536" y="39"/>
                </a:lnTo>
                <a:lnTo>
                  <a:pt x="3536" y="39"/>
                </a:lnTo>
                <a:lnTo>
                  <a:pt x="3566" y="85"/>
                </a:lnTo>
                <a:lnTo>
                  <a:pt x="3566" y="85"/>
                </a:lnTo>
                <a:lnTo>
                  <a:pt x="3566" y="85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2041"/>
                </a:lnTo>
                <a:lnTo>
                  <a:pt x="3581" y="2041"/>
                </a:lnTo>
                <a:lnTo>
                  <a:pt x="3581" y="2041"/>
                </a:lnTo>
                <a:lnTo>
                  <a:pt x="3566" y="2095"/>
                </a:lnTo>
                <a:lnTo>
                  <a:pt x="3566" y="2095"/>
                </a:lnTo>
                <a:lnTo>
                  <a:pt x="3566" y="2102"/>
                </a:lnTo>
                <a:lnTo>
                  <a:pt x="3536" y="2148"/>
                </a:lnTo>
                <a:lnTo>
                  <a:pt x="3536" y="2148"/>
                </a:lnTo>
                <a:lnTo>
                  <a:pt x="3536" y="2148"/>
                </a:lnTo>
                <a:lnTo>
                  <a:pt x="3497" y="2179"/>
                </a:lnTo>
                <a:lnTo>
                  <a:pt x="3497" y="2179"/>
                </a:lnTo>
                <a:lnTo>
                  <a:pt x="3490" y="2179"/>
                </a:lnTo>
                <a:lnTo>
                  <a:pt x="3436" y="2186"/>
                </a:lnTo>
                <a:lnTo>
                  <a:pt x="3436" y="2186"/>
                </a:lnTo>
                <a:lnTo>
                  <a:pt x="3436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38" y="2186"/>
                </a:lnTo>
                <a:lnTo>
                  <a:pt x="138" y="2186"/>
                </a:lnTo>
                <a:lnTo>
                  <a:pt x="138" y="2186"/>
                </a:lnTo>
                <a:lnTo>
                  <a:pt x="84" y="2179"/>
                </a:lnTo>
                <a:lnTo>
                  <a:pt x="84" y="2179"/>
                </a:lnTo>
                <a:lnTo>
                  <a:pt x="84" y="2179"/>
                </a:lnTo>
                <a:lnTo>
                  <a:pt x="46" y="2148"/>
                </a:lnTo>
                <a:lnTo>
                  <a:pt x="46" y="2148"/>
                </a:lnTo>
                <a:lnTo>
                  <a:pt x="46" y="2148"/>
                </a:lnTo>
                <a:lnTo>
                  <a:pt x="16" y="2102"/>
                </a:lnTo>
                <a:lnTo>
                  <a:pt x="16" y="2102"/>
                </a:lnTo>
                <a:lnTo>
                  <a:pt x="16" y="2095"/>
                </a:lnTo>
                <a:lnTo>
                  <a:pt x="0" y="2041"/>
                </a:lnTo>
                <a:lnTo>
                  <a:pt x="0" y="2041"/>
                </a:lnTo>
                <a:lnTo>
                  <a:pt x="0" y="2041"/>
                </a:lnTo>
                <a:lnTo>
                  <a:pt x="0" y="1086"/>
                </a:lnTo>
                <a:lnTo>
                  <a:pt x="0" y="1086"/>
                </a:lnTo>
                <a:lnTo>
                  <a:pt x="0" y="1086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16" y="85"/>
                </a:lnTo>
                <a:lnTo>
                  <a:pt x="16" y="85"/>
                </a:lnTo>
                <a:lnTo>
                  <a:pt x="16" y="85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73480" y="2681280"/>
            <a:ext cx="144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4160" y="3567240"/>
            <a:ext cx="4614840" cy="2597040"/>
          </a:xfrm>
          <a:custGeom>
            <a:avLst/>
            <a:gdLst/>
            <a:ahLst/>
            <a:rect l="l" t="t" r="r" b="b"/>
            <a:pathLst>
              <a:path w="2907" h="1636">
                <a:moveTo>
                  <a:pt x="137" y="0"/>
                </a:moveTo>
                <a:lnTo>
                  <a:pt x="84" y="8"/>
                </a:lnTo>
                <a:lnTo>
                  <a:pt x="38" y="39"/>
                </a:lnTo>
                <a:lnTo>
                  <a:pt x="7" y="84"/>
                </a:lnTo>
                <a:lnTo>
                  <a:pt x="0" y="138"/>
                </a:lnTo>
                <a:lnTo>
                  <a:pt x="0" y="818"/>
                </a:lnTo>
                <a:lnTo>
                  <a:pt x="0" y="1499"/>
                </a:lnTo>
                <a:lnTo>
                  <a:pt x="7" y="1552"/>
                </a:lnTo>
                <a:lnTo>
                  <a:pt x="38" y="1590"/>
                </a:lnTo>
                <a:lnTo>
                  <a:pt x="84" y="1621"/>
                </a:lnTo>
                <a:lnTo>
                  <a:pt x="137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62" y="1590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138"/>
                </a:lnTo>
                <a:lnTo>
                  <a:pt x="2892" y="84"/>
                </a:lnTo>
                <a:lnTo>
                  <a:pt x="2862" y="39"/>
                </a:lnTo>
                <a:lnTo>
                  <a:pt x="2823" y="8"/>
                </a:lnTo>
                <a:lnTo>
                  <a:pt x="2770" y="0"/>
                </a:lnTo>
                <a:lnTo>
                  <a:pt x="1454" y="0"/>
                </a:lnTo>
                <a:lnTo>
                  <a:pt x="137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4160" y="3567240"/>
            <a:ext cx="4627440" cy="2609640"/>
          </a:xfrm>
          <a:custGeom>
            <a:avLst/>
            <a:gdLst/>
            <a:ahLst/>
            <a:rect l="l" t="t" r="r" b="b"/>
            <a:pathLst>
              <a:path w="2915" h="1644">
                <a:moveTo>
                  <a:pt x="137" y="8"/>
                </a:moveTo>
                <a:lnTo>
                  <a:pt x="84" y="16"/>
                </a:lnTo>
                <a:lnTo>
                  <a:pt x="91" y="16"/>
                </a:lnTo>
                <a:lnTo>
                  <a:pt x="91" y="1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5" y="92"/>
                </a:lnTo>
                <a:lnTo>
                  <a:pt x="15" y="84"/>
                </a:lnTo>
                <a:lnTo>
                  <a:pt x="15" y="84"/>
                </a:lnTo>
                <a:lnTo>
                  <a:pt x="7" y="138"/>
                </a:lnTo>
                <a:lnTo>
                  <a:pt x="7" y="138"/>
                </a:lnTo>
                <a:lnTo>
                  <a:pt x="7" y="138"/>
                </a:lnTo>
                <a:lnTo>
                  <a:pt x="7" y="818"/>
                </a:lnTo>
                <a:lnTo>
                  <a:pt x="7" y="818"/>
                </a:lnTo>
                <a:lnTo>
                  <a:pt x="7" y="818"/>
                </a:lnTo>
                <a:lnTo>
                  <a:pt x="7" y="1499"/>
                </a:lnTo>
                <a:lnTo>
                  <a:pt x="7" y="1499"/>
                </a:lnTo>
                <a:lnTo>
                  <a:pt x="7" y="1499"/>
                </a:lnTo>
                <a:lnTo>
                  <a:pt x="15" y="1552"/>
                </a:lnTo>
                <a:lnTo>
                  <a:pt x="15" y="1552"/>
                </a:lnTo>
                <a:lnTo>
                  <a:pt x="15" y="1552"/>
                </a:lnTo>
                <a:lnTo>
                  <a:pt x="46" y="1590"/>
                </a:lnTo>
                <a:lnTo>
                  <a:pt x="46" y="1590"/>
                </a:lnTo>
                <a:lnTo>
                  <a:pt x="46" y="1590"/>
                </a:lnTo>
                <a:lnTo>
                  <a:pt x="91" y="1621"/>
                </a:lnTo>
                <a:lnTo>
                  <a:pt x="84" y="1621"/>
                </a:lnTo>
                <a:lnTo>
                  <a:pt x="84" y="1621"/>
                </a:lnTo>
                <a:lnTo>
                  <a:pt x="137" y="1636"/>
                </a:lnTo>
                <a:lnTo>
                  <a:pt x="137" y="1636"/>
                </a:lnTo>
                <a:lnTo>
                  <a:pt x="137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23" y="1621"/>
                </a:lnTo>
                <a:lnTo>
                  <a:pt x="2823" y="1621"/>
                </a:lnTo>
                <a:lnTo>
                  <a:pt x="2862" y="1590"/>
                </a:lnTo>
                <a:lnTo>
                  <a:pt x="2862" y="1590"/>
                </a:lnTo>
                <a:lnTo>
                  <a:pt x="2862" y="1590"/>
                </a:lnTo>
                <a:lnTo>
                  <a:pt x="2892" y="1552"/>
                </a:lnTo>
                <a:lnTo>
                  <a:pt x="2892" y="1552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818"/>
                </a:lnTo>
                <a:lnTo>
                  <a:pt x="2907" y="818"/>
                </a:lnTo>
                <a:lnTo>
                  <a:pt x="2907" y="138"/>
                </a:lnTo>
                <a:lnTo>
                  <a:pt x="2907" y="138"/>
                </a:lnTo>
                <a:lnTo>
                  <a:pt x="2907" y="138"/>
                </a:lnTo>
                <a:lnTo>
                  <a:pt x="2892" y="84"/>
                </a:lnTo>
                <a:lnTo>
                  <a:pt x="2892" y="92"/>
                </a:lnTo>
                <a:lnTo>
                  <a:pt x="2892" y="92"/>
                </a:lnTo>
                <a:lnTo>
                  <a:pt x="2862" y="46"/>
                </a:lnTo>
                <a:lnTo>
                  <a:pt x="2862" y="46"/>
                </a:lnTo>
                <a:lnTo>
                  <a:pt x="2862" y="46"/>
                </a:lnTo>
                <a:lnTo>
                  <a:pt x="2823" y="16"/>
                </a:lnTo>
                <a:lnTo>
                  <a:pt x="2823" y="16"/>
                </a:lnTo>
                <a:lnTo>
                  <a:pt x="2823" y="16"/>
                </a:lnTo>
                <a:lnTo>
                  <a:pt x="2770" y="8"/>
                </a:lnTo>
                <a:lnTo>
                  <a:pt x="2770" y="8"/>
                </a:lnTo>
                <a:lnTo>
                  <a:pt x="2770" y="8"/>
                </a:lnTo>
                <a:lnTo>
                  <a:pt x="1454" y="8"/>
                </a:lnTo>
                <a:lnTo>
                  <a:pt x="1454" y="8"/>
                </a:lnTo>
                <a:lnTo>
                  <a:pt x="1454" y="8"/>
                </a:lnTo>
                <a:lnTo>
                  <a:pt x="137" y="8"/>
                </a:lnTo>
                <a:lnTo>
                  <a:pt x="137" y="8"/>
                </a:lnTo>
                <a:lnTo>
                  <a:pt x="137" y="0"/>
                </a:lnTo>
                <a:lnTo>
                  <a:pt x="137" y="0"/>
                </a:lnTo>
                <a:lnTo>
                  <a:pt x="1454" y="0"/>
                </a:lnTo>
                <a:lnTo>
                  <a:pt x="1454" y="0"/>
                </a:lnTo>
                <a:lnTo>
                  <a:pt x="1454" y="0"/>
                </a:lnTo>
                <a:lnTo>
                  <a:pt x="2770" y="0"/>
                </a:lnTo>
                <a:lnTo>
                  <a:pt x="2770" y="0"/>
                </a:lnTo>
                <a:lnTo>
                  <a:pt x="2770" y="0"/>
                </a:lnTo>
                <a:lnTo>
                  <a:pt x="2823" y="8"/>
                </a:lnTo>
                <a:lnTo>
                  <a:pt x="2823" y="8"/>
                </a:lnTo>
                <a:lnTo>
                  <a:pt x="2831" y="8"/>
                </a:lnTo>
                <a:lnTo>
                  <a:pt x="2869" y="39"/>
                </a:lnTo>
                <a:lnTo>
                  <a:pt x="2869" y="39"/>
                </a:lnTo>
                <a:lnTo>
                  <a:pt x="2869" y="39"/>
                </a:lnTo>
                <a:lnTo>
                  <a:pt x="2900" y="84"/>
                </a:lnTo>
                <a:lnTo>
                  <a:pt x="2900" y="84"/>
                </a:lnTo>
                <a:lnTo>
                  <a:pt x="2900" y="84"/>
                </a:lnTo>
                <a:lnTo>
                  <a:pt x="2915" y="138"/>
                </a:lnTo>
                <a:lnTo>
                  <a:pt x="2915" y="138"/>
                </a:lnTo>
                <a:lnTo>
                  <a:pt x="2915" y="13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1499"/>
                </a:lnTo>
                <a:lnTo>
                  <a:pt x="2915" y="1499"/>
                </a:lnTo>
                <a:lnTo>
                  <a:pt x="2915" y="1499"/>
                </a:lnTo>
                <a:lnTo>
                  <a:pt x="2900" y="1552"/>
                </a:lnTo>
                <a:lnTo>
                  <a:pt x="2900" y="1552"/>
                </a:lnTo>
                <a:lnTo>
                  <a:pt x="2900" y="1560"/>
                </a:lnTo>
                <a:lnTo>
                  <a:pt x="2869" y="1598"/>
                </a:lnTo>
                <a:lnTo>
                  <a:pt x="2869" y="1598"/>
                </a:lnTo>
                <a:lnTo>
                  <a:pt x="2869" y="1598"/>
                </a:lnTo>
                <a:lnTo>
                  <a:pt x="2831" y="1628"/>
                </a:lnTo>
                <a:lnTo>
                  <a:pt x="2831" y="1628"/>
                </a:lnTo>
                <a:lnTo>
                  <a:pt x="2823" y="1628"/>
                </a:lnTo>
                <a:lnTo>
                  <a:pt x="2770" y="1644"/>
                </a:lnTo>
                <a:lnTo>
                  <a:pt x="2770" y="1644"/>
                </a:lnTo>
                <a:lnTo>
                  <a:pt x="2770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37" y="1644"/>
                </a:lnTo>
                <a:lnTo>
                  <a:pt x="137" y="1644"/>
                </a:lnTo>
                <a:lnTo>
                  <a:pt x="137" y="1644"/>
                </a:lnTo>
                <a:lnTo>
                  <a:pt x="84" y="1628"/>
                </a:lnTo>
                <a:lnTo>
                  <a:pt x="84" y="1628"/>
                </a:lnTo>
                <a:lnTo>
                  <a:pt x="84" y="1628"/>
                </a:lnTo>
                <a:lnTo>
                  <a:pt x="38" y="1598"/>
                </a:lnTo>
                <a:lnTo>
                  <a:pt x="38" y="1598"/>
                </a:lnTo>
                <a:lnTo>
                  <a:pt x="38" y="1598"/>
                </a:lnTo>
                <a:lnTo>
                  <a:pt x="7" y="1560"/>
                </a:lnTo>
                <a:lnTo>
                  <a:pt x="7" y="1560"/>
                </a:lnTo>
                <a:lnTo>
                  <a:pt x="7" y="1552"/>
                </a:lnTo>
                <a:lnTo>
                  <a:pt x="0" y="1499"/>
                </a:lnTo>
                <a:lnTo>
                  <a:pt x="0" y="1499"/>
                </a:lnTo>
                <a:lnTo>
                  <a:pt x="0" y="1499"/>
                </a:lnTo>
                <a:lnTo>
                  <a:pt x="0" y="818"/>
                </a:lnTo>
                <a:lnTo>
                  <a:pt x="0" y="818"/>
                </a:lnTo>
                <a:lnTo>
                  <a:pt x="0" y="818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39"/>
                </a:lnTo>
                <a:lnTo>
                  <a:pt x="38" y="39"/>
                </a:lnTo>
                <a:lnTo>
                  <a:pt x="38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7" y="0"/>
                </a:lnTo>
                <a:lnTo>
                  <a:pt x="137" y="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1600" y="356724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2760" y="4162320"/>
            <a:ext cx="3486240" cy="2001960"/>
          </a:xfrm>
          <a:custGeom>
            <a:avLst/>
            <a:gdLst/>
            <a:ahLst/>
            <a:rect l="l" t="t" r="r" b="b"/>
            <a:pathLst>
              <a:path w="2196" h="1261">
                <a:moveTo>
                  <a:pt x="138" y="0"/>
                </a:moveTo>
                <a:lnTo>
                  <a:pt x="84" y="8"/>
                </a:lnTo>
                <a:lnTo>
                  <a:pt x="39" y="38"/>
                </a:lnTo>
                <a:lnTo>
                  <a:pt x="8" y="84"/>
                </a:lnTo>
                <a:lnTo>
                  <a:pt x="0" y="138"/>
                </a:lnTo>
                <a:lnTo>
                  <a:pt x="0" y="627"/>
                </a:lnTo>
                <a:lnTo>
                  <a:pt x="0" y="1124"/>
                </a:lnTo>
                <a:lnTo>
                  <a:pt x="8" y="1177"/>
                </a:lnTo>
                <a:lnTo>
                  <a:pt x="39" y="1215"/>
                </a:lnTo>
                <a:lnTo>
                  <a:pt x="84" y="1246"/>
                </a:lnTo>
                <a:lnTo>
                  <a:pt x="138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51" y="1215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138"/>
                </a:lnTo>
                <a:lnTo>
                  <a:pt x="2181" y="84"/>
                </a:lnTo>
                <a:lnTo>
                  <a:pt x="2151" y="38"/>
                </a:lnTo>
                <a:lnTo>
                  <a:pt x="2112" y="8"/>
                </a:lnTo>
                <a:lnTo>
                  <a:pt x="2059" y="0"/>
                </a:lnTo>
                <a:lnTo>
                  <a:pt x="1095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2760" y="4162320"/>
            <a:ext cx="3498840" cy="2014560"/>
          </a:xfrm>
          <a:custGeom>
            <a:avLst/>
            <a:gdLst/>
            <a:ahLst/>
            <a:rect l="l" t="t" r="r" b="b"/>
            <a:pathLst>
              <a:path w="2204" h="1269">
                <a:moveTo>
                  <a:pt x="138" y="8"/>
                </a:moveTo>
                <a:lnTo>
                  <a:pt x="84" y="15"/>
                </a:lnTo>
                <a:lnTo>
                  <a:pt x="92" y="15"/>
                </a:lnTo>
                <a:lnTo>
                  <a:pt x="92" y="15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6" y="92"/>
                </a:lnTo>
                <a:lnTo>
                  <a:pt x="16" y="84"/>
                </a:lnTo>
                <a:lnTo>
                  <a:pt x="16" y="84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627"/>
                </a:lnTo>
                <a:lnTo>
                  <a:pt x="8" y="627"/>
                </a:lnTo>
                <a:lnTo>
                  <a:pt x="8" y="627"/>
                </a:lnTo>
                <a:lnTo>
                  <a:pt x="8" y="1124"/>
                </a:lnTo>
                <a:lnTo>
                  <a:pt x="8" y="1124"/>
                </a:lnTo>
                <a:lnTo>
                  <a:pt x="8" y="1124"/>
                </a:lnTo>
                <a:lnTo>
                  <a:pt x="16" y="1177"/>
                </a:lnTo>
                <a:lnTo>
                  <a:pt x="16" y="1177"/>
                </a:lnTo>
                <a:lnTo>
                  <a:pt x="16" y="1177"/>
                </a:lnTo>
                <a:lnTo>
                  <a:pt x="46" y="1215"/>
                </a:lnTo>
                <a:lnTo>
                  <a:pt x="46" y="1215"/>
                </a:lnTo>
                <a:lnTo>
                  <a:pt x="46" y="1215"/>
                </a:lnTo>
                <a:lnTo>
                  <a:pt x="92" y="1246"/>
                </a:lnTo>
                <a:lnTo>
                  <a:pt x="84" y="1246"/>
                </a:lnTo>
                <a:lnTo>
                  <a:pt x="84" y="1246"/>
                </a:lnTo>
                <a:lnTo>
                  <a:pt x="138" y="1261"/>
                </a:lnTo>
                <a:lnTo>
                  <a:pt x="138" y="1261"/>
                </a:lnTo>
                <a:lnTo>
                  <a:pt x="138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12" y="1246"/>
                </a:lnTo>
                <a:lnTo>
                  <a:pt x="2112" y="1246"/>
                </a:lnTo>
                <a:lnTo>
                  <a:pt x="2151" y="1215"/>
                </a:lnTo>
                <a:lnTo>
                  <a:pt x="2151" y="1215"/>
                </a:lnTo>
                <a:lnTo>
                  <a:pt x="2151" y="1215"/>
                </a:lnTo>
                <a:lnTo>
                  <a:pt x="2181" y="1177"/>
                </a:lnTo>
                <a:lnTo>
                  <a:pt x="2181" y="1177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627"/>
                </a:lnTo>
                <a:lnTo>
                  <a:pt x="2196" y="627"/>
                </a:lnTo>
                <a:lnTo>
                  <a:pt x="2196" y="138"/>
                </a:lnTo>
                <a:lnTo>
                  <a:pt x="2196" y="138"/>
                </a:lnTo>
                <a:lnTo>
                  <a:pt x="2196" y="138"/>
                </a:lnTo>
                <a:lnTo>
                  <a:pt x="2181" y="84"/>
                </a:lnTo>
                <a:lnTo>
                  <a:pt x="2181" y="92"/>
                </a:lnTo>
                <a:lnTo>
                  <a:pt x="2181" y="92"/>
                </a:lnTo>
                <a:lnTo>
                  <a:pt x="2151" y="46"/>
                </a:lnTo>
                <a:lnTo>
                  <a:pt x="2151" y="46"/>
                </a:lnTo>
                <a:lnTo>
                  <a:pt x="2151" y="46"/>
                </a:lnTo>
                <a:lnTo>
                  <a:pt x="2112" y="15"/>
                </a:lnTo>
                <a:lnTo>
                  <a:pt x="2112" y="15"/>
                </a:lnTo>
                <a:lnTo>
                  <a:pt x="2112" y="15"/>
                </a:lnTo>
                <a:lnTo>
                  <a:pt x="2059" y="8"/>
                </a:lnTo>
                <a:lnTo>
                  <a:pt x="2059" y="8"/>
                </a:lnTo>
                <a:lnTo>
                  <a:pt x="2059" y="8"/>
                </a:lnTo>
                <a:lnTo>
                  <a:pt x="1095" y="8"/>
                </a:lnTo>
                <a:lnTo>
                  <a:pt x="1095" y="8"/>
                </a:lnTo>
                <a:lnTo>
                  <a:pt x="1095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095" y="0"/>
                </a:lnTo>
                <a:lnTo>
                  <a:pt x="1095" y="0"/>
                </a:lnTo>
                <a:lnTo>
                  <a:pt x="1095" y="0"/>
                </a:lnTo>
                <a:lnTo>
                  <a:pt x="2059" y="0"/>
                </a:lnTo>
                <a:lnTo>
                  <a:pt x="2059" y="0"/>
                </a:lnTo>
                <a:lnTo>
                  <a:pt x="2059" y="0"/>
                </a:lnTo>
                <a:lnTo>
                  <a:pt x="2112" y="8"/>
                </a:lnTo>
                <a:lnTo>
                  <a:pt x="2112" y="8"/>
                </a:lnTo>
                <a:lnTo>
                  <a:pt x="2120" y="8"/>
                </a:lnTo>
                <a:lnTo>
                  <a:pt x="2158" y="38"/>
                </a:lnTo>
                <a:lnTo>
                  <a:pt x="2158" y="38"/>
                </a:lnTo>
                <a:lnTo>
                  <a:pt x="2158" y="38"/>
                </a:lnTo>
                <a:lnTo>
                  <a:pt x="2189" y="84"/>
                </a:lnTo>
                <a:lnTo>
                  <a:pt x="2189" y="84"/>
                </a:lnTo>
                <a:lnTo>
                  <a:pt x="2189" y="84"/>
                </a:lnTo>
                <a:lnTo>
                  <a:pt x="2204" y="138"/>
                </a:lnTo>
                <a:lnTo>
                  <a:pt x="2204" y="138"/>
                </a:lnTo>
                <a:lnTo>
                  <a:pt x="2204" y="138"/>
                </a:lnTo>
                <a:lnTo>
                  <a:pt x="2204" y="627"/>
                </a:lnTo>
                <a:lnTo>
                  <a:pt x="2204" y="627"/>
                </a:lnTo>
                <a:lnTo>
                  <a:pt x="2204" y="627"/>
                </a:lnTo>
                <a:lnTo>
                  <a:pt x="2204" y="1124"/>
                </a:lnTo>
                <a:lnTo>
                  <a:pt x="2204" y="1124"/>
                </a:lnTo>
                <a:lnTo>
                  <a:pt x="2204" y="1124"/>
                </a:lnTo>
                <a:lnTo>
                  <a:pt x="2189" y="1177"/>
                </a:lnTo>
                <a:lnTo>
                  <a:pt x="2189" y="1177"/>
                </a:lnTo>
                <a:lnTo>
                  <a:pt x="2189" y="1185"/>
                </a:lnTo>
                <a:lnTo>
                  <a:pt x="2158" y="1223"/>
                </a:lnTo>
                <a:lnTo>
                  <a:pt x="2158" y="1223"/>
                </a:lnTo>
                <a:lnTo>
                  <a:pt x="2158" y="1223"/>
                </a:lnTo>
                <a:lnTo>
                  <a:pt x="2120" y="1253"/>
                </a:lnTo>
                <a:lnTo>
                  <a:pt x="2120" y="1253"/>
                </a:lnTo>
                <a:lnTo>
                  <a:pt x="2112" y="1253"/>
                </a:lnTo>
                <a:lnTo>
                  <a:pt x="2059" y="1269"/>
                </a:lnTo>
                <a:lnTo>
                  <a:pt x="2059" y="1269"/>
                </a:lnTo>
                <a:lnTo>
                  <a:pt x="2059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38" y="1269"/>
                </a:lnTo>
                <a:lnTo>
                  <a:pt x="138" y="1269"/>
                </a:lnTo>
                <a:lnTo>
                  <a:pt x="138" y="1269"/>
                </a:lnTo>
                <a:lnTo>
                  <a:pt x="84" y="1253"/>
                </a:lnTo>
                <a:lnTo>
                  <a:pt x="84" y="1253"/>
                </a:lnTo>
                <a:lnTo>
                  <a:pt x="84" y="1253"/>
                </a:lnTo>
                <a:lnTo>
                  <a:pt x="39" y="1223"/>
                </a:lnTo>
                <a:lnTo>
                  <a:pt x="39" y="1223"/>
                </a:lnTo>
                <a:lnTo>
                  <a:pt x="39" y="1223"/>
                </a:lnTo>
                <a:lnTo>
                  <a:pt x="8" y="1185"/>
                </a:lnTo>
                <a:lnTo>
                  <a:pt x="8" y="1185"/>
                </a:lnTo>
                <a:lnTo>
                  <a:pt x="8" y="1177"/>
                </a:lnTo>
                <a:lnTo>
                  <a:pt x="0" y="1124"/>
                </a:lnTo>
                <a:lnTo>
                  <a:pt x="0" y="1124"/>
                </a:lnTo>
                <a:lnTo>
                  <a:pt x="0" y="1124"/>
                </a:lnTo>
                <a:lnTo>
                  <a:pt x="0" y="627"/>
                </a:lnTo>
                <a:lnTo>
                  <a:pt x="0" y="627"/>
                </a:lnTo>
                <a:lnTo>
                  <a:pt x="0" y="627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8" y="84"/>
                </a:lnTo>
                <a:lnTo>
                  <a:pt x="8" y="84"/>
                </a:lnTo>
                <a:lnTo>
                  <a:pt x="8" y="84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162320"/>
            <a:ext cx="144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3840" y="5024520"/>
            <a:ext cx="2405160" cy="1139760"/>
          </a:xfrm>
          <a:custGeom>
            <a:avLst/>
            <a:gdLst/>
            <a:ahLst/>
            <a:rect l="l" t="t" r="r" b="b"/>
            <a:pathLst>
              <a:path w="1515" h="718">
                <a:moveTo>
                  <a:pt x="138" y="0"/>
                </a:moveTo>
                <a:lnTo>
                  <a:pt x="84" y="15"/>
                </a:lnTo>
                <a:lnTo>
                  <a:pt x="39" y="46"/>
                </a:lnTo>
                <a:lnTo>
                  <a:pt x="16" y="84"/>
                </a:lnTo>
                <a:lnTo>
                  <a:pt x="0" y="137"/>
                </a:lnTo>
                <a:lnTo>
                  <a:pt x="0" y="359"/>
                </a:lnTo>
                <a:lnTo>
                  <a:pt x="0" y="581"/>
                </a:lnTo>
                <a:lnTo>
                  <a:pt x="16" y="634"/>
                </a:lnTo>
                <a:lnTo>
                  <a:pt x="39" y="672"/>
                </a:lnTo>
                <a:lnTo>
                  <a:pt x="84" y="703"/>
                </a:lnTo>
                <a:lnTo>
                  <a:pt x="138" y="718"/>
                </a:lnTo>
                <a:lnTo>
                  <a:pt x="75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70" y="672"/>
                </a:lnTo>
                <a:lnTo>
                  <a:pt x="1500" y="634"/>
                </a:lnTo>
                <a:lnTo>
                  <a:pt x="1515" y="581"/>
                </a:lnTo>
                <a:lnTo>
                  <a:pt x="1515" y="359"/>
                </a:lnTo>
                <a:lnTo>
                  <a:pt x="1515" y="137"/>
                </a:lnTo>
                <a:lnTo>
                  <a:pt x="1500" y="84"/>
                </a:lnTo>
                <a:lnTo>
                  <a:pt x="1470" y="46"/>
                </a:lnTo>
                <a:lnTo>
                  <a:pt x="1431" y="15"/>
                </a:lnTo>
                <a:lnTo>
                  <a:pt x="1378" y="0"/>
                </a:lnTo>
                <a:lnTo>
                  <a:pt x="758" y="0"/>
                </a:lnTo>
                <a:lnTo>
                  <a:pt x="13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3840" y="5024520"/>
            <a:ext cx="2417760" cy="1152360"/>
          </a:xfrm>
          <a:custGeom>
            <a:avLst/>
            <a:gdLst/>
            <a:ahLst/>
            <a:rect l="l" t="t" r="r" b="b"/>
            <a:pathLst>
              <a:path w="1523" h="726">
                <a:moveTo>
                  <a:pt x="138" y="7"/>
                </a:moveTo>
                <a:lnTo>
                  <a:pt x="84" y="23"/>
                </a:lnTo>
                <a:lnTo>
                  <a:pt x="92" y="23"/>
                </a:lnTo>
                <a:lnTo>
                  <a:pt x="92" y="23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23" y="91"/>
                </a:lnTo>
                <a:lnTo>
                  <a:pt x="23" y="84"/>
                </a:lnTo>
                <a:lnTo>
                  <a:pt x="23" y="84"/>
                </a:lnTo>
                <a:lnTo>
                  <a:pt x="8" y="137"/>
                </a:lnTo>
                <a:lnTo>
                  <a:pt x="8" y="137"/>
                </a:lnTo>
                <a:lnTo>
                  <a:pt x="8" y="137"/>
                </a:lnTo>
                <a:lnTo>
                  <a:pt x="8" y="359"/>
                </a:lnTo>
                <a:lnTo>
                  <a:pt x="8" y="359"/>
                </a:lnTo>
                <a:lnTo>
                  <a:pt x="8" y="359"/>
                </a:lnTo>
                <a:lnTo>
                  <a:pt x="8" y="581"/>
                </a:lnTo>
                <a:lnTo>
                  <a:pt x="8" y="581"/>
                </a:lnTo>
                <a:lnTo>
                  <a:pt x="8" y="581"/>
                </a:lnTo>
                <a:lnTo>
                  <a:pt x="23" y="634"/>
                </a:lnTo>
                <a:lnTo>
                  <a:pt x="23" y="634"/>
                </a:lnTo>
                <a:lnTo>
                  <a:pt x="23" y="634"/>
                </a:lnTo>
                <a:lnTo>
                  <a:pt x="46" y="672"/>
                </a:lnTo>
                <a:lnTo>
                  <a:pt x="46" y="672"/>
                </a:lnTo>
                <a:lnTo>
                  <a:pt x="46" y="672"/>
                </a:lnTo>
                <a:lnTo>
                  <a:pt x="92" y="703"/>
                </a:lnTo>
                <a:lnTo>
                  <a:pt x="84" y="703"/>
                </a:lnTo>
                <a:lnTo>
                  <a:pt x="84" y="703"/>
                </a:lnTo>
                <a:lnTo>
                  <a:pt x="138" y="718"/>
                </a:lnTo>
                <a:lnTo>
                  <a:pt x="138" y="718"/>
                </a:lnTo>
                <a:lnTo>
                  <a:pt x="138" y="718"/>
                </a:lnTo>
                <a:lnTo>
                  <a:pt x="758" y="718"/>
                </a:lnTo>
                <a:lnTo>
                  <a:pt x="758" y="718"/>
                </a:lnTo>
                <a:lnTo>
                  <a:pt x="75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31" y="703"/>
                </a:lnTo>
                <a:lnTo>
                  <a:pt x="1431" y="703"/>
                </a:lnTo>
                <a:lnTo>
                  <a:pt x="1470" y="672"/>
                </a:lnTo>
                <a:lnTo>
                  <a:pt x="1470" y="672"/>
                </a:lnTo>
                <a:lnTo>
                  <a:pt x="1470" y="672"/>
                </a:lnTo>
                <a:lnTo>
                  <a:pt x="1500" y="634"/>
                </a:lnTo>
                <a:lnTo>
                  <a:pt x="1500" y="634"/>
                </a:lnTo>
                <a:lnTo>
                  <a:pt x="1500" y="634"/>
                </a:lnTo>
                <a:lnTo>
                  <a:pt x="1515" y="581"/>
                </a:lnTo>
                <a:lnTo>
                  <a:pt x="1515" y="581"/>
                </a:lnTo>
                <a:lnTo>
                  <a:pt x="1515" y="581"/>
                </a:lnTo>
                <a:lnTo>
                  <a:pt x="1515" y="359"/>
                </a:lnTo>
                <a:lnTo>
                  <a:pt x="1515" y="359"/>
                </a:lnTo>
                <a:lnTo>
                  <a:pt x="1515" y="359"/>
                </a:lnTo>
                <a:lnTo>
                  <a:pt x="1515" y="137"/>
                </a:lnTo>
                <a:lnTo>
                  <a:pt x="1515" y="137"/>
                </a:lnTo>
                <a:lnTo>
                  <a:pt x="1515" y="137"/>
                </a:lnTo>
                <a:lnTo>
                  <a:pt x="1500" y="84"/>
                </a:lnTo>
                <a:lnTo>
                  <a:pt x="1500" y="91"/>
                </a:lnTo>
                <a:lnTo>
                  <a:pt x="1500" y="91"/>
                </a:lnTo>
                <a:lnTo>
                  <a:pt x="1470" y="53"/>
                </a:lnTo>
                <a:lnTo>
                  <a:pt x="1470" y="53"/>
                </a:lnTo>
                <a:lnTo>
                  <a:pt x="1470" y="53"/>
                </a:lnTo>
                <a:lnTo>
                  <a:pt x="1431" y="23"/>
                </a:lnTo>
                <a:lnTo>
                  <a:pt x="1431" y="23"/>
                </a:lnTo>
                <a:lnTo>
                  <a:pt x="1431" y="23"/>
                </a:lnTo>
                <a:lnTo>
                  <a:pt x="1378" y="7"/>
                </a:lnTo>
                <a:lnTo>
                  <a:pt x="1378" y="7"/>
                </a:lnTo>
                <a:lnTo>
                  <a:pt x="1378" y="7"/>
                </a:lnTo>
                <a:lnTo>
                  <a:pt x="758" y="7"/>
                </a:lnTo>
                <a:lnTo>
                  <a:pt x="758" y="7"/>
                </a:lnTo>
                <a:lnTo>
                  <a:pt x="758" y="7"/>
                </a:lnTo>
                <a:lnTo>
                  <a:pt x="138" y="7"/>
                </a:lnTo>
                <a:lnTo>
                  <a:pt x="138" y="7"/>
                </a:lnTo>
                <a:lnTo>
                  <a:pt x="138" y="0"/>
                </a:lnTo>
                <a:lnTo>
                  <a:pt x="138" y="0"/>
                </a:lnTo>
                <a:lnTo>
                  <a:pt x="758" y="0"/>
                </a:lnTo>
                <a:lnTo>
                  <a:pt x="758" y="0"/>
                </a:lnTo>
                <a:lnTo>
                  <a:pt x="758" y="0"/>
                </a:lnTo>
                <a:lnTo>
                  <a:pt x="1378" y="0"/>
                </a:lnTo>
                <a:lnTo>
                  <a:pt x="1378" y="0"/>
                </a:lnTo>
                <a:lnTo>
                  <a:pt x="1378" y="0"/>
                </a:lnTo>
                <a:lnTo>
                  <a:pt x="1431" y="15"/>
                </a:lnTo>
                <a:lnTo>
                  <a:pt x="1431" y="15"/>
                </a:lnTo>
                <a:lnTo>
                  <a:pt x="1439" y="15"/>
                </a:lnTo>
                <a:lnTo>
                  <a:pt x="1477" y="46"/>
                </a:lnTo>
                <a:lnTo>
                  <a:pt x="1477" y="46"/>
                </a:lnTo>
                <a:lnTo>
                  <a:pt x="1477" y="46"/>
                </a:lnTo>
                <a:lnTo>
                  <a:pt x="1508" y="84"/>
                </a:lnTo>
                <a:lnTo>
                  <a:pt x="1508" y="84"/>
                </a:lnTo>
                <a:lnTo>
                  <a:pt x="1508" y="84"/>
                </a:lnTo>
                <a:lnTo>
                  <a:pt x="1523" y="137"/>
                </a:lnTo>
                <a:lnTo>
                  <a:pt x="1523" y="137"/>
                </a:lnTo>
                <a:lnTo>
                  <a:pt x="1523" y="137"/>
                </a:lnTo>
                <a:lnTo>
                  <a:pt x="1523" y="359"/>
                </a:lnTo>
                <a:lnTo>
                  <a:pt x="1523" y="359"/>
                </a:lnTo>
                <a:lnTo>
                  <a:pt x="1523" y="359"/>
                </a:lnTo>
                <a:lnTo>
                  <a:pt x="1523" y="581"/>
                </a:lnTo>
                <a:lnTo>
                  <a:pt x="1523" y="581"/>
                </a:lnTo>
                <a:lnTo>
                  <a:pt x="1523" y="581"/>
                </a:lnTo>
                <a:lnTo>
                  <a:pt x="1508" y="634"/>
                </a:lnTo>
                <a:lnTo>
                  <a:pt x="1508" y="634"/>
                </a:lnTo>
                <a:lnTo>
                  <a:pt x="1508" y="642"/>
                </a:lnTo>
                <a:lnTo>
                  <a:pt x="1477" y="680"/>
                </a:lnTo>
                <a:lnTo>
                  <a:pt x="1477" y="680"/>
                </a:lnTo>
                <a:lnTo>
                  <a:pt x="1477" y="680"/>
                </a:lnTo>
                <a:lnTo>
                  <a:pt x="1439" y="710"/>
                </a:lnTo>
                <a:lnTo>
                  <a:pt x="1439" y="710"/>
                </a:lnTo>
                <a:lnTo>
                  <a:pt x="1431" y="710"/>
                </a:lnTo>
                <a:lnTo>
                  <a:pt x="1378" y="726"/>
                </a:lnTo>
                <a:lnTo>
                  <a:pt x="1378" y="726"/>
                </a:lnTo>
                <a:lnTo>
                  <a:pt x="1378" y="726"/>
                </a:lnTo>
                <a:lnTo>
                  <a:pt x="758" y="726"/>
                </a:lnTo>
                <a:lnTo>
                  <a:pt x="758" y="726"/>
                </a:lnTo>
                <a:lnTo>
                  <a:pt x="758" y="726"/>
                </a:lnTo>
                <a:lnTo>
                  <a:pt x="138" y="726"/>
                </a:lnTo>
                <a:lnTo>
                  <a:pt x="138" y="726"/>
                </a:lnTo>
                <a:lnTo>
                  <a:pt x="138" y="726"/>
                </a:lnTo>
                <a:lnTo>
                  <a:pt x="84" y="710"/>
                </a:lnTo>
                <a:lnTo>
                  <a:pt x="84" y="710"/>
                </a:lnTo>
                <a:lnTo>
                  <a:pt x="84" y="710"/>
                </a:lnTo>
                <a:lnTo>
                  <a:pt x="39" y="680"/>
                </a:lnTo>
                <a:lnTo>
                  <a:pt x="39" y="680"/>
                </a:lnTo>
                <a:lnTo>
                  <a:pt x="39" y="680"/>
                </a:lnTo>
                <a:lnTo>
                  <a:pt x="16" y="642"/>
                </a:lnTo>
                <a:lnTo>
                  <a:pt x="16" y="642"/>
                </a:lnTo>
                <a:lnTo>
                  <a:pt x="16" y="634"/>
                </a:lnTo>
                <a:lnTo>
                  <a:pt x="0" y="581"/>
                </a:lnTo>
                <a:lnTo>
                  <a:pt x="0" y="581"/>
                </a:lnTo>
                <a:lnTo>
                  <a:pt x="0" y="581"/>
                </a:lnTo>
                <a:lnTo>
                  <a:pt x="0" y="359"/>
                </a:lnTo>
                <a:lnTo>
                  <a:pt x="0" y="359"/>
                </a:lnTo>
                <a:lnTo>
                  <a:pt x="0" y="359"/>
                </a:lnTo>
                <a:lnTo>
                  <a:pt x="0" y="137"/>
                </a:lnTo>
                <a:lnTo>
                  <a:pt x="0" y="137"/>
                </a:lnTo>
                <a:lnTo>
                  <a:pt x="0" y="137"/>
                </a:lnTo>
                <a:lnTo>
                  <a:pt x="16" y="84"/>
                </a:lnTo>
                <a:lnTo>
                  <a:pt x="16" y="84"/>
                </a:lnTo>
                <a:lnTo>
                  <a:pt x="16" y="84"/>
                </a:lnTo>
                <a:lnTo>
                  <a:pt x="39" y="46"/>
                </a:lnTo>
                <a:lnTo>
                  <a:pt x="39" y="46"/>
                </a:lnTo>
                <a:lnTo>
                  <a:pt x="39" y="46"/>
                </a:lnTo>
                <a:lnTo>
                  <a:pt x="84" y="15"/>
                </a:lnTo>
                <a:lnTo>
                  <a:pt x="84" y="15"/>
                </a:lnTo>
                <a:lnTo>
                  <a:pt x="84" y="15"/>
                </a:lnTo>
                <a:lnTo>
                  <a:pt x="138" y="0"/>
                </a:lnTo>
                <a:lnTo>
                  <a:pt x="138" y="7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3080" y="5024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5740560"/>
            <a:ext cx="595440" cy="241200"/>
          </a:xfrm>
          <a:custGeom>
            <a:avLst/>
            <a:gdLst/>
            <a:ahLst/>
            <a:rect l="l" t="t" r="r" b="b"/>
            <a:pathLst>
              <a:path w="375" h="152">
                <a:moveTo>
                  <a:pt x="0" y="152"/>
                </a:moveTo>
                <a:lnTo>
                  <a:pt x="0" y="0"/>
                </a:lnTo>
                <a:lnTo>
                  <a:pt x="375" y="0"/>
                </a:lnTo>
                <a:lnTo>
                  <a:pt x="0" y="152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29320" y="5740560"/>
            <a:ext cx="11160" cy="241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5740560"/>
            <a:ext cx="595440" cy="253800"/>
          </a:xfrm>
          <a:custGeom>
            <a:avLst/>
            <a:gdLst/>
            <a:ahLst/>
            <a:rect l="l" t="t" r="r" b="b"/>
            <a:pathLst>
              <a:path w="375" h="160">
                <a:moveTo>
                  <a:pt x="0" y="0"/>
                </a:moveTo>
                <a:lnTo>
                  <a:pt x="375" y="0"/>
                </a:lnTo>
                <a:lnTo>
                  <a:pt x="375" y="7"/>
                </a:lnTo>
                <a:lnTo>
                  <a:pt x="375" y="7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52"/>
                </a:lnTo>
                <a:lnTo>
                  <a:pt x="375" y="0"/>
                </a:lnTo>
                <a:lnTo>
                  <a:pt x="375" y="0"/>
                </a:lnTo>
                <a:lnTo>
                  <a:pt x="375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29320" y="5727600"/>
            <a:ext cx="606240" cy="266760"/>
          </a:xfrm>
          <a:custGeom>
            <a:avLst/>
            <a:gdLst/>
            <a:ahLst/>
            <a:rect l="l" t="t" r="r" b="b"/>
            <a:pathLst>
              <a:path w="382" h="168">
                <a:moveTo>
                  <a:pt x="0" y="168"/>
                </a:moveTo>
                <a:lnTo>
                  <a:pt x="222" y="168"/>
                </a:lnTo>
                <a:lnTo>
                  <a:pt x="336" y="145"/>
                </a:lnTo>
                <a:lnTo>
                  <a:pt x="359" y="130"/>
                </a:lnTo>
                <a:lnTo>
                  <a:pt x="375" y="99"/>
                </a:lnTo>
                <a:lnTo>
                  <a:pt x="382" y="0"/>
                </a:lnTo>
                <a:lnTo>
                  <a:pt x="0" y="16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9320" y="5994360"/>
            <a:ext cx="1440" cy="1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9320" y="5934240"/>
            <a:ext cx="582480" cy="72720"/>
          </a:xfrm>
          <a:custGeom>
            <a:avLst/>
            <a:gdLst/>
            <a:ahLst/>
            <a:rect l="l" t="t" r="r" b="b"/>
            <a:pathLst>
              <a:path w="367" h="46">
                <a:moveTo>
                  <a:pt x="0" y="38"/>
                </a:moveTo>
                <a:lnTo>
                  <a:pt x="222" y="38"/>
                </a:lnTo>
                <a:lnTo>
                  <a:pt x="222" y="38"/>
                </a:lnTo>
                <a:lnTo>
                  <a:pt x="222" y="38"/>
                </a:lnTo>
                <a:lnTo>
                  <a:pt x="336" y="15"/>
                </a:lnTo>
                <a:lnTo>
                  <a:pt x="336" y="15"/>
                </a:lnTo>
                <a:lnTo>
                  <a:pt x="336" y="15"/>
                </a:lnTo>
                <a:lnTo>
                  <a:pt x="359" y="0"/>
                </a:lnTo>
                <a:lnTo>
                  <a:pt x="359" y="0"/>
                </a:lnTo>
                <a:lnTo>
                  <a:pt x="367" y="0"/>
                </a:lnTo>
                <a:lnTo>
                  <a:pt x="367" y="8"/>
                </a:lnTo>
                <a:lnTo>
                  <a:pt x="344" y="23"/>
                </a:lnTo>
                <a:lnTo>
                  <a:pt x="344" y="23"/>
                </a:lnTo>
                <a:lnTo>
                  <a:pt x="336" y="23"/>
                </a:lnTo>
                <a:lnTo>
                  <a:pt x="222" y="46"/>
                </a:lnTo>
                <a:lnTo>
                  <a:pt x="222" y="46"/>
                </a:lnTo>
                <a:lnTo>
                  <a:pt x="222" y="46"/>
                </a:lnTo>
                <a:lnTo>
                  <a:pt x="0" y="46"/>
                </a:lnTo>
                <a:lnTo>
                  <a:pt x="0" y="38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992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31"/>
                </a:moveTo>
                <a:lnTo>
                  <a:pt x="16" y="0"/>
                </a:lnTo>
                <a:lnTo>
                  <a:pt x="16" y="0"/>
                </a:lnTo>
                <a:lnTo>
                  <a:pt x="23" y="0"/>
                </a:lnTo>
                <a:lnTo>
                  <a:pt x="23" y="0"/>
                </a:lnTo>
                <a:lnTo>
                  <a:pt x="8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35560" y="5727600"/>
            <a:ext cx="12960" cy="1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24760" y="5727600"/>
            <a:ext cx="23760" cy="157320"/>
          </a:xfrm>
          <a:custGeom>
            <a:avLst/>
            <a:gdLst/>
            <a:ahLst/>
            <a:rect l="l" t="t" r="r" b="b"/>
            <a:pathLst>
              <a:path w="15" h="99">
                <a:moveTo>
                  <a:pt x="0" y="99"/>
                </a:moveTo>
                <a:lnTo>
                  <a:pt x="7" y="99"/>
                </a:lnTo>
                <a:lnTo>
                  <a:pt x="15" y="0"/>
                </a:lnTo>
                <a:lnTo>
                  <a:pt x="7" y="0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4000" y="5727600"/>
            <a:ext cx="558720" cy="266760"/>
          </a:xfrm>
          <a:custGeom>
            <a:avLst/>
            <a:gdLst/>
            <a:ahLst/>
            <a:rect l="l" t="t" r="r" b="b"/>
            <a:pathLst>
              <a:path w="352" h="168">
                <a:moveTo>
                  <a:pt x="352" y="168"/>
                </a:moveTo>
                <a:lnTo>
                  <a:pt x="153" y="168"/>
                </a:lnTo>
                <a:lnTo>
                  <a:pt x="46" y="145"/>
                </a:lnTo>
                <a:lnTo>
                  <a:pt x="23" y="130"/>
                </a:lnTo>
                <a:lnTo>
                  <a:pt x="8" y="99"/>
                </a:lnTo>
                <a:lnTo>
                  <a:pt x="0" y="0"/>
                </a:lnTo>
                <a:lnTo>
                  <a:pt x="352" y="16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720" y="5994360"/>
            <a:ext cx="1440" cy="126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0360" y="5934240"/>
            <a:ext cx="522360" cy="72720"/>
          </a:xfrm>
          <a:custGeom>
            <a:avLst/>
            <a:gdLst/>
            <a:ahLst/>
            <a:rect l="l" t="t" r="r" b="b"/>
            <a:pathLst>
              <a:path w="329" h="46">
                <a:moveTo>
                  <a:pt x="329" y="46"/>
                </a:moveTo>
                <a:lnTo>
                  <a:pt x="130" y="46"/>
                </a:lnTo>
                <a:lnTo>
                  <a:pt x="130" y="46"/>
                </a:lnTo>
                <a:lnTo>
                  <a:pt x="130" y="46"/>
                </a:lnTo>
                <a:lnTo>
                  <a:pt x="23" y="23"/>
                </a:lnTo>
                <a:lnTo>
                  <a:pt x="23" y="23"/>
                </a:lnTo>
                <a:lnTo>
                  <a:pt x="23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1" y="15"/>
                </a:lnTo>
                <a:lnTo>
                  <a:pt x="31" y="15"/>
                </a:lnTo>
                <a:lnTo>
                  <a:pt x="23" y="15"/>
                </a:lnTo>
                <a:lnTo>
                  <a:pt x="130" y="38"/>
                </a:lnTo>
                <a:lnTo>
                  <a:pt x="130" y="38"/>
                </a:lnTo>
                <a:lnTo>
                  <a:pt x="130" y="38"/>
                </a:lnTo>
                <a:lnTo>
                  <a:pt x="329" y="38"/>
                </a:lnTo>
                <a:lnTo>
                  <a:pt x="329" y="46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15" y="31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23" y="31"/>
                </a:lnTo>
                <a:lnTo>
                  <a:pt x="15" y="31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4000" y="5727600"/>
            <a:ext cx="1260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74000" y="5727600"/>
            <a:ext cx="25200" cy="157320"/>
          </a:xfrm>
          <a:custGeom>
            <a:avLst/>
            <a:gdLst/>
            <a:ahLst/>
            <a:rect l="l" t="t" r="r" b="b"/>
            <a:pathLst>
              <a:path w="16" h="99">
                <a:moveTo>
                  <a:pt x="8" y="99"/>
                </a:moveTo>
                <a:lnTo>
                  <a:pt x="16" y="99"/>
                </a:lnTo>
                <a:lnTo>
                  <a:pt x="8" y="0"/>
                </a:lnTo>
                <a:lnTo>
                  <a:pt x="0" y="0"/>
                </a:lnTo>
                <a:lnTo>
                  <a:pt x="8" y="99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5740560"/>
            <a:ext cx="533520" cy="241200"/>
          </a:xfrm>
          <a:custGeom>
            <a:avLst/>
            <a:gdLst/>
            <a:ahLst/>
            <a:rect l="l" t="t" r="r" b="b"/>
            <a:pathLst>
              <a:path w="336" h="152">
                <a:moveTo>
                  <a:pt x="336" y="152"/>
                </a:moveTo>
                <a:lnTo>
                  <a:pt x="336" y="0"/>
                </a:lnTo>
                <a:lnTo>
                  <a:pt x="0" y="0"/>
                </a:lnTo>
                <a:lnTo>
                  <a:pt x="336" y="152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720" y="5740560"/>
            <a:ext cx="12600" cy="2412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9200" y="5740560"/>
            <a:ext cx="546120" cy="253800"/>
          </a:xfrm>
          <a:custGeom>
            <a:avLst/>
            <a:gdLst/>
            <a:ahLst/>
            <a:rect l="l" t="t" r="r" b="b"/>
            <a:pathLst>
              <a:path w="344" h="160">
                <a:moveTo>
                  <a:pt x="336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336" y="152"/>
                </a:lnTo>
                <a:lnTo>
                  <a:pt x="344" y="152"/>
                </a:lnTo>
                <a:lnTo>
                  <a:pt x="344" y="160"/>
                </a:lnTo>
                <a:lnTo>
                  <a:pt x="336" y="160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336" y="0"/>
                </a:lnTo>
                <a:lnTo>
                  <a:pt x="336" y="7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1680" y="5618160"/>
            <a:ext cx="984240" cy="109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1680" y="5618160"/>
            <a:ext cx="995400" cy="12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35920" y="5618160"/>
            <a:ext cx="11160" cy="122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727600"/>
            <a:ext cx="984240" cy="129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1680" y="5618160"/>
            <a:ext cx="11160" cy="1094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51680" y="5497560"/>
            <a:ext cx="995400" cy="133200"/>
          </a:xfrm>
          <a:custGeom>
            <a:avLst/>
            <a:gdLst/>
            <a:ahLst/>
            <a:rect l="l" t="t" r="r" b="b"/>
            <a:pathLst>
              <a:path w="627" h="84">
                <a:moveTo>
                  <a:pt x="0" y="84"/>
                </a:moveTo>
                <a:lnTo>
                  <a:pt x="61" y="0"/>
                </a:lnTo>
                <a:lnTo>
                  <a:pt x="574" y="0"/>
                </a:lnTo>
                <a:lnTo>
                  <a:pt x="627" y="84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51680" y="5497560"/>
            <a:ext cx="1020600" cy="144360"/>
          </a:xfrm>
          <a:custGeom>
            <a:avLst/>
            <a:gdLst/>
            <a:ahLst/>
            <a:rect l="l" t="t" r="r" b="b"/>
            <a:pathLst>
              <a:path w="643" h="91">
                <a:moveTo>
                  <a:pt x="0" y="84"/>
                </a:moveTo>
                <a:lnTo>
                  <a:pt x="61" y="0"/>
                </a:lnTo>
                <a:lnTo>
                  <a:pt x="61" y="0"/>
                </a:lnTo>
                <a:lnTo>
                  <a:pt x="61" y="0"/>
                </a:lnTo>
                <a:lnTo>
                  <a:pt x="574" y="0"/>
                </a:lnTo>
                <a:lnTo>
                  <a:pt x="581" y="0"/>
                </a:lnTo>
                <a:lnTo>
                  <a:pt x="581" y="0"/>
                </a:lnTo>
                <a:lnTo>
                  <a:pt x="635" y="84"/>
                </a:lnTo>
                <a:lnTo>
                  <a:pt x="643" y="91"/>
                </a:lnTo>
                <a:lnTo>
                  <a:pt x="627" y="91"/>
                </a:lnTo>
                <a:lnTo>
                  <a:pt x="627" y="91"/>
                </a:lnTo>
                <a:lnTo>
                  <a:pt x="574" y="7"/>
                </a:lnTo>
                <a:lnTo>
                  <a:pt x="581" y="0"/>
                </a:lnTo>
                <a:lnTo>
                  <a:pt x="574" y="7"/>
                </a:lnTo>
                <a:lnTo>
                  <a:pt x="61" y="7"/>
                </a:lnTo>
                <a:lnTo>
                  <a:pt x="61" y="0"/>
                </a:lnTo>
                <a:lnTo>
                  <a:pt x="69" y="7"/>
                </a:lnTo>
                <a:lnTo>
                  <a:pt x="7" y="91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38720" y="5630760"/>
            <a:ext cx="1008360" cy="11160"/>
          </a:xfrm>
          <a:custGeom>
            <a:avLst/>
            <a:gdLst/>
            <a:ahLst/>
            <a:rect l="l" t="t" r="r" b="b"/>
            <a:pathLst>
              <a:path w="635" h="7">
                <a:moveTo>
                  <a:pt x="635" y="7"/>
                </a:moveTo>
                <a:lnTo>
                  <a:pt x="8" y="7"/>
                </a:lnTo>
                <a:lnTo>
                  <a:pt x="0" y="7"/>
                </a:lnTo>
                <a:lnTo>
                  <a:pt x="8" y="0"/>
                </a:lnTo>
                <a:lnTo>
                  <a:pt x="8" y="0"/>
                </a:lnTo>
                <a:lnTo>
                  <a:pt x="635" y="0"/>
                </a:lnTo>
                <a:lnTo>
                  <a:pt x="635" y="7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2960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232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11840" y="5521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7440" y="53020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4720" y="5497560"/>
            <a:ext cx="12600" cy="14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4720" y="5291280"/>
            <a:ext cx="1260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4720" y="5291280"/>
            <a:ext cx="12600" cy="2062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0960" y="5218200"/>
            <a:ext cx="72720" cy="83880"/>
          </a:xfrm>
          <a:custGeom>
            <a:avLst/>
            <a:gdLst/>
            <a:ahLst/>
            <a:rect l="l" t="t" r="r" b="b"/>
            <a:pathLst>
              <a:path w="46" h="53">
                <a:moveTo>
                  <a:pt x="38" y="23"/>
                </a:moveTo>
                <a:lnTo>
                  <a:pt x="31" y="8"/>
                </a:lnTo>
                <a:lnTo>
                  <a:pt x="31" y="15"/>
                </a:lnTo>
                <a:lnTo>
                  <a:pt x="31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1" y="38"/>
                </a:lnTo>
                <a:lnTo>
                  <a:pt x="31" y="38"/>
                </a:lnTo>
                <a:lnTo>
                  <a:pt x="31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1" y="46"/>
                </a:lnTo>
                <a:lnTo>
                  <a:pt x="15" y="53"/>
                </a:lnTo>
                <a:lnTo>
                  <a:pt x="15" y="53"/>
                </a:lnTo>
                <a:lnTo>
                  <a:pt x="15" y="53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1" y="8"/>
                </a:lnTo>
                <a:lnTo>
                  <a:pt x="31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61080" y="525456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29320" y="5727600"/>
            <a:ext cx="1440" cy="129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45320" y="5727600"/>
            <a:ext cx="1800" cy="1296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29320" y="5727600"/>
            <a:ext cx="2016000" cy="129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75400" y="5727600"/>
            <a:ext cx="12960" cy="18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75400" y="5521320"/>
            <a:ext cx="12960" cy="14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75400" y="5521320"/>
            <a:ext cx="12960" cy="20628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544824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5" y="23"/>
                </a:lnTo>
                <a:lnTo>
                  <a:pt x="45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7" y="46"/>
                </a:lnTo>
                <a:lnTo>
                  <a:pt x="7" y="46"/>
                </a:lnTo>
                <a:lnTo>
                  <a:pt x="7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5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12120" y="54849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5880" y="548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69160" y="5727600"/>
            <a:ext cx="1260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69160" y="5521320"/>
            <a:ext cx="12600" cy="14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9160" y="5521320"/>
            <a:ext cx="12600" cy="20628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5040" y="5448240"/>
            <a:ext cx="73080" cy="85680"/>
          </a:xfrm>
          <a:custGeom>
            <a:avLst/>
            <a:gdLst/>
            <a:ahLst/>
            <a:rect l="l" t="t" r="r" b="b"/>
            <a:pathLst>
              <a:path w="46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15" y="8"/>
                </a:lnTo>
                <a:lnTo>
                  <a:pt x="15" y="8"/>
                </a:lnTo>
                <a:lnTo>
                  <a:pt x="0" y="15"/>
                </a:lnTo>
                <a:lnTo>
                  <a:pt x="7" y="8"/>
                </a:lnTo>
                <a:lnTo>
                  <a:pt x="7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7" y="38"/>
                </a:lnTo>
                <a:lnTo>
                  <a:pt x="0" y="38"/>
                </a:lnTo>
                <a:lnTo>
                  <a:pt x="0" y="38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0" y="46"/>
                </a:lnTo>
                <a:lnTo>
                  <a:pt x="0" y="46"/>
                </a:lnTo>
                <a:lnTo>
                  <a:pt x="0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05520" y="5484960"/>
            <a:ext cx="1260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5120" y="4938840"/>
            <a:ext cx="1296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5120" y="5254560"/>
            <a:ext cx="12960" cy="18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5120" y="4938840"/>
            <a:ext cx="12960" cy="3157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97520" y="5205240"/>
            <a:ext cx="1440" cy="129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5120" y="5205240"/>
            <a:ext cx="122400" cy="1296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5120" y="4987800"/>
            <a:ext cx="12960" cy="2174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97520" y="4987800"/>
            <a:ext cx="1440" cy="111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120" y="4987800"/>
            <a:ext cx="122400" cy="111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7520" y="4987800"/>
            <a:ext cx="11160" cy="18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97520" y="4878360"/>
            <a:ext cx="11160" cy="14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97520" y="4878360"/>
            <a:ext cx="11160" cy="109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97520" y="5205240"/>
            <a:ext cx="11160" cy="18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97520" y="5302080"/>
            <a:ext cx="11160" cy="18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97520" y="5205240"/>
            <a:ext cx="11160" cy="96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2040" y="4987800"/>
            <a:ext cx="12960" cy="180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2040" y="5205240"/>
            <a:ext cx="12960" cy="18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2040" y="4987800"/>
            <a:ext cx="12960" cy="2174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5200" y="5108400"/>
            <a:ext cx="1800" cy="129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2040" y="5108400"/>
            <a:ext cx="1800" cy="129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5200" y="5108400"/>
            <a:ext cx="96840" cy="129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5120" y="4344840"/>
            <a:ext cx="12960" cy="180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5120" y="4659480"/>
            <a:ext cx="12960" cy="144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5120" y="4344840"/>
            <a:ext cx="12960" cy="3146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7520" y="4611600"/>
            <a:ext cx="144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5120" y="4611600"/>
            <a:ext cx="12240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5120" y="4392720"/>
            <a:ext cx="12960" cy="21888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97520" y="4392720"/>
            <a:ext cx="1440" cy="126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5120" y="4392720"/>
            <a:ext cx="122400" cy="1260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7520" y="4392720"/>
            <a:ext cx="1116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7520" y="4282920"/>
            <a:ext cx="11160" cy="180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97520" y="4282920"/>
            <a:ext cx="11160" cy="10980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4611600"/>
            <a:ext cx="11160" cy="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7520" y="4708440"/>
            <a:ext cx="11160" cy="18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7520" y="4611600"/>
            <a:ext cx="11160" cy="968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2040" y="4392720"/>
            <a:ext cx="12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2040" y="4611600"/>
            <a:ext cx="12960" cy="18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2040" y="4392720"/>
            <a:ext cx="12960" cy="21888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9320" y="44658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46" y="23"/>
                </a:moveTo>
                <a:lnTo>
                  <a:pt x="39" y="8"/>
                </a:lnTo>
                <a:lnTo>
                  <a:pt x="39" y="15"/>
                </a:lnTo>
                <a:lnTo>
                  <a:pt x="39" y="15"/>
                </a:lnTo>
                <a:lnTo>
                  <a:pt x="23" y="8"/>
                </a:lnTo>
                <a:lnTo>
                  <a:pt x="23" y="8"/>
                </a:lnTo>
                <a:lnTo>
                  <a:pt x="23" y="8"/>
                </a:lnTo>
                <a:lnTo>
                  <a:pt x="8" y="15"/>
                </a:lnTo>
                <a:lnTo>
                  <a:pt x="16" y="8"/>
                </a:lnTo>
                <a:lnTo>
                  <a:pt x="16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6" y="38"/>
                </a:lnTo>
                <a:lnTo>
                  <a:pt x="8" y="38"/>
                </a:lnTo>
                <a:lnTo>
                  <a:pt x="8" y="38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46" y="23"/>
                </a:lnTo>
                <a:lnTo>
                  <a:pt x="46" y="23"/>
                </a:lnTo>
                <a:lnTo>
                  <a:pt x="54" y="23"/>
                </a:lnTo>
                <a:lnTo>
                  <a:pt x="54" y="23"/>
                </a:lnTo>
                <a:lnTo>
                  <a:pt x="46" y="38"/>
                </a:lnTo>
                <a:lnTo>
                  <a:pt x="46" y="38"/>
                </a:lnTo>
                <a:lnTo>
                  <a:pt x="39" y="46"/>
                </a:lnTo>
                <a:lnTo>
                  <a:pt x="23" y="54"/>
                </a:lnTo>
                <a:lnTo>
                  <a:pt x="23" y="54"/>
                </a:lnTo>
                <a:lnTo>
                  <a:pt x="23" y="54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39" y="8"/>
                </a:lnTo>
                <a:lnTo>
                  <a:pt x="39" y="8"/>
                </a:lnTo>
                <a:lnTo>
                  <a:pt x="46" y="8"/>
                </a:lnTo>
                <a:lnTo>
                  <a:pt x="54" y="23"/>
                </a:lnTo>
                <a:lnTo>
                  <a:pt x="46" y="23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2040" y="4502160"/>
            <a:ext cx="1296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57680" y="4502160"/>
            <a:ext cx="1800" cy="126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9320" y="4502160"/>
            <a:ext cx="1440" cy="126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57680" y="4502160"/>
            <a:ext cx="71640" cy="126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8040" y="5048280"/>
            <a:ext cx="12600" cy="144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8040" y="4938840"/>
            <a:ext cx="1260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88040" y="4938840"/>
            <a:ext cx="12600" cy="109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0040" y="4938840"/>
            <a:ext cx="1440" cy="1260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7480" y="4938840"/>
            <a:ext cx="1440" cy="1260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0040" y="4938840"/>
            <a:ext cx="217440" cy="1260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88040" y="4805280"/>
            <a:ext cx="12600" cy="180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88040" y="4915080"/>
            <a:ext cx="1260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88040" y="4805280"/>
            <a:ext cx="12600" cy="10980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0040" y="4915080"/>
            <a:ext cx="1440" cy="1080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7480" y="4915080"/>
            <a:ext cx="1440" cy="1080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4915080"/>
            <a:ext cx="217440" cy="1080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5040" y="537516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7040" y="537516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7040" y="5375160"/>
            <a:ext cx="108000" cy="129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6960" y="53388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88080" y="533880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88080" y="5338800"/>
            <a:ext cx="218880" cy="1260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54480" y="5302080"/>
            <a:ext cx="1296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7600" y="53020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27600" y="5302080"/>
            <a:ext cx="326880" cy="129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700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4016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0160" y="5097600"/>
            <a:ext cx="96840" cy="1080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6320" y="50720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3800" y="507204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3800" y="5072040"/>
            <a:ext cx="182520" cy="1260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3040" y="50482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54480" y="50482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4480" y="5048280"/>
            <a:ext cx="268560" cy="1260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97520" y="4805280"/>
            <a:ext cx="1440" cy="129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70560" y="4805280"/>
            <a:ext cx="1440" cy="129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97520" y="4805280"/>
            <a:ext cx="473040" cy="1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97520" y="4695840"/>
            <a:ext cx="11160" cy="1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97520" y="4902120"/>
            <a:ext cx="11160" cy="180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97520" y="4695840"/>
            <a:ext cx="11160" cy="20628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8160" y="5108400"/>
            <a:ext cx="1440" cy="129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7680" y="5108400"/>
            <a:ext cx="60480" cy="129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7680" y="4502160"/>
            <a:ext cx="11160" cy="144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57680" y="4502160"/>
            <a:ext cx="11160" cy="60624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62560" y="4805280"/>
            <a:ext cx="1440" cy="129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57680" y="4805280"/>
            <a:ext cx="1800" cy="129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62560" y="4805280"/>
            <a:ext cx="195120" cy="1296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24440" y="4282920"/>
            <a:ext cx="1440" cy="1296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81760" y="4282920"/>
            <a:ext cx="1440" cy="1296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24440" y="4282920"/>
            <a:ext cx="157320" cy="1296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92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8492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868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50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50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688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68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768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006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70560" y="479268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6" y="8"/>
                </a:moveTo>
                <a:lnTo>
                  <a:pt x="8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7056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16" y="16"/>
                </a:move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16" y="8"/>
                </a:lnTo>
                <a:lnTo>
                  <a:pt x="23" y="16"/>
                </a:lnTo>
                <a:lnTo>
                  <a:pt x="23" y="16"/>
                </a:lnTo>
                <a:lnTo>
                  <a:pt x="16" y="23"/>
                </a:lnTo>
                <a:lnTo>
                  <a:pt x="16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8" y="8"/>
                </a:lnTo>
                <a:lnTo>
                  <a:pt x="16" y="8"/>
                </a:lnTo>
                <a:lnTo>
                  <a:pt x="16" y="16"/>
                </a:lnTo>
                <a:close/>
              </a:path>
            </a:pathLst>
          </a:cu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95760" y="48052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8"/>
                </a:lnTo>
                <a:lnTo>
                  <a:pt x="7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3880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880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6256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786120"/>
            <a:ext cx="449280" cy="642960"/>
          </a:xfrm>
          <a:custGeom>
            <a:avLst/>
            <a:gdLst/>
            <a:ahLst/>
            <a:rect l="l" t="t" r="r" b="b"/>
            <a:pathLst>
              <a:path w="283" h="405">
                <a:moveTo>
                  <a:pt x="0" y="0"/>
                </a:moveTo>
                <a:lnTo>
                  <a:pt x="122" y="8"/>
                </a:lnTo>
                <a:lnTo>
                  <a:pt x="207" y="38"/>
                </a:lnTo>
                <a:lnTo>
                  <a:pt x="237" y="69"/>
                </a:lnTo>
                <a:lnTo>
                  <a:pt x="268" y="99"/>
                </a:lnTo>
                <a:lnTo>
                  <a:pt x="283" y="206"/>
                </a:lnTo>
                <a:lnTo>
                  <a:pt x="268" y="306"/>
                </a:lnTo>
                <a:lnTo>
                  <a:pt x="237" y="344"/>
                </a:lnTo>
                <a:lnTo>
                  <a:pt x="207" y="367"/>
                </a:lnTo>
                <a:lnTo>
                  <a:pt x="122" y="397"/>
                </a:lnTo>
                <a:lnTo>
                  <a:pt x="0" y="4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3786120"/>
            <a:ext cx="1440" cy="1260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3786120"/>
            <a:ext cx="461880" cy="595440"/>
          </a:xfrm>
          <a:custGeom>
            <a:avLst/>
            <a:gdLst/>
            <a:ahLst/>
            <a:rect l="l" t="t" r="r" b="b"/>
            <a:pathLst>
              <a:path w="291" h="375">
                <a:moveTo>
                  <a:pt x="0" y="0"/>
                </a:moveTo>
                <a:lnTo>
                  <a:pt x="122" y="8"/>
                </a:lnTo>
                <a:lnTo>
                  <a:pt x="122" y="8"/>
                </a:lnTo>
                <a:lnTo>
                  <a:pt x="122" y="8"/>
                </a:lnTo>
                <a:lnTo>
                  <a:pt x="207" y="38"/>
                </a:lnTo>
                <a:lnTo>
                  <a:pt x="214" y="38"/>
                </a:lnTo>
                <a:lnTo>
                  <a:pt x="214" y="38"/>
                </a:lnTo>
                <a:lnTo>
                  <a:pt x="245" y="69"/>
                </a:lnTo>
                <a:lnTo>
                  <a:pt x="245" y="69"/>
                </a:lnTo>
                <a:lnTo>
                  <a:pt x="245" y="69"/>
                </a:lnTo>
                <a:lnTo>
                  <a:pt x="275" y="99"/>
                </a:lnTo>
                <a:lnTo>
                  <a:pt x="275" y="99"/>
                </a:lnTo>
                <a:lnTo>
                  <a:pt x="275" y="99"/>
                </a:lnTo>
                <a:lnTo>
                  <a:pt x="291" y="206"/>
                </a:lnTo>
                <a:lnTo>
                  <a:pt x="291" y="206"/>
                </a:lnTo>
                <a:lnTo>
                  <a:pt x="291" y="206"/>
                </a:lnTo>
                <a:lnTo>
                  <a:pt x="275" y="306"/>
                </a:lnTo>
                <a:lnTo>
                  <a:pt x="275" y="313"/>
                </a:lnTo>
                <a:lnTo>
                  <a:pt x="275" y="313"/>
                </a:lnTo>
                <a:lnTo>
                  <a:pt x="245" y="352"/>
                </a:lnTo>
                <a:lnTo>
                  <a:pt x="245" y="352"/>
                </a:lnTo>
                <a:lnTo>
                  <a:pt x="245" y="352"/>
                </a:lnTo>
                <a:lnTo>
                  <a:pt x="214" y="375"/>
                </a:lnTo>
                <a:lnTo>
                  <a:pt x="207" y="375"/>
                </a:lnTo>
                <a:lnTo>
                  <a:pt x="207" y="367"/>
                </a:lnTo>
                <a:lnTo>
                  <a:pt x="207" y="367"/>
                </a:lnTo>
                <a:lnTo>
                  <a:pt x="237" y="344"/>
                </a:lnTo>
                <a:lnTo>
                  <a:pt x="237" y="344"/>
                </a:lnTo>
                <a:lnTo>
                  <a:pt x="237" y="344"/>
                </a:lnTo>
                <a:lnTo>
                  <a:pt x="268" y="306"/>
                </a:lnTo>
                <a:lnTo>
                  <a:pt x="268" y="306"/>
                </a:lnTo>
                <a:lnTo>
                  <a:pt x="268" y="306"/>
                </a:lnTo>
                <a:lnTo>
                  <a:pt x="283" y="206"/>
                </a:lnTo>
                <a:lnTo>
                  <a:pt x="283" y="206"/>
                </a:lnTo>
                <a:lnTo>
                  <a:pt x="283" y="206"/>
                </a:lnTo>
                <a:lnTo>
                  <a:pt x="268" y="99"/>
                </a:lnTo>
                <a:lnTo>
                  <a:pt x="268" y="99"/>
                </a:lnTo>
                <a:lnTo>
                  <a:pt x="268" y="107"/>
                </a:lnTo>
                <a:lnTo>
                  <a:pt x="237" y="76"/>
                </a:lnTo>
                <a:lnTo>
                  <a:pt x="237" y="76"/>
                </a:lnTo>
                <a:lnTo>
                  <a:pt x="237" y="76"/>
                </a:lnTo>
                <a:lnTo>
                  <a:pt x="207" y="46"/>
                </a:lnTo>
                <a:lnTo>
                  <a:pt x="207" y="46"/>
                </a:lnTo>
                <a:lnTo>
                  <a:pt x="207" y="46"/>
                </a:lnTo>
                <a:lnTo>
                  <a:pt x="122" y="15"/>
                </a:lnTo>
                <a:lnTo>
                  <a:pt x="122" y="15"/>
                </a:lnTo>
                <a:lnTo>
                  <a:pt x="122" y="15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4368960"/>
            <a:ext cx="134640" cy="60120"/>
          </a:xfrm>
          <a:custGeom>
            <a:avLst/>
            <a:gdLst/>
            <a:ahLst/>
            <a:rect l="l" t="t" r="r" b="b"/>
            <a:pathLst>
              <a:path w="85" h="38">
                <a:moveTo>
                  <a:pt x="85" y="8"/>
                </a:move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85" y="0"/>
                </a:lnTo>
                <a:lnTo>
                  <a:pt x="85" y="8"/>
                </a:lnTo>
                <a:close/>
              </a:path>
            </a:pathLst>
          </a:cu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4429080"/>
            <a:ext cx="1440" cy="1260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4416480"/>
            <a:ext cx="193680" cy="25200"/>
          </a:xfrm>
          <a:custGeom>
            <a:avLst/>
            <a:gdLst/>
            <a:ahLst/>
            <a:rect l="l" t="t" r="r" b="b"/>
            <a:pathLst>
              <a:path w="122" h="16">
                <a:moveTo>
                  <a:pt x="122" y="8"/>
                </a:moveTo>
                <a:lnTo>
                  <a:pt x="122" y="0"/>
                </a:lnTo>
                <a:lnTo>
                  <a:pt x="0" y="8"/>
                </a:lnTo>
                <a:lnTo>
                  <a:pt x="0" y="16"/>
                </a:lnTo>
                <a:lnTo>
                  <a:pt x="122" y="8"/>
                </a:lnTo>
                <a:close/>
              </a:path>
            </a:pathLst>
          </a:cu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600" y="3859200"/>
            <a:ext cx="1800" cy="1260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46520" y="3859200"/>
            <a:ext cx="1440" cy="1260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41600" y="3859200"/>
            <a:ext cx="304920" cy="1260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41600" y="3992400"/>
            <a:ext cx="1800" cy="1296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6520" y="3992400"/>
            <a:ext cx="1440" cy="1296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41600" y="3992400"/>
            <a:ext cx="304920" cy="1296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41600" y="4113360"/>
            <a:ext cx="1800" cy="1260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46520" y="4113360"/>
            <a:ext cx="1440" cy="1260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41600" y="4113360"/>
            <a:ext cx="304920" cy="1260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41600" y="4259160"/>
            <a:ext cx="1800" cy="129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4259160"/>
            <a:ext cx="1440" cy="1296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1600" y="4259160"/>
            <a:ext cx="292320" cy="1296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83200" y="4102200"/>
            <a:ext cx="1440" cy="1116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80040" y="4102200"/>
            <a:ext cx="1440" cy="1116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83200" y="4102200"/>
            <a:ext cx="96840" cy="1116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1600" y="4381560"/>
            <a:ext cx="1800" cy="1116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381560"/>
            <a:ext cx="1440" cy="1116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1600" y="4381560"/>
            <a:ext cx="292320" cy="1116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98640" y="2827440"/>
            <a:ext cx="352440" cy="849240"/>
          </a:xfrm>
          <a:custGeom>
            <a:avLst/>
            <a:gdLst/>
            <a:ahLst/>
            <a:rect l="l" t="t" r="r" b="b"/>
            <a:pathLst>
              <a:path w="222" h="535">
                <a:moveTo>
                  <a:pt x="0" y="0"/>
                </a:moveTo>
                <a:lnTo>
                  <a:pt x="0" y="199"/>
                </a:lnTo>
                <a:lnTo>
                  <a:pt x="115" y="268"/>
                </a:lnTo>
                <a:lnTo>
                  <a:pt x="0" y="336"/>
                </a:lnTo>
                <a:lnTo>
                  <a:pt x="0" y="535"/>
                </a:lnTo>
                <a:lnTo>
                  <a:pt x="222" y="405"/>
                </a:lnTo>
                <a:lnTo>
                  <a:pt x="222" y="13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8640" y="2827440"/>
            <a:ext cx="363600" cy="873000"/>
          </a:xfrm>
          <a:custGeom>
            <a:avLst/>
            <a:gdLst/>
            <a:ahLst/>
            <a:rect l="l" t="t" r="r" b="b"/>
            <a:pathLst>
              <a:path w="229" h="550">
                <a:moveTo>
                  <a:pt x="7" y="0"/>
                </a:moveTo>
                <a:lnTo>
                  <a:pt x="7" y="199"/>
                </a:lnTo>
                <a:lnTo>
                  <a:pt x="0" y="207"/>
                </a:lnTo>
                <a:lnTo>
                  <a:pt x="7" y="199"/>
                </a:lnTo>
                <a:lnTo>
                  <a:pt x="122" y="268"/>
                </a:lnTo>
                <a:lnTo>
                  <a:pt x="138" y="268"/>
                </a:lnTo>
                <a:lnTo>
                  <a:pt x="122" y="275"/>
                </a:lnTo>
                <a:lnTo>
                  <a:pt x="7" y="344"/>
                </a:lnTo>
                <a:lnTo>
                  <a:pt x="0" y="336"/>
                </a:lnTo>
                <a:lnTo>
                  <a:pt x="7" y="336"/>
                </a:lnTo>
                <a:lnTo>
                  <a:pt x="7" y="535"/>
                </a:lnTo>
                <a:lnTo>
                  <a:pt x="7" y="543"/>
                </a:lnTo>
                <a:lnTo>
                  <a:pt x="0" y="535"/>
                </a:lnTo>
                <a:lnTo>
                  <a:pt x="222" y="405"/>
                </a:lnTo>
                <a:lnTo>
                  <a:pt x="229" y="405"/>
                </a:lnTo>
                <a:lnTo>
                  <a:pt x="222" y="405"/>
                </a:lnTo>
                <a:lnTo>
                  <a:pt x="222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405"/>
                </a:lnTo>
                <a:lnTo>
                  <a:pt x="229" y="413"/>
                </a:lnTo>
                <a:lnTo>
                  <a:pt x="229" y="413"/>
                </a:lnTo>
                <a:lnTo>
                  <a:pt x="7" y="543"/>
                </a:lnTo>
                <a:lnTo>
                  <a:pt x="0" y="550"/>
                </a:lnTo>
                <a:lnTo>
                  <a:pt x="0" y="535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115" y="268"/>
                </a:lnTo>
                <a:lnTo>
                  <a:pt x="122" y="275"/>
                </a:lnTo>
                <a:lnTo>
                  <a:pt x="115" y="275"/>
                </a:lnTo>
                <a:lnTo>
                  <a:pt x="0" y="207"/>
                </a:lnTo>
                <a:lnTo>
                  <a:pt x="0" y="207"/>
                </a:lnTo>
                <a:lnTo>
                  <a:pt x="0" y="199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98640" y="2816280"/>
            <a:ext cx="363600" cy="241200"/>
          </a:xfrm>
          <a:custGeom>
            <a:avLst/>
            <a:gdLst/>
            <a:ahLst/>
            <a:rect l="l" t="t" r="r" b="b"/>
            <a:pathLst>
              <a:path w="229" h="152">
                <a:moveTo>
                  <a:pt x="222" y="152"/>
                </a:move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7" y="7"/>
                </a:lnTo>
                <a:lnTo>
                  <a:pt x="229" y="145"/>
                </a:lnTo>
                <a:lnTo>
                  <a:pt x="222" y="152"/>
                </a:lnTo>
                <a:close/>
              </a:path>
            </a:pathLst>
          </a:cu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38520" y="291312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8520" y="2936880"/>
            <a:ext cx="11160" cy="2376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15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8520" y="291312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6200" y="2936880"/>
            <a:ext cx="1800" cy="126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38520" y="2936880"/>
            <a:ext cx="1440" cy="1260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46200" y="2936880"/>
            <a:ext cx="292320" cy="1260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38520" y="354348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1"/>
                </a:lnTo>
                <a:lnTo>
                  <a:pt x="0" y="31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38520" y="356724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6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38520" y="354348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1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46200" y="3567240"/>
            <a:ext cx="1800" cy="1260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38520" y="3567240"/>
            <a:ext cx="1440" cy="1260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46200" y="3567240"/>
            <a:ext cx="292320" cy="1260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1680" y="322740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1" y="16"/>
                </a:lnTo>
                <a:lnTo>
                  <a:pt x="46" y="16"/>
                </a:lnTo>
                <a:lnTo>
                  <a:pt x="31" y="23"/>
                </a:lnTo>
                <a:lnTo>
                  <a:pt x="0" y="39"/>
                </a:lnTo>
                <a:lnTo>
                  <a:pt x="0" y="39"/>
                </a:lnTo>
                <a:lnTo>
                  <a:pt x="0" y="31"/>
                </a:lnTo>
                <a:lnTo>
                  <a:pt x="0" y="31"/>
                </a:lnTo>
                <a:lnTo>
                  <a:pt x="31" y="16"/>
                </a:lnTo>
                <a:lnTo>
                  <a:pt x="31" y="23"/>
                </a:lnTo>
                <a:lnTo>
                  <a:pt x="31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1680" y="3252960"/>
            <a:ext cx="12960" cy="23760"/>
          </a:xfrm>
          <a:custGeom>
            <a:avLst/>
            <a:gdLst/>
            <a:ahLst/>
            <a:rect l="l" t="t" r="r" b="b"/>
            <a:pathLst>
              <a:path w="8" h="15">
                <a:moveTo>
                  <a:pt x="0" y="15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1680" y="322740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6"/>
                </a:moveTo>
                <a:lnTo>
                  <a:pt x="0" y="0"/>
                </a:lnTo>
                <a:lnTo>
                  <a:pt x="31" y="16"/>
                </a:lnTo>
                <a:lnTo>
                  <a:pt x="0" y="31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51080" y="3252960"/>
            <a:ext cx="1800" cy="1080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1680" y="3252960"/>
            <a:ext cx="1800" cy="1080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51080" y="3252960"/>
            <a:ext cx="120600" cy="1080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17880" y="311940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9080" y="50608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Disposi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77520" y="42465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Circu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60880" y="362916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Compuer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4120" y="27907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12960" y="219708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3"/>
                </a:lnTo>
                <a:lnTo>
                  <a:pt x="16" y="61"/>
                </a:lnTo>
                <a:lnTo>
                  <a:pt x="16" y="107"/>
                </a:lnTo>
                <a:lnTo>
                  <a:pt x="8" y="107"/>
                </a:lnTo>
                <a:lnTo>
                  <a:pt x="8" y="61"/>
                </a:lnTo>
                <a:lnTo>
                  <a:pt x="0" y="5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2960" y="2197080"/>
            <a:ext cx="49320" cy="1116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38520" y="2197080"/>
            <a:ext cx="23760" cy="108000"/>
          </a:xfrm>
          <a:custGeom>
            <a:avLst/>
            <a:gdLst/>
            <a:ahLst/>
            <a:rect l="l" t="t" r="r" b="b"/>
            <a:pathLst>
              <a:path w="15" h="68">
                <a:moveTo>
                  <a:pt x="15" y="0"/>
                </a:moveTo>
                <a:lnTo>
                  <a:pt x="15" y="53"/>
                </a:lnTo>
                <a:lnTo>
                  <a:pt x="15" y="61"/>
                </a:lnTo>
                <a:lnTo>
                  <a:pt x="15" y="61"/>
                </a:lnTo>
                <a:lnTo>
                  <a:pt x="7" y="68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3"/>
                </a:lnTo>
                <a:lnTo>
                  <a:pt x="15" y="61"/>
                </a:lnTo>
                <a:lnTo>
                  <a:pt x="7" y="53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38520" y="2293920"/>
            <a:ext cx="11160" cy="84240"/>
          </a:xfrm>
          <a:prstGeom prst="rect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25560" y="2367000"/>
            <a:ext cx="12960" cy="11160"/>
          </a:xfrm>
          <a:prstGeom prst="rect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2960" y="2281320"/>
            <a:ext cx="25560" cy="85680"/>
          </a:xfrm>
          <a:custGeom>
            <a:avLst/>
            <a:gdLst/>
            <a:ahLst/>
            <a:rect l="l" t="t" r="r" b="b"/>
            <a:pathLst>
              <a:path w="16" h="54">
                <a:moveTo>
                  <a:pt x="8" y="54"/>
                </a:moveTo>
                <a:lnTo>
                  <a:pt x="8" y="8"/>
                </a:lnTo>
                <a:lnTo>
                  <a:pt x="16" y="8"/>
                </a:lnTo>
                <a:lnTo>
                  <a:pt x="8" y="15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54"/>
                </a:lnTo>
                <a:lnTo>
                  <a:pt x="8" y="54"/>
                </a:lnTo>
                <a:close/>
              </a:path>
            </a:pathLst>
          </a:cu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12960" y="2197080"/>
            <a:ext cx="12600" cy="84240"/>
          </a:xfrm>
          <a:prstGeom prst="rect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224460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4"/>
                </a:lnTo>
                <a:lnTo>
                  <a:pt x="15" y="61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1240" y="2244600"/>
            <a:ext cx="49320" cy="1296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1240" y="2244600"/>
            <a:ext cx="49320" cy="169920"/>
          </a:xfrm>
          <a:custGeom>
            <a:avLst/>
            <a:gdLst/>
            <a:ahLst/>
            <a:rect l="l" t="t" r="r" b="b"/>
            <a:pathLst>
              <a:path w="31" h="107">
                <a:moveTo>
                  <a:pt x="31" y="0"/>
                </a:moveTo>
                <a:lnTo>
                  <a:pt x="31" y="54"/>
                </a:lnTo>
                <a:lnTo>
                  <a:pt x="31" y="61"/>
                </a:lnTo>
                <a:lnTo>
                  <a:pt x="31" y="61"/>
                </a:lnTo>
                <a:lnTo>
                  <a:pt x="23" y="69"/>
                </a:lnTo>
                <a:lnTo>
                  <a:pt x="15" y="61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15" y="61"/>
                </a:lnTo>
                <a:lnTo>
                  <a:pt x="8" y="69"/>
                </a:lnTo>
                <a:lnTo>
                  <a:pt x="0" y="61"/>
                </a:lnTo>
                <a:lnTo>
                  <a:pt x="0" y="61"/>
                </a:lnTo>
                <a:lnTo>
                  <a:pt x="0" y="54"/>
                </a:lnTo>
                <a:lnTo>
                  <a:pt x="8" y="5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107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4"/>
                </a:lnTo>
                <a:lnTo>
                  <a:pt x="31" y="61"/>
                </a:lnTo>
                <a:lnTo>
                  <a:pt x="23" y="54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1240" y="2244600"/>
            <a:ext cx="12960" cy="8568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11280" y="2111400"/>
            <a:ext cx="47520" cy="169920"/>
          </a:xfrm>
          <a:custGeom>
            <a:avLst/>
            <a:gdLst/>
            <a:ahLst/>
            <a:rect l="l" t="t" r="r" b="b"/>
            <a:pathLst>
              <a:path w="30" h="107">
                <a:moveTo>
                  <a:pt x="0" y="0"/>
                </a:moveTo>
                <a:lnTo>
                  <a:pt x="30" y="0"/>
                </a:lnTo>
                <a:lnTo>
                  <a:pt x="30" y="54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11280" y="2111400"/>
            <a:ext cx="60480" cy="12600"/>
          </a:xfrm>
          <a:prstGeom prst="rect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11140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15" y="0"/>
                </a:moveTo>
                <a:lnTo>
                  <a:pt x="15" y="54"/>
                </a:lnTo>
                <a:lnTo>
                  <a:pt x="15" y="61"/>
                </a:lnTo>
                <a:lnTo>
                  <a:pt x="15" y="61"/>
                </a:lnTo>
                <a:lnTo>
                  <a:pt x="7" y="69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4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208240"/>
            <a:ext cx="11160" cy="8568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35040" y="2281320"/>
            <a:ext cx="12600" cy="1260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440" y="2197080"/>
            <a:ext cx="25200" cy="84240"/>
          </a:xfrm>
          <a:custGeom>
            <a:avLst/>
            <a:gdLst/>
            <a:ahLst/>
            <a:rect l="l" t="t" r="r" b="b"/>
            <a:pathLst>
              <a:path w="16" h="53">
                <a:moveTo>
                  <a:pt x="8" y="53"/>
                </a:moveTo>
                <a:lnTo>
                  <a:pt x="8" y="7"/>
                </a:lnTo>
                <a:lnTo>
                  <a:pt x="16" y="7"/>
                </a:lnTo>
                <a:lnTo>
                  <a:pt x="8" y="15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16" y="7"/>
                </a:lnTo>
                <a:lnTo>
                  <a:pt x="16" y="7"/>
                </a:lnTo>
                <a:lnTo>
                  <a:pt x="16" y="7"/>
                </a:lnTo>
                <a:lnTo>
                  <a:pt x="16" y="53"/>
                </a:lnTo>
                <a:lnTo>
                  <a:pt x="8" y="53"/>
                </a:lnTo>
                <a:close/>
              </a:path>
            </a:pathLst>
          </a:cu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440" y="2111400"/>
            <a:ext cx="12600" cy="8568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1280" y="21114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7440" y="2367000"/>
            <a:ext cx="49320" cy="181080"/>
          </a:xfrm>
          <a:custGeom>
            <a:avLst/>
            <a:gdLst/>
            <a:ahLst/>
            <a:rect l="l" t="t" r="r" b="b"/>
            <a:pathLst>
              <a:path w="31" h="114">
                <a:moveTo>
                  <a:pt x="0" y="0"/>
                </a:moveTo>
                <a:lnTo>
                  <a:pt x="31" y="0"/>
                </a:lnTo>
                <a:lnTo>
                  <a:pt x="31" y="53"/>
                </a:lnTo>
                <a:lnTo>
                  <a:pt x="23" y="61"/>
                </a:lnTo>
                <a:lnTo>
                  <a:pt x="23" y="114"/>
                </a:lnTo>
                <a:lnTo>
                  <a:pt x="16" y="107"/>
                </a:lnTo>
                <a:lnTo>
                  <a:pt x="16" y="61"/>
                </a:lnTo>
                <a:lnTo>
                  <a:pt x="8" y="53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7440" y="2367000"/>
            <a:ext cx="61920" cy="11160"/>
          </a:xfrm>
          <a:prstGeom prst="rect">
            <a:avLst/>
          </a:pr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00400" y="2367000"/>
            <a:ext cx="48960" cy="206280"/>
          </a:xfrm>
          <a:custGeom>
            <a:avLst/>
            <a:gdLst/>
            <a:ahLst/>
            <a:rect l="l" t="t" r="r" b="b"/>
            <a:pathLst>
              <a:path w="31" h="130">
                <a:moveTo>
                  <a:pt x="31" y="0"/>
                </a:moveTo>
                <a:lnTo>
                  <a:pt x="31" y="53"/>
                </a:lnTo>
                <a:lnTo>
                  <a:pt x="31" y="61"/>
                </a:lnTo>
                <a:lnTo>
                  <a:pt x="31" y="61"/>
                </a:lnTo>
                <a:lnTo>
                  <a:pt x="23" y="68"/>
                </a:lnTo>
                <a:lnTo>
                  <a:pt x="15" y="61"/>
                </a:lnTo>
                <a:lnTo>
                  <a:pt x="23" y="61"/>
                </a:lnTo>
                <a:lnTo>
                  <a:pt x="23" y="114"/>
                </a:lnTo>
                <a:lnTo>
                  <a:pt x="23" y="130"/>
                </a:lnTo>
                <a:lnTo>
                  <a:pt x="15" y="122"/>
                </a:lnTo>
                <a:lnTo>
                  <a:pt x="8" y="114"/>
                </a:lnTo>
                <a:lnTo>
                  <a:pt x="8" y="114"/>
                </a:lnTo>
                <a:lnTo>
                  <a:pt x="8" y="107"/>
                </a:lnTo>
                <a:lnTo>
                  <a:pt x="8" y="61"/>
                </a:lnTo>
                <a:lnTo>
                  <a:pt x="15" y="61"/>
                </a:lnTo>
                <a:lnTo>
                  <a:pt x="8" y="68"/>
                </a:lnTo>
                <a:lnTo>
                  <a:pt x="0" y="61"/>
                </a:lnTo>
                <a:lnTo>
                  <a:pt x="0" y="61"/>
                </a:lnTo>
                <a:lnTo>
                  <a:pt x="0" y="53"/>
                </a:lnTo>
                <a:lnTo>
                  <a:pt x="8" y="53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15" y="107"/>
                </a:lnTo>
                <a:lnTo>
                  <a:pt x="8" y="107"/>
                </a:lnTo>
                <a:lnTo>
                  <a:pt x="15" y="107"/>
                </a:lnTo>
                <a:lnTo>
                  <a:pt x="23" y="114"/>
                </a:lnTo>
                <a:lnTo>
                  <a:pt x="15" y="122"/>
                </a:lnTo>
                <a:lnTo>
                  <a:pt x="15" y="11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3"/>
                </a:lnTo>
                <a:lnTo>
                  <a:pt x="31" y="61"/>
                </a:lnTo>
                <a:lnTo>
                  <a:pt x="23" y="53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00400" y="2367000"/>
            <a:ext cx="12600" cy="84240"/>
          </a:xfrm>
          <a:prstGeom prst="rect">
            <a:avLst/>
          </a:pr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7440" y="236700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11280" y="1844640"/>
            <a:ext cx="1251000" cy="436680"/>
          </a:xfrm>
          <a:custGeom>
            <a:avLst/>
            <a:gdLst/>
            <a:ahLst/>
            <a:rect l="l" t="t" r="r" b="b"/>
            <a:pathLst>
              <a:path w="788" h="275">
                <a:moveTo>
                  <a:pt x="0" y="99"/>
                </a:moveTo>
                <a:lnTo>
                  <a:pt x="290" y="0"/>
                </a:lnTo>
                <a:lnTo>
                  <a:pt x="788" y="153"/>
                </a:lnTo>
                <a:lnTo>
                  <a:pt x="512" y="275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280" y="1844640"/>
            <a:ext cx="1274760" cy="449280"/>
          </a:xfrm>
          <a:custGeom>
            <a:avLst/>
            <a:gdLst/>
            <a:ahLst/>
            <a:rect l="l" t="t" r="r" b="b"/>
            <a:pathLst>
              <a:path w="803" h="283">
                <a:moveTo>
                  <a:pt x="0" y="99"/>
                </a:moveTo>
                <a:lnTo>
                  <a:pt x="290" y="0"/>
                </a:lnTo>
                <a:lnTo>
                  <a:pt x="290" y="0"/>
                </a:lnTo>
                <a:lnTo>
                  <a:pt x="290" y="0"/>
                </a:lnTo>
                <a:lnTo>
                  <a:pt x="788" y="153"/>
                </a:lnTo>
                <a:lnTo>
                  <a:pt x="803" y="153"/>
                </a:lnTo>
                <a:lnTo>
                  <a:pt x="788" y="161"/>
                </a:lnTo>
                <a:lnTo>
                  <a:pt x="512" y="283"/>
                </a:lnTo>
                <a:lnTo>
                  <a:pt x="512" y="283"/>
                </a:lnTo>
                <a:lnTo>
                  <a:pt x="512" y="283"/>
                </a:lnTo>
                <a:lnTo>
                  <a:pt x="512" y="275"/>
                </a:lnTo>
                <a:lnTo>
                  <a:pt x="788" y="153"/>
                </a:lnTo>
                <a:lnTo>
                  <a:pt x="788" y="161"/>
                </a:lnTo>
                <a:lnTo>
                  <a:pt x="788" y="161"/>
                </a:lnTo>
                <a:lnTo>
                  <a:pt x="290" y="8"/>
                </a:lnTo>
                <a:lnTo>
                  <a:pt x="290" y="0"/>
                </a:lnTo>
                <a:lnTo>
                  <a:pt x="290" y="8"/>
                </a:lnTo>
                <a:lnTo>
                  <a:pt x="0" y="107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1280" y="2001960"/>
            <a:ext cx="812880" cy="291960"/>
          </a:xfrm>
          <a:custGeom>
            <a:avLst/>
            <a:gdLst/>
            <a:ahLst/>
            <a:rect l="l" t="t" r="r" b="b"/>
            <a:pathLst>
              <a:path w="512" h="184">
                <a:moveTo>
                  <a:pt x="512" y="18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12" y="176"/>
                </a:lnTo>
                <a:lnTo>
                  <a:pt x="512" y="184"/>
                </a:lnTo>
                <a:close/>
              </a:path>
            </a:pathLst>
          </a:cu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36760" y="2087640"/>
            <a:ext cx="412920" cy="303120"/>
          </a:xfrm>
          <a:custGeom>
            <a:avLst/>
            <a:gdLst/>
            <a:ahLst/>
            <a:rect l="l" t="t" r="r" b="b"/>
            <a:pathLst>
              <a:path w="260" h="191">
                <a:moveTo>
                  <a:pt x="260" y="0"/>
                </a:moveTo>
                <a:lnTo>
                  <a:pt x="260" y="69"/>
                </a:lnTo>
                <a:lnTo>
                  <a:pt x="0" y="191"/>
                </a:lnTo>
                <a:lnTo>
                  <a:pt x="0" y="122"/>
                </a:lnTo>
                <a:lnTo>
                  <a:pt x="260" y="0"/>
                </a:lnTo>
                <a:close/>
              </a:path>
            </a:pathLst>
          </a:cu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36760" y="2087640"/>
            <a:ext cx="425520" cy="315720"/>
          </a:xfrm>
          <a:custGeom>
            <a:avLst/>
            <a:gdLst/>
            <a:ahLst/>
            <a:rect l="l" t="t" r="r" b="b"/>
            <a:pathLst>
              <a:path w="268" h="199">
                <a:moveTo>
                  <a:pt x="268" y="0"/>
                </a:moveTo>
                <a:lnTo>
                  <a:pt x="268" y="69"/>
                </a:lnTo>
                <a:lnTo>
                  <a:pt x="268" y="76"/>
                </a:lnTo>
                <a:lnTo>
                  <a:pt x="260" y="76"/>
                </a:lnTo>
                <a:lnTo>
                  <a:pt x="0" y="199"/>
                </a:lnTo>
                <a:lnTo>
                  <a:pt x="0" y="199"/>
                </a:lnTo>
                <a:lnTo>
                  <a:pt x="0" y="191"/>
                </a:lnTo>
                <a:lnTo>
                  <a:pt x="0" y="122"/>
                </a:lnTo>
                <a:lnTo>
                  <a:pt x="0" y="122"/>
                </a:lnTo>
                <a:lnTo>
                  <a:pt x="0" y="122"/>
                </a:lnTo>
                <a:lnTo>
                  <a:pt x="8" y="122"/>
                </a:lnTo>
                <a:lnTo>
                  <a:pt x="8" y="191"/>
                </a:lnTo>
                <a:lnTo>
                  <a:pt x="0" y="191"/>
                </a:lnTo>
                <a:lnTo>
                  <a:pt x="0" y="191"/>
                </a:lnTo>
                <a:lnTo>
                  <a:pt x="260" y="69"/>
                </a:lnTo>
                <a:lnTo>
                  <a:pt x="260" y="76"/>
                </a:lnTo>
                <a:lnTo>
                  <a:pt x="260" y="69"/>
                </a:lnTo>
                <a:lnTo>
                  <a:pt x="260" y="0"/>
                </a:lnTo>
                <a:lnTo>
                  <a:pt x="268" y="0"/>
                </a:lnTo>
                <a:close/>
              </a:path>
            </a:pathLst>
          </a:cu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36760" y="2087640"/>
            <a:ext cx="425520" cy="206280"/>
          </a:xfrm>
          <a:custGeom>
            <a:avLst/>
            <a:gdLst/>
            <a:ahLst/>
            <a:rect l="l" t="t" r="r" b="b"/>
            <a:pathLst>
              <a:path w="268" h="130">
                <a:moveTo>
                  <a:pt x="0" y="122"/>
                </a:moveTo>
                <a:lnTo>
                  <a:pt x="260" y="0"/>
                </a:lnTo>
                <a:lnTo>
                  <a:pt x="268" y="0"/>
                </a:lnTo>
                <a:lnTo>
                  <a:pt x="268" y="0"/>
                </a:lnTo>
                <a:lnTo>
                  <a:pt x="260" y="8"/>
                </a:lnTo>
                <a:lnTo>
                  <a:pt x="0" y="130"/>
                </a:lnTo>
                <a:lnTo>
                  <a:pt x="0" y="122"/>
                </a:lnTo>
                <a:close/>
              </a:path>
            </a:pathLst>
          </a:cu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440" y="2001960"/>
            <a:ext cx="814320" cy="388800"/>
          </a:xfrm>
          <a:custGeom>
            <a:avLst/>
            <a:gdLst/>
            <a:ahLst/>
            <a:rect l="l" t="t" r="r" b="b"/>
            <a:pathLst>
              <a:path w="513" h="245">
                <a:moveTo>
                  <a:pt x="0" y="0"/>
                </a:moveTo>
                <a:lnTo>
                  <a:pt x="513" y="176"/>
                </a:lnTo>
                <a:lnTo>
                  <a:pt x="513" y="245"/>
                </a:lnTo>
                <a:lnTo>
                  <a:pt x="0" y="6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440" y="2001960"/>
            <a:ext cx="826920" cy="401400"/>
          </a:xfrm>
          <a:custGeom>
            <a:avLst/>
            <a:gdLst/>
            <a:ahLst/>
            <a:rect l="l" t="t" r="r" b="b"/>
            <a:pathLst>
              <a:path w="521" h="253">
                <a:moveTo>
                  <a:pt x="0" y="0"/>
                </a:moveTo>
                <a:lnTo>
                  <a:pt x="513" y="176"/>
                </a:lnTo>
                <a:lnTo>
                  <a:pt x="521" y="176"/>
                </a:lnTo>
                <a:lnTo>
                  <a:pt x="521" y="176"/>
                </a:lnTo>
                <a:lnTo>
                  <a:pt x="521" y="245"/>
                </a:lnTo>
                <a:lnTo>
                  <a:pt x="521" y="253"/>
                </a:lnTo>
                <a:lnTo>
                  <a:pt x="513" y="253"/>
                </a:lnTo>
                <a:lnTo>
                  <a:pt x="0" y="69"/>
                </a:lnTo>
                <a:lnTo>
                  <a:pt x="0" y="69"/>
                </a:lnTo>
                <a:lnTo>
                  <a:pt x="0" y="62"/>
                </a:lnTo>
                <a:lnTo>
                  <a:pt x="0" y="62"/>
                </a:lnTo>
                <a:lnTo>
                  <a:pt x="513" y="245"/>
                </a:lnTo>
                <a:lnTo>
                  <a:pt x="513" y="253"/>
                </a:lnTo>
                <a:lnTo>
                  <a:pt x="513" y="245"/>
                </a:lnTo>
                <a:lnTo>
                  <a:pt x="513" y="176"/>
                </a:lnTo>
                <a:lnTo>
                  <a:pt x="521" y="176"/>
                </a:lnTo>
                <a:lnTo>
                  <a:pt x="513" y="184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440" y="2001960"/>
            <a:ext cx="12600" cy="98280"/>
          </a:xfrm>
          <a:custGeom>
            <a:avLst/>
            <a:gdLst/>
            <a:ahLst/>
            <a:rect l="l" t="t" r="r" b="b"/>
            <a:pathLst>
              <a:path w="8" h="62">
                <a:moveTo>
                  <a:pt x="0" y="6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62"/>
                </a:lnTo>
                <a:lnTo>
                  <a:pt x="0" y="62"/>
                </a:lnTo>
                <a:close/>
              </a:path>
            </a:pathLst>
          </a:cu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965240"/>
            <a:ext cx="498600" cy="182520"/>
          </a:xfrm>
          <a:custGeom>
            <a:avLst/>
            <a:gdLst/>
            <a:ahLst/>
            <a:rect l="l" t="t" r="r" b="b"/>
            <a:pathLst>
              <a:path w="314" h="115">
                <a:moveTo>
                  <a:pt x="0" y="39"/>
                </a:moveTo>
                <a:lnTo>
                  <a:pt x="115" y="0"/>
                </a:lnTo>
                <a:lnTo>
                  <a:pt x="314" y="62"/>
                </a:lnTo>
                <a:lnTo>
                  <a:pt x="207" y="115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11240" y="1965240"/>
            <a:ext cx="522360" cy="195480"/>
          </a:xfrm>
          <a:custGeom>
            <a:avLst/>
            <a:gdLst/>
            <a:ahLst/>
            <a:rect l="l" t="t" r="r" b="b"/>
            <a:pathLst>
              <a:path w="329" h="123">
                <a:moveTo>
                  <a:pt x="0" y="39"/>
                </a:moveTo>
                <a:lnTo>
                  <a:pt x="115" y="0"/>
                </a:lnTo>
                <a:lnTo>
                  <a:pt x="115" y="0"/>
                </a:lnTo>
                <a:lnTo>
                  <a:pt x="115" y="0"/>
                </a:lnTo>
                <a:lnTo>
                  <a:pt x="314" y="62"/>
                </a:lnTo>
                <a:lnTo>
                  <a:pt x="329" y="62"/>
                </a:lnTo>
                <a:lnTo>
                  <a:pt x="314" y="69"/>
                </a:lnTo>
                <a:lnTo>
                  <a:pt x="207" y="123"/>
                </a:lnTo>
                <a:lnTo>
                  <a:pt x="207" y="123"/>
                </a:lnTo>
                <a:lnTo>
                  <a:pt x="207" y="123"/>
                </a:lnTo>
                <a:lnTo>
                  <a:pt x="207" y="115"/>
                </a:lnTo>
                <a:lnTo>
                  <a:pt x="314" y="62"/>
                </a:lnTo>
                <a:lnTo>
                  <a:pt x="314" y="69"/>
                </a:lnTo>
                <a:lnTo>
                  <a:pt x="314" y="69"/>
                </a:lnTo>
                <a:lnTo>
                  <a:pt x="115" y="8"/>
                </a:lnTo>
                <a:lnTo>
                  <a:pt x="115" y="0"/>
                </a:lnTo>
                <a:lnTo>
                  <a:pt x="115" y="8"/>
                </a:lnTo>
                <a:lnTo>
                  <a:pt x="0" y="46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1240" y="2027160"/>
            <a:ext cx="328680" cy="133560"/>
          </a:xfrm>
          <a:custGeom>
            <a:avLst/>
            <a:gdLst/>
            <a:ahLst/>
            <a:rect l="l" t="t" r="r" b="b"/>
            <a:pathLst>
              <a:path w="207" h="84">
                <a:moveTo>
                  <a:pt x="207" y="84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07" y="76"/>
                </a:lnTo>
                <a:lnTo>
                  <a:pt x="207" y="84"/>
                </a:lnTo>
                <a:close/>
              </a:path>
            </a:pathLst>
          </a:cu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3640" y="2001960"/>
            <a:ext cx="290520" cy="109440"/>
          </a:xfrm>
          <a:custGeom>
            <a:avLst/>
            <a:gdLst/>
            <a:ahLst/>
            <a:rect l="l" t="t" r="r" b="b"/>
            <a:pathLst>
              <a:path w="183" h="69">
                <a:moveTo>
                  <a:pt x="0" y="23"/>
                </a:moveTo>
                <a:lnTo>
                  <a:pt x="69" y="0"/>
                </a:lnTo>
                <a:lnTo>
                  <a:pt x="183" y="39"/>
                </a:lnTo>
                <a:lnTo>
                  <a:pt x="122" y="69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33640" y="2001960"/>
            <a:ext cx="315720" cy="122040"/>
          </a:xfrm>
          <a:custGeom>
            <a:avLst/>
            <a:gdLst/>
            <a:ahLst/>
            <a:rect l="l" t="t" r="r" b="b"/>
            <a:pathLst>
              <a:path w="199" h="77">
                <a:moveTo>
                  <a:pt x="0" y="23"/>
                </a:move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183" y="39"/>
                </a:lnTo>
                <a:lnTo>
                  <a:pt x="199" y="39"/>
                </a:lnTo>
                <a:lnTo>
                  <a:pt x="183" y="46"/>
                </a:lnTo>
                <a:lnTo>
                  <a:pt x="122" y="77"/>
                </a:lnTo>
                <a:lnTo>
                  <a:pt x="122" y="77"/>
                </a:lnTo>
                <a:lnTo>
                  <a:pt x="122" y="77"/>
                </a:lnTo>
                <a:lnTo>
                  <a:pt x="122" y="69"/>
                </a:lnTo>
                <a:lnTo>
                  <a:pt x="183" y="39"/>
                </a:lnTo>
                <a:lnTo>
                  <a:pt x="183" y="46"/>
                </a:lnTo>
                <a:lnTo>
                  <a:pt x="183" y="46"/>
                </a:lnTo>
                <a:lnTo>
                  <a:pt x="69" y="8"/>
                </a:lnTo>
                <a:lnTo>
                  <a:pt x="69" y="0"/>
                </a:lnTo>
                <a:lnTo>
                  <a:pt x="69" y="8"/>
                </a:lnTo>
                <a:lnTo>
                  <a:pt x="0" y="31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33640" y="2038320"/>
            <a:ext cx="193680" cy="85680"/>
          </a:xfrm>
          <a:custGeom>
            <a:avLst/>
            <a:gdLst/>
            <a:ahLst/>
            <a:rect l="l" t="t" r="r" b="b"/>
            <a:pathLst>
              <a:path w="122" h="54">
                <a:moveTo>
                  <a:pt x="122" y="5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22" y="46"/>
                </a:lnTo>
                <a:lnTo>
                  <a:pt x="122" y="54"/>
                </a:lnTo>
                <a:close/>
              </a:path>
            </a:pathLst>
          </a:cu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5000" y="207504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77" y="0"/>
                </a:moveTo>
                <a:lnTo>
                  <a:pt x="92" y="8"/>
                </a:lnTo>
                <a:lnTo>
                  <a:pt x="31" y="54"/>
                </a:lnTo>
                <a:lnTo>
                  <a:pt x="0" y="46"/>
                </a:lnTo>
                <a:lnTo>
                  <a:pt x="77" y="0"/>
                </a:lnTo>
                <a:close/>
              </a:path>
            </a:pathLst>
          </a:cu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1240" y="2075040"/>
            <a:ext cx="182520" cy="96840"/>
          </a:xfrm>
          <a:custGeom>
            <a:avLst/>
            <a:gdLst/>
            <a:ahLst/>
            <a:rect l="l" t="t" r="r" b="b"/>
            <a:pathLst>
              <a:path w="115" h="61">
                <a:moveTo>
                  <a:pt x="92" y="0"/>
                </a:moveTo>
                <a:lnTo>
                  <a:pt x="107" y="8"/>
                </a:lnTo>
                <a:lnTo>
                  <a:pt x="115" y="16"/>
                </a:lnTo>
                <a:lnTo>
                  <a:pt x="115" y="16"/>
                </a:lnTo>
                <a:lnTo>
                  <a:pt x="54" y="61"/>
                </a:lnTo>
                <a:lnTo>
                  <a:pt x="46" y="61"/>
                </a:lnTo>
                <a:lnTo>
                  <a:pt x="46" y="61"/>
                </a:lnTo>
                <a:lnTo>
                  <a:pt x="15" y="54"/>
                </a:lnTo>
                <a:lnTo>
                  <a:pt x="0" y="54"/>
                </a:lnTo>
                <a:lnTo>
                  <a:pt x="15" y="46"/>
                </a:lnTo>
                <a:lnTo>
                  <a:pt x="15" y="46"/>
                </a:lnTo>
                <a:lnTo>
                  <a:pt x="46" y="54"/>
                </a:lnTo>
                <a:lnTo>
                  <a:pt x="46" y="61"/>
                </a:lnTo>
                <a:lnTo>
                  <a:pt x="46" y="54"/>
                </a:lnTo>
                <a:lnTo>
                  <a:pt x="107" y="8"/>
                </a:lnTo>
                <a:lnTo>
                  <a:pt x="115" y="16"/>
                </a:lnTo>
                <a:lnTo>
                  <a:pt x="107" y="16"/>
                </a:lnTo>
                <a:lnTo>
                  <a:pt x="92" y="8"/>
                </a:lnTo>
                <a:lnTo>
                  <a:pt x="92" y="0"/>
                </a:lnTo>
                <a:close/>
              </a:path>
            </a:pathLst>
          </a:cu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35000" y="2075040"/>
            <a:ext cx="135000" cy="85680"/>
          </a:xfrm>
          <a:custGeom>
            <a:avLst/>
            <a:gdLst/>
            <a:ahLst/>
            <a:rect l="l" t="t" r="r" b="b"/>
            <a:pathLst>
              <a:path w="85" h="54">
                <a:moveTo>
                  <a:pt x="0" y="46"/>
                </a:moveTo>
                <a:lnTo>
                  <a:pt x="77" y="0"/>
                </a:lnTo>
                <a:lnTo>
                  <a:pt x="77" y="0"/>
                </a:lnTo>
                <a:lnTo>
                  <a:pt x="77" y="0"/>
                </a:lnTo>
                <a:lnTo>
                  <a:pt x="85" y="8"/>
                </a:lnTo>
                <a:lnTo>
                  <a:pt x="8" y="54"/>
                </a:lnTo>
                <a:lnTo>
                  <a:pt x="0" y="46"/>
                </a:lnTo>
                <a:close/>
              </a:path>
            </a:pathLst>
          </a:cu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58800" y="2014560"/>
            <a:ext cx="401760" cy="36360"/>
          </a:xfrm>
          <a:custGeom>
            <a:avLst/>
            <a:gdLst/>
            <a:ahLst/>
            <a:rect l="l" t="t" r="r" b="b"/>
            <a:pathLst>
              <a:path w="253" h="23">
                <a:moveTo>
                  <a:pt x="237" y="15"/>
                </a:moveTo>
                <a:lnTo>
                  <a:pt x="0" y="0"/>
                </a:lnTo>
                <a:lnTo>
                  <a:pt x="54" y="23"/>
                </a:lnTo>
                <a:lnTo>
                  <a:pt x="253" y="23"/>
                </a:lnTo>
                <a:lnTo>
                  <a:pt x="230" y="8"/>
                </a:lnTo>
                <a:lnTo>
                  <a:pt x="237" y="15"/>
                </a:lnTo>
                <a:close/>
              </a:path>
            </a:pathLst>
          </a:cu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35000" y="2038320"/>
            <a:ext cx="1800" cy="1260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58800" y="2014560"/>
            <a:ext cx="376200" cy="49320"/>
          </a:xfrm>
          <a:custGeom>
            <a:avLst/>
            <a:gdLst/>
            <a:ahLst/>
            <a:rect l="l" t="t" r="r" b="b"/>
            <a:pathLst>
              <a:path w="237" h="31">
                <a:moveTo>
                  <a:pt x="237" y="23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54" y="23"/>
                </a:lnTo>
                <a:lnTo>
                  <a:pt x="54" y="31"/>
                </a:lnTo>
                <a:lnTo>
                  <a:pt x="54" y="31"/>
                </a:lnTo>
                <a:lnTo>
                  <a:pt x="54" y="31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237" y="15"/>
                </a:lnTo>
                <a:lnTo>
                  <a:pt x="237" y="23"/>
                </a:lnTo>
                <a:close/>
              </a:path>
            </a:pathLst>
          </a:cu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44480" y="2050920"/>
            <a:ext cx="352440" cy="12960"/>
          </a:xfrm>
          <a:custGeom>
            <a:avLst/>
            <a:gdLst/>
            <a:ahLst/>
            <a:rect l="l" t="t" r="r" b="b"/>
            <a:pathLst>
              <a:path w="222" h="8">
                <a:moveTo>
                  <a:pt x="0" y="0"/>
                </a:moveTo>
                <a:lnTo>
                  <a:pt x="199" y="0"/>
                </a:lnTo>
                <a:lnTo>
                  <a:pt x="206" y="0"/>
                </a:lnTo>
                <a:lnTo>
                  <a:pt x="222" y="8"/>
                </a:lnTo>
                <a:lnTo>
                  <a:pt x="199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24200" y="2027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24200" y="2027160"/>
            <a:ext cx="47520" cy="36720"/>
          </a:xfrm>
          <a:custGeom>
            <a:avLst/>
            <a:gdLst/>
            <a:ahLst/>
            <a:rect l="l" t="t" r="r" b="b"/>
            <a:pathLst>
              <a:path w="30" h="23">
                <a:moveTo>
                  <a:pt x="23" y="23"/>
                </a:moveTo>
                <a:lnTo>
                  <a:pt x="30" y="15"/>
                </a:lnTo>
                <a:lnTo>
                  <a:pt x="7" y="0"/>
                </a:lnTo>
                <a:lnTo>
                  <a:pt x="0" y="7"/>
                </a:lnTo>
                <a:lnTo>
                  <a:pt x="23" y="23"/>
                </a:lnTo>
                <a:close/>
              </a:path>
            </a:pathLst>
          </a:cu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3560" y="2135160"/>
            <a:ext cx="109440" cy="146160"/>
          </a:xfrm>
          <a:custGeom>
            <a:avLst/>
            <a:gdLst/>
            <a:ahLst/>
            <a:rect l="l" t="t" r="r" b="b"/>
            <a:pathLst>
              <a:path w="69" h="92">
                <a:moveTo>
                  <a:pt x="7" y="0"/>
                </a:moveTo>
                <a:lnTo>
                  <a:pt x="69" y="92"/>
                </a:lnTo>
                <a:lnTo>
                  <a:pt x="38" y="77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3560" y="2135160"/>
            <a:ext cx="120600" cy="1587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5" y="0"/>
                </a:moveTo>
                <a:lnTo>
                  <a:pt x="76" y="92"/>
                </a:lnTo>
                <a:lnTo>
                  <a:pt x="69" y="100"/>
                </a:lnTo>
                <a:lnTo>
                  <a:pt x="69" y="100"/>
                </a:lnTo>
                <a:lnTo>
                  <a:pt x="38" y="85"/>
                </a:lnTo>
                <a:lnTo>
                  <a:pt x="46" y="85"/>
                </a:lnTo>
                <a:lnTo>
                  <a:pt x="38" y="7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46" y="77"/>
                </a:lnTo>
                <a:lnTo>
                  <a:pt x="38" y="77"/>
                </a:lnTo>
                <a:lnTo>
                  <a:pt x="38" y="77"/>
                </a:lnTo>
                <a:lnTo>
                  <a:pt x="69" y="92"/>
                </a:lnTo>
                <a:lnTo>
                  <a:pt x="69" y="92"/>
                </a:lnTo>
                <a:lnTo>
                  <a:pt x="69" y="100"/>
                </a:lnTo>
                <a:lnTo>
                  <a:pt x="7" y="8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3560" y="213516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15" y="0"/>
                </a:lnTo>
                <a:lnTo>
                  <a:pt x="7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33640" y="203832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8"/>
                </a:moveTo>
                <a:lnTo>
                  <a:pt x="0" y="16"/>
                </a:lnTo>
                <a:lnTo>
                  <a:pt x="15" y="8"/>
                </a:lnTo>
                <a:lnTo>
                  <a:pt x="15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4320" y="197820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1" y="46"/>
                </a:moveTo>
                <a:lnTo>
                  <a:pt x="23" y="23"/>
                </a:lnTo>
                <a:lnTo>
                  <a:pt x="31" y="23"/>
                </a:lnTo>
                <a:lnTo>
                  <a:pt x="31" y="23"/>
                </a:lnTo>
                <a:lnTo>
                  <a:pt x="0" y="15"/>
                </a:lnTo>
                <a:lnTo>
                  <a:pt x="8" y="15"/>
                </a:lnTo>
                <a:lnTo>
                  <a:pt x="0" y="0"/>
                </a:lnTo>
                <a:lnTo>
                  <a:pt x="0" y="0"/>
                </a:lnTo>
                <a:lnTo>
                  <a:pt x="31" y="8"/>
                </a:lnTo>
                <a:lnTo>
                  <a:pt x="31" y="8"/>
                </a:lnTo>
                <a:lnTo>
                  <a:pt x="38" y="15"/>
                </a:lnTo>
                <a:lnTo>
                  <a:pt x="46" y="38"/>
                </a:lnTo>
                <a:lnTo>
                  <a:pt x="31" y="46"/>
                </a:lnTo>
                <a:close/>
              </a:path>
            </a:pathLst>
          </a:cu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35000" y="1978200"/>
            <a:ext cx="61920" cy="36360"/>
          </a:xfrm>
          <a:custGeom>
            <a:avLst/>
            <a:gdLst/>
            <a:ahLst/>
            <a:rect l="l" t="t" r="r" b="b"/>
            <a:pathLst>
              <a:path w="39" h="23">
                <a:moveTo>
                  <a:pt x="39" y="15"/>
                </a:moveTo>
                <a:lnTo>
                  <a:pt x="16" y="23"/>
                </a:lnTo>
                <a:lnTo>
                  <a:pt x="16" y="15"/>
                </a:lnTo>
                <a:lnTo>
                  <a:pt x="0" y="15"/>
                </a:lnTo>
                <a:lnTo>
                  <a:pt x="8" y="8"/>
                </a:lnTo>
                <a:lnTo>
                  <a:pt x="31" y="0"/>
                </a:lnTo>
                <a:lnTo>
                  <a:pt x="39" y="15"/>
                </a:lnTo>
                <a:close/>
              </a:path>
            </a:pathLst>
          </a:cu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24200" y="2050920"/>
            <a:ext cx="23760" cy="1296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24200" y="2001960"/>
            <a:ext cx="36360" cy="4896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0"/>
                </a:moveTo>
                <a:lnTo>
                  <a:pt x="7" y="0"/>
                </a:lnTo>
                <a:lnTo>
                  <a:pt x="0" y="31"/>
                </a:lnTo>
                <a:lnTo>
                  <a:pt x="15" y="31"/>
                </a:lnTo>
                <a:lnTo>
                  <a:pt x="23" y="0"/>
                </a:lnTo>
                <a:close/>
              </a:path>
            </a:pathLst>
          </a:cu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90600" y="2075040"/>
            <a:ext cx="2412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0"/>
                </a:moveTo>
                <a:lnTo>
                  <a:pt x="8" y="0"/>
                </a:lnTo>
                <a:lnTo>
                  <a:pt x="0" y="16"/>
                </a:lnTo>
                <a:lnTo>
                  <a:pt x="8" y="16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3560" y="2075040"/>
            <a:ext cx="47520" cy="36360"/>
          </a:xfrm>
          <a:custGeom>
            <a:avLst/>
            <a:gdLst/>
            <a:ahLst/>
            <a:rect l="l" t="t" r="r" b="b"/>
            <a:pathLst>
              <a:path w="30" h="23">
                <a:moveTo>
                  <a:pt x="7" y="0"/>
                </a:moveTo>
                <a:lnTo>
                  <a:pt x="0" y="16"/>
                </a:lnTo>
                <a:lnTo>
                  <a:pt x="15" y="23"/>
                </a:lnTo>
                <a:lnTo>
                  <a:pt x="23" y="23"/>
                </a:lnTo>
                <a:lnTo>
                  <a:pt x="30" y="8"/>
                </a:lnTo>
                <a:lnTo>
                  <a:pt x="23" y="8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03560" y="213516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16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03560" y="2100240"/>
            <a:ext cx="36360" cy="47520"/>
          </a:xfrm>
          <a:custGeom>
            <a:avLst/>
            <a:gdLst/>
            <a:ahLst/>
            <a:rect l="l" t="t" r="r" b="b"/>
            <a:pathLst>
              <a:path w="23" h="30">
                <a:moveTo>
                  <a:pt x="23" y="7"/>
                </a:moveTo>
                <a:lnTo>
                  <a:pt x="7" y="0"/>
                </a:lnTo>
                <a:lnTo>
                  <a:pt x="0" y="22"/>
                </a:lnTo>
                <a:lnTo>
                  <a:pt x="15" y="30"/>
                </a:lnTo>
                <a:lnTo>
                  <a:pt x="23" y="7"/>
                </a:lnTo>
                <a:close/>
              </a:path>
            </a:pathLst>
          </a:cu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17880" y="2050920"/>
            <a:ext cx="25200" cy="24120"/>
          </a:xfrm>
          <a:custGeom>
            <a:avLst/>
            <a:gdLst/>
            <a:ahLst/>
            <a:rect l="l" t="t" r="r" b="b"/>
            <a:pathLst>
              <a:path w="16" h="15">
                <a:moveTo>
                  <a:pt x="0" y="15"/>
                </a:moveTo>
                <a:lnTo>
                  <a:pt x="8" y="15"/>
                </a:lnTo>
                <a:lnTo>
                  <a:pt x="16" y="0"/>
                </a:lnTo>
                <a:lnTo>
                  <a:pt x="8" y="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70000" y="2038320"/>
            <a:ext cx="60480" cy="36720"/>
          </a:xfrm>
          <a:custGeom>
            <a:avLst/>
            <a:gdLst/>
            <a:ahLst/>
            <a:rect l="l" t="t" r="r" b="b"/>
            <a:pathLst>
              <a:path w="38" h="23">
                <a:moveTo>
                  <a:pt x="30" y="23"/>
                </a:moveTo>
                <a:lnTo>
                  <a:pt x="38" y="8"/>
                </a:lnTo>
                <a:lnTo>
                  <a:pt x="15" y="0"/>
                </a:lnTo>
                <a:lnTo>
                  <a:pt x="0" y="0"/>
                </a:lnTo>
                <a:lnTo>
                  <a:pt x="0" y="8"/>
                </a:lnTo>
                <a:lnTo>
                  <a:pt x="7" y="16"/>
                </a:lnTo>
                <a:lnTo>
                  <a:pt x="30" y="23"/>
                </a:lnTo>
                <a:close/>
              </a:path>
            </a:pathLst>
          </a:cu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20876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8"/>
                </a:moveTo>
                <a:lnTo>
                  <a:pt x="15" y="15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050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8"/>
                </a:moveTo>
                <a:lnTo>
                  <a:pt x="8" y="0"/>
                </a:lnTo>
                <a:lnTo>
                  <a:pt x="0" y="23"/>
                </a:lnTo>
                <a:lnTo>
                  <a:pt x="15" y="31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4240" y="1662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Siste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68280" y="1565280"/>
            <a:ext cx="6583320" cy="4599000"/>
          </a:xfrm>
          <a:custGeom>
            <a:avLst/>
            <a:gdLst/>
            <a:ahLst/>
            <a:rect l="l" t="t" r="r" b="b"/>
            <a:pathLst>
              <a:path w="4147" h="2897">
                <a:moveTo>
                  <a:pt x="145" y="16"/>
                </a:moveTo>
                <a:lnTo>
                  <a:pt x="91" y="23"/>
                </a:lnTo>
                <a:lnTo>
                  <a:pt x="99" y="23"/>
                </a:lnTo>
                <a:lnTo>
                  <a:pt x="99" y="23"/>
                </a:lnTo>
                <a:lnTo>
                  <a:pt x="53" y="54"/>
                </a:lnTo>
                <a:lnTo>
                  <a:pt x="53" y="54"/>
                </a:lnTo>
                <a:lnTo>
                  <a:pt x="53" y="54"/>
                </a:lnTo>
                <a:lnTo>
                  <a:pt x="23" y="92"/>
                </a:lnTo>
                <a:lnTo>
                  <a:pt x="23" y="84"/>
                </a:lnTo>
                <a:lnTo>
                  <a:pt x="23" y="84"/>
                </a:lnTo>
                <a:lnTo>
                  <a:pt x="15" y="145"/>
                </a:lnTo>
                <a:lnTo>
                  <a:pt x="15" y="145"/>
                </a:lnTo>
                <a:lnTo>
                  <a:pt x="15" y="145"/>
                </a:lnTo>
                <a:lnTo>
                  <a:pt x="15" y="1445"/>
                </a:lnTo>
                <a:lnTo>
                  <a:pt x="15" y="1445"/>
                </a:lnTo>
                <a:lnTo>
                  <a:pt x="15" y="1445"/>
                </a:lnTo>
                <a:lnTo>
                  <a:pt x="15" y="2752"/>
                </a:lnTo>
                <a:lnTo>
                  <a:pt x="15" y="2752"/>
                </a:lnTo>
                <a:lnTo>
                  <a:pt x="15" y="2752"/>
                </a:lnTo>
                <a:lnTo>
                  <a:pt x="23" y="2805"/>
                </a:lnTo>
                <a:lnTo>
                  <a:pt x="23" y="2805"/>
                </a:lnTo>
                <a:lnTo>
                  <a:pt x="23" y="2805"/>
                </a:lnTo>
                <a:lnTo>
                  <a:pt x="53" y="2851"/>
                </a:lnTo>
                <a:lnTo>
                  <a:pt x="53" y="2844"/>
                </a:lnTo>
                <a:lnTo>
                  <a:pt x="53" y="2844"/>
                </a:lnTo>
                <a:lnTo>
                  <a:pt x="99" y="2874"/>
                </a:lnTo>
                <a:lnTo>
                  <a:pt x="91" y="2874"/>
                </a:lnTo>
                <a:lnTo>
                  <a:pt x="91" y="2874"/>
                </a:lnTo>
                <a:lnTo>
                  <a:pt x="145" y="2882"/>
                </a:lnTo>
                <a:lnTo>
                  <a:pt x="145" y="2882"/>
                </a:lnTo>
                <a:lnTo>
                  <a:pt x="145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55" y="2874"/>
                </a:lnTo>
                <a:lnTo>
                  <a:pt x="4055" y="2874"/>
                </a:lnTo>
                <a:lnTo>
                  <a:pt x="4055" y="2874"/>
                </a:lnTo>
                <a:lnTo>
                  <a:pt x="4101" y="2844"/>
                </a:lnTo>
                <a:lnTo>
                  <a:pt x="4094" y="2851"/>
                </a:lnTo>
                <a:lnTo>
                  <a:pt x="4094" y="2851"/>
                </a:lnTo>
                <a:lnTo>
                  <a:pt x="4124" y="2805"/>
                </a:lnTo>
                <a:lnTo>
                  <a:pt x="4124" y="2805"/>
                </a:lnTo>
                <a:lnTo>
                  <a:pt x="4124" y="2805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5"/>
                </a:lnTo>
                <a:lnTo>
                  <a:pt x="4132" y="145"/>
                </a:lnTo>
                <a:lnTo>
                  <a:pt x="4132" y="145"/>
                </a:lnTo>
                <a:lnTo>
                  <a:pt x="4124" y="84"/>
                </a:lnTo>
                <a:lnTo>
                  <a:pt x="4124" y="92"/>
                </a:lnTo>
                <a:lnTo>
                  <a:pt x="4124" y="92"/>
                </a:lnTo>
                <a:lnTo>
                  <a:pt x="4094" y="54"/>
                </a:lnTo>
                <a:lnTo>
                  <a:pt x="4101" y="54"/>
                </a:lnTo>
                <a:lnTo>
                  <a:pt x="4101" y="54"/>
                </a:lnTo>
                <a:lnTo>
                  <a:pt x="4055" y="23"/>
                </a:lnTo>
                <a:lnTo>
                  <a:pt x="4055" y="23"/>
                </a:lnTo>
                <a:lnTo>
                  <a:pt x="4055" y="23"/>
                </a:lnTo>
                <a:lnTo>
                  <a:pt x="4002" y="16"/>
                </a:lnTo>
                <a:lnTo>
                  <a:pt x="4002" y="16"/>
                </a:lnTo>
                <a:lnTo>
                  <a:pt x="4002" y="16"/>
                </a:lnTo>
                <a:lnTo>
                  <a:pt x="2073" y="16"/>
                </a:lnTo>
                <a:lnTo>
                  <a:pt x="2073" y="16"/>
                </a:lnTo>
                <a:lnTo>
                  <a:pt x="2073" y="16"/>
                </a:lnTo>
                <a:lnTo>
                  <a:pt x="145" y="16"/>
                </a:lnTo>
                <a:lnTo>
                  <a:pt x="145" y="16"/>
                </a:lnTo>
                <a:lnTo>
                  <a:pt x="145" y="0"/>
                </a:lnTo>
                <a:lnTo>
                  <a:pt x="145" y="0"/>
                </a:lnTo>
                <a:lnTo>
                  <a:pt x="2073" y="0"/>
                </a:lnTo>
                <a:lnTo>
                  <a:pt x="2073" y="0"/>
                </a:lnTo>
                <a:lnTo>
                  <a:pt x="2073" y="0"/>
                </a:lnTo>
                <a:lnTo>
                  <a:pt x="4002" y="0"/>
                </a:lnTo>
                <a:lnTo>
                  <a:pt x="4002" y="0"/>
                </a:lnTo>
                <a:lnTo>
                  <a:pt x="4002" y="0"/>
                </a:lnTo>
                <a:lnTo>
                  <a:pt x="4055" y="8"/>
                </a:lnTo>
                <a:lnTo>
                  <a:pt x="4055" y="8"/>
                </a:lnTo>
                <a:lnTo>
                  <a:pt x="4063" y="8"/>
                </a:lnTo>
                <a:lnTo>
                  <a:pt x="4109" y="38"/>
                </a:lnTo>
                <a:lnTo>
                  <a:pt x="4109" y="38"/>
                </a:lnTo>
                <a:lnTo>
                  <a:pt x="4109" y="46"/>
                </a:lnTo>
                <a:lnTo>
                  <a:pt x="4139" y="84"/>
                </a:lnTo>
                <a:lnTo>
                  <a:pt x="4139" y="84"/>
                </a:lnTo>
                <a:lnTo>
                  <a:pt x="4139" y="84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2752"/>
                </a:lnTo>
                <a:lnTo>
                  <a:pt x="4147" y="2752"/>
                </a:lnTo>
                <a:lnTo>
                  <a:pt x="4147" y="2752"/>
                </a:lnTo>
                <a:lnTo>
                  <a:pt x="4139" y="2805"/>
                </a:lnTo>
                <a:lnTo>
                  <a:pt x="4139" y="2805"/>
                </a:lnTo>
                <a:lnTo>
                  <a:pt x="4139" y="2813"/>
                </a:lnTo>
                <a:lnTo>
                  <a:pt x="4109" y="2859"/>
                </a:lnTo>
                <a:lnTo>
                  <a:pt x="4109" y="2859"/>
                </a:lnTo>
                <a:lnTo>
                  <a:pt x="4109" y="2859"/>
                </a:lnTo>
                <a:lnTo>
                  <a:pt x="4063" y="2889"/>
                </a:lnTo>
                <a:lnTo>
                  <a:pt x="4063" y="2889"/>
                </a:lnTo>
                <a:lnTo>
                  <a:pt x="4055" y="2889"/>
                </a:lnTo>
                <a:lnTo>
                  <a:pt x="4002" y="2897"/>
                </a:lnTo>
                <a:lnTo>
                  <a:pt x="4002" y="2897"/>
                </a:lnTo>
                <a:lnTo>
                  <a:pt x="4002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145" y="2897"/>
                </a:lnTo>
                <a:lnTo>
                  <a:pt x="145" y="2897"/>
                </a:lnTo>
                <a:lnTo>
                  <a:pt x="145" y="2897"/>
                </a:lnTo>
                <a:lnTo>
                  <a:pt x="91" y="2889"/>
                </a:lnTo>
                <a:lnTo>
                  <a:pt x="91" y="2889"/>
                </a:lnTo>
                <a:lnTo>
                  <a:pt x="91" y="2889"/>
                </a:lnTo>
                <a:lnTo>
                  <a:pt x="46" y="2859"/>
                </a:lnTo>
                <a:lnTo>
                  <a:pt x="46" y="2859"/>
                </a:lnTo>
                <a:lnTo>
                  <a:pt x="38" y="2859"/>
                </a:lnTo>
                <a:lnTo>
                  <a:pt x="7" y="2813"/>
                </a:lnTo>
                <a:lnTo>
                  <a:pt x="7" y="2813"/>
                </a:lnTo>
                <a:lnTo>
                  <a:pt x="7" y="2805"/>
                </a:lnTo>
                <a:lnTo>
                  <a:pt x="0" y="2752"/>
                </a:lnTo>
                <a:lnTo>
                  <a:pt x="0" y="2752"/>
                </a:lnTo>
                <a:lnTo>
                  <a:pt x="0" y="2752"/>
                </a:lnTo>
                <a:lnTo>
                  <a:pt x="0" y="1445"/>
                </a:lnTo>
                <a:lnTo>
                  <a:pt x="0" y="1445"/>
                </a:lnTo>
                <a:lnTo>
                  <a:pt x="0" y="1445"/>
                </a:lnTo>
                <a:lnTo>
                  <a:pt x="0" y="145"/>
                </a:lnTo>
                <a:lnTo>
                  <a:pt x="0" y="145"/>
                </a:lnTo>
                <a:lnTo>
                  <a:pt x="0" y="145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46"/>
                </a:lnTo>
                <a:lnTo>
                  <a:pt x="38" y="46"/>
                </a:lnTo>
                <a:lnTo>
                  <a:pt x="46" y="3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145" y="0"/>
                </a:lnTo>
                <a:lnTo>
                  <a:pt x="145" y="16"/>
                </a:lnTo>
                <a:close/>
              </a:path>
            </a:pathLst>
          </a:cu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98680" y="1565280"/>
            <a:ext cx="1440" cy="2556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16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te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547640" y="1905120"/>
            <a:ext cx="72010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3356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rica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evaluar el rendimiento de un circuito digital (compuertas, bloques, …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locidad (tiempo de propagación, frecuencia de operaci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ipación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ergía para ejecuta un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Diseños son Cada Vez más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69116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señ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la fuente de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835280" y="3789360"/>
            <a:ext cx="2361960" cy="22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3" name=""/>
          <p:cNvGraphicFramePr/>
          <p:nvPr/>
        </p:nvGraphicFramePr>
        <p:xfrm>
          <a:off x="4884840" y="3670200"/>
          <a:ext cx="386856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4840" y="3670200"/>
                    <a:ext cx="38685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6001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4472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07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35840" y="5524560"/>
            <a:ext cx="5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876920" y="1319040"/>
            <a:ext cx="3870360" cy="2319480"/>
            <a:chOff x="4876920" y="1319040"/>
            <a:chExt cx="3870360" cy="2319480"/>
          </a:xfrm>
        </p:grpSpPr>
        <p:graphicFrame>
          <p:nvGraphicFramePr>
            <p:cNvPr id="420" name=""/>
            <p:cNvGraphicFramePr/>
            <p:nvPr/>
          </p:nvGraphicFramePr>
          <p:xfrm>
            <a:off x="4876920" y="1319040"/>
            <a:ext cx="3870360" cy="23194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319040"/>
                      <a:ext cx="3870360" cy="231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6299280" y="32302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0840" y="3228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560" y="32439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6400" y="32320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024520" y="59896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, 2001, 2002 SynopsysCustomer Surve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afío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os líderes &gt; 10 millones de pu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estabilidad ya no es más op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otencia es uno de los problemas mayores en S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stricciones de síntesis son uniones claves entre RTL y GDS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de los diseños tiene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atapat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p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irámide Inver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0800000">
            <a:off x="2411280" y="2349360"/>
            <a:ext cx="432144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59280" y="3429000"/>
            <a:ext cx="30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08360" y="44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48040" y="2779560"/>
            <a:ext cx="29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s Electrónicos &gt; 1 Trill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4320" y="37162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miconductores &gt; 22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8640" y="47973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D 3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la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36147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258920" y="573408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11880" y="5587920"/>
            <a:ext cx="21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j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58920" y="6078600"/>
            <a:ext cx="57636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14760" y="59324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I pro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olución de la Industria 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971640" y="1895400"/>
            <a:ext cx="6985080" cy="427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7236000" y="5877000"/>
            <a:ext cx="288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47:38Z</dcterms:modified>
  <cp:revision>89</cp:revision>
  <dc:subject/>
  <dc:title>EL 6XX</dc:title>
</cp:coreProperties>
</file>