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4866-BAE4-4272-A5DC-9EBAE72E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E5C9-5225-4AEC-BCB1-233F8D8C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95F0-2EB3-4AAC-9B45-C94D1B06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4063-18DA-417D-BB01-C9B0374A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51F0-6222-422B-813E-5EC91E1D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B9ED-CD4C-4CC5-9563-D203196F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D701-3E1A-4CFC-BD24-A8B5303B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CFC4-F561-4B24-B50E-6E1323A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114-65EF-45F4-86A6-E4C782CC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67D5-253C-4D2C-A62F-0726E40F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3AA5-A1C5-4315-BD54-AA536E5F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C14A-17CF-4401-97C3-C4B583FC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7EA7-F41D-48A3-9DDD-33C0C1B3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1C97-F3E5-49EF-BE3D-E8D29CD6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2438-A18D-4F3C-8446-F4D5079F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3801-F926-4C69-9C39-9D7D46F3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69CC-41C6-46FF-899C-C23B179F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1AC3-8129-43A6-BFD7-B20C37B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4C96-DF91-48A9-BA2F-765A9665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330F-9655-4FA9-B869-9EBBB1BE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40FE-9AE4-48F9-B9F9-6864A2D5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C366-5900-452F-BA80-69E84D6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CB5F-8E15-42D9-8ED7-996649D1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FBC9-9DA6-407E-B351-36FCAE89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EE2B-3BD8-4907-9D30-B5F4F2B3D67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CE4E-A548-42D1-A3E5-D9629EEF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0B2B-CDCF-4E0F-9822-C0C0BF0B033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7953-9E40-4C89-8E79-E695A66EF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3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8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8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8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9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6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15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6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15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5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6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6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6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5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para Análisi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5790" t="31846" r="5790" b="16887"/>
          <a:stretch/>
        </p:blipFill>
        <p:spPr>
          <a:xfrm>
            <a:off x="1219320" y="193212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Unifica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2666880"/>
            <a:ext cx="2438640" cy="2286000"/>
          </a:xfrm>
          <a:prstGeom prst="rect">
            <a:avLst/>
          </a:prstGeom>
          <a:solidFill>
            <a:srgbClr val="c3c5c5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2560" y="3429000"/>
            <a:ext cx="36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32320" y="3429000"/>
            <a:ext cx="36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60920" y="342900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7560" y="3441600"/>
            <a:ext cx="360" cy="1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33840" y="3441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04560" y="2666880"/>
            <a:ext cx="2275200" cy="2197080"/>
            <a:chOff x="304560" y="2666880"/>
            <a:chExt cx="2275200" cy="2197080"/>
          </a:xfrm>
        </p:grpSpPr>
        <p:grpSp>
          <p:nvGrpSpPr>
            <p:cNvPr id="586" name=""/>
            <p:cNvGrpSpPr/>
            <p:nvPr/>
          </p:nvGrpSpPr>
          <p:grpSpPr>
            <a:xfrm>
              <a:off x="777600" y="3504960"/>
              <a:ext cx="1218600" cy="457200"/>
              <a:chOff x="777600" y="3504960"/>
              <a:chExt cx="12186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1158120" y="350496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234440" y="3733560"/>
                <a:ext cx="304560" cy="0"/>
              </a:xfrm>
              <a:prstGeom prst="line">
                <a:avLst/>
              </a:prstGeom>
              <a:ln w="12600">
                <a:solidFill>
                  <a:srgbClr val="00008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15320" y="3733560"/>
                <a:ext cx="38088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600" y="3733560"/>
                <a:ext cx="38052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996920" y="3686040"/>
              <a:ext cx="75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1000" y="3695760"/>
              <a:ext cx="7560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386360" y="3047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38636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560" y="3552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31280" y="3581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0560" y="26668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07880" y="4495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6"/>
          <a:srcRect l="4426" t="32031" r="4506" b="12500"/>
          <a:stretch/>
        </p:blipFill>
        <p:spPr>
          <a:xfrm>
            <a:off x="3048120" y="2362320"/>
            <a:ext cx="60958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Transistor como u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62120" y="2004840"/>
            <a:ext cx="3429000" cy="1551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1928880"/>
            <a:ext cx="3962520" cy="167616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4243320" y="2462040"/>
            <a:ext cx="486576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</p:pic>
      <p:pic>
        <p:nvPicPr>
          <p:cNvPr id="604" name="" descr=""/>
          <p:cNvPicPr/>
          <p:nvPr/>
        </p:nvPicPr>
        <p:blipFill>
          <a:blip r:embed="rId3"/>
          <a:srcRect l="22134" t="40707" r="19606" b="50703"/>
          <a:stretch/>
        </p:blipFill>
        <p:spPr>
          <a:xfrm>
            <a:off x="3622680" y="5510160"/>
            <a:ext cx="54864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istor MOS(F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6680" y="4746600"/>
            <a:ext cx="8827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6680" y="4735440"/>
            <a:ext cx="893880" cy="2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9680" y="4746600"/>
            <a:ext cx="208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6960" y="5751360"/>
            <a:ext cx="892440" cy="2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6960" y="4735440"/>
            <a:ext cx="20880" cy="102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4520" y="4705200"/>
            <a:ext cx="1057320" cy="29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4520" y="5002200"/>
            <a:ext cx="1057320" cy="441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66680" y="512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66320" y="47354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7800" y="5516640"/>
            <a:ext cx="20520" cy="9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5597640"/>
            <a:ext cx="20520" cy="11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5526000"/>
            <a:ext cx="2052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7800" y="4530600"/>
            <a:ext cx="20520" cy="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7800" y="4611600"/>
            <a:ext cx="20520" cy="11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540320"/>
            <a:ext cx="2052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560" y="5054760"/>
            <a:ext cx="574920" cy="358560"/>
          </a:xfrm>
          <a:custGeom>
            <a:avLst/>
            <a:gdLst/>
            <a:ahLst/>
            <a:rect l="l" t="t" r="r" b="b"/>
            <a:pathLst>
              <a:path w="362" h="226">
                <a:moveTo>
                  <a:pt x="362" y="0"/>
                </a:moveTo>
                <a:lnTo>
                  <a:pt x="0" y="0"/>
                </a:lnTo>
                <a:lnTo>
                  <a:pt x="181" y="226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49880" y="5043600"/>
            <a:ext cx="606600" cy="39024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13"/>
                </a:moveTo>
                <a:lnTo>
                  <a:pt x="20" y="13"/>
                </a:lnTo>
                <a:lnTo>
                  <a:pt x="13" y="13"/>
                </a:lnTo>
                <a:lnTo>
                  <a:pt x="26" y="7"/>
                </a:lnTo>
                <a:lnTo>
                  <a:pt x="207" y="233"/>
                </a:lnTo>
                <a:lnTo>
                  <a:pt x="207" y="239"/>
                </a:lnTo>
                <a:lnTo>
                  <a:pt x="201" y="246"/>
                </a:lnTo>
                <a:lnTo>
                  <a:pt x="194" y="239"/>
                </a:lnTo>
                <a:lnTo>
                  <a:pt x="13" y="13"/>
                </a:lnTo>
                <a:lnTo>
                  <a:pt x="0" y="0"/>
                </a:lnTo>
                <a:lnTo>
                  <a:pt x="20" y="0"/>
                </a:lnTo>
                <a:lnTo>
                  <a:pt x="382" y="0"/>
                </a:lnTo>
                <a:lnTo>
                  <a:pt x="382" y="13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8040" y="5043600"/>
            <a:ext cx="328680" cy="379440"/>
          </a:xfrm>
          <a:custGeom>
            <a:avLst/>
            <a:gdLst/>
            <a:ahLst/>
            <a:rect l="l" t="t" r="r" b="b"/>
            <a:pathLst>
              <a:path w="207" h="239">
                <a:moveTo>
                  <a:pt x="0" y="233"/>
                </a:moveTo>
                <a:lnTo>
                  <a:pt x="181" y="7"/>
                </a:lnTo>
                <a:lnTo>
                  <a:pt x="188" y="0"/>
                </a:lnTo>
                <a:lnTo>
                  <a:pt x="207" y="0"/>
                </a:lnTo>
                <a:lnTo>
                  <a:pt x="194" y="13"/>
                </a:lnTo>
                <a:lnTo>
                  <a:pt x="13" y="239"/>
                </a:lnTo>
                <a:lnTo>
                  <a:pt x="0" y="233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4320" y="5413320"/>
            <a:ext cx="9360" cy="20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3720" y="5413320"/>
            <a:ext cx="9720" cy="20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83440" y="5413320"/>
            <a:ext cx="38088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5413320"/>
            <a:ext cx="20520" cy="9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5535720"/>
            <a:ext cx="20520" cy="11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040" y="5423040"/>
            <a:ext cx="20520" cy="112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040" y="4919760"/>
            <a:ext cx="20520" cy="111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8040" y="5054760"/>
            <a:ext cx="20520" cy="9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8040" y="4930920"/>
            <a:ext cx="2052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3452760"/>
            <a:ext cx="11160" cy="20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3452760"/>
            <a:ext cx="11160" cy="20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3452760"/>
            <a:ext cx="3724200" cy="20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38640" y="2620800"/>
            <a:ext cx="1866960" cy="317520"/>
          </a:xfrm>
          <a:custGeom>
            <a:avLst/>
            <a:gdLst/>
            <a:ahLst/>
            <a:rect l="l" t="t" r="r" b="b"/>
            <a:pathLst>
              <a:path w="1176" h="200">
                <a:moveTo>
                  <a:pt x="0" y="0"/>
                </a:moveTo>
                <a:lnTo>
                  <a:pt x="13" y="116"/>
                </a:lnTo>
                <a:lnTo>
                  <a:pt x="32" y="149"/>
                </a:lnTo>
                <a:lnTo>
                  <a:pt x="77" y="174"/>
                </a:lnTo>
                <a:lnTo>
                  <a:pt x="246" y="194"/>
                </a:lnTo>
                <a:lnTo>
                  <a:pt x="588" y="200"/>
                </a:lnTo>
                <a:lnTo>
                  <a:pt x="924" y="194"/>
                </a:lnTo>
                <a:lnTo>
                  <a:pt x="1099" y="174"/>
                </a:lnTo>
                <a:lnTo>
                  <a:pt x="1144" y="149"/>
                </a:lnTo>
                <a:lnTo>
                  <a:pt x="1164" y="116"/>
                </a:lnTo>
                <a:lnTo>
                  <a:pt x="117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7480" y="2610000"/>
            <a:ext cx="20520" cy="10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7480" y="2620800"/>
            <a:ext cx="1838520" cy="328680"/>
          </a:xfrm>
          <a:custGeom>
            <a:avLst/>
            <a:gdLst/>
            <a:ahLst/>
            <a:rect l="l" t="t" r="r" b="b"/>
            <a:pathLst>
              <a:path w="1158" h="207">
                <a:moveTo>
                  <a:pt x="13" y="0"/>
                </a:moveTo>
                <a:lnTo>
                  <a:pt x="26" y="116"/>
                </a:lnTo>
                <a:lnTo>
                  <a:pt x="26" y="116"/>
                </a:lnTo>
                <a:lnTo>
                  <a:pt x="26" y="116"/>
                </a:lnTo>
                <a:lnTo>
                  <a:pt x="46" y="149"/>
                </a:lnTo>
                <a:lnTo>
                  <a:pt x="46" y="142"/>
                </a:lnTo>
                <a:lnTo>
                  <a:pt x="46" y="142"/>
                </a:lnTo>
                <a:lnTo>
                  <a:pt x="91" y="168"/>
                </a:lnTo>
                <a:lnTo>
                  <a:pt x="84" y="168"/>
                </a:lnTo>
                <a:lnTo>
                  <a:pt x="84" y="168"/>
                </a:lnTo>
                <a:lnTo>
                  <a:pt x="253" y="187"/>
                </a:lnTo>
                <a:lnTo>
                  <a:pt x="253" y="187"/>
                </a:lnTo>
                <a:lnTo>
                  <a:pt x="253" y="187"/>
                </a:lnTo>
                <a:lnTo>
                  <a:pt x="595" y="194"/>
                </a:lnTo>
                <a:lnTo>
                  <a:pt x="595" y="194"/>
                </a:lnTo>
                <a:lnTo>
                  <a:pt x="595" y="194"/>
                </a:lnTo>
                <a:lnTo>
                  <a:pt x="931" y="187"/>
                </a:lnTo>
                <a:lnTo>
                  <a:pt x="931" y="187"/>
                </a:lnTo>
                <a:lnTo>
                  <a:pt x="931" y="187"/>
                </a:lnTo>
                <a:lnTo>
                  <a:pt x="1106" y="168"/>
                </a:lnTo>
                <a:lnTo>
                  <a:pt x="1106" y="168"/>
                </a:lnTo>
                <a:lnTo>
                  <a:pt x="1106" y="168"/>
                </a:lnTo>
                <a:lnTo>
                  <a:pt x="1151" y="142"/>
                </a:lnTo>
                <a:lnTo>
                  <a:pt x="1145" y="149"/>
                </a:lnTo>
                <a:lnTo>
                  <a:pt x="1158" y="155"/>
                </a:lnTo>
                <a:lnTo>
                  <a:pt x="1158" y="155"/>
                </a:lnTo>
                <a:lnTo>
                  <a:pt x="1112" y="181"/>
                </a:lnTo>
                <a:lnTo>
                  <a:pt x="1112" y="181"/>
                </a:lnTo>
                <a:lnTo>
                  <a:pt x="1106" y="181"/>
                </a:lnTo>
                <a:lnTo>
                  <a:pt x="931" y="200"/>
                </a:lnTo>
                <a:lnTo>
                  <a:pt x="931" y="200"/>
                </a:lnTo>
                <a:lnTo>
                  <a:pt x="931" y="200"/>
                </a:lnTo>
                <a:lnTo>
                  <a:pt x="595" y="207"/>
                </a:lnTo>
                <a:lnTo>
                  <a:pt x="595" y="207"/>
                </a:lnTo>
                <a:lnTo>
                  <a:pt x="595" y="207"/>
                </a:lnTo>
                <a:lnTo>
                  <a:pt x="253" y="200"/>
                </a:lnTo>
                <a:lnTo>
                  <a:pt x="253" y="200"/>
                </a:lnTo>
                <a:lnTo>
                  <a:pt x="253" y="200"/>
                </a:lnTo>
                <a:lnTo>
                  <a:pt x="84" y="181"/>
                </a:lnTo>
                <a:lnTo>
                  <a:pt x="84" y="181"/>
                </a:lnTo>
                <a:lnTo>
                  <a:pt x="84" y="181"/>
                </a:lnTo>
                <a:lnTo>
                  <a:pt x="39" y="155"/>
                </a:lnTo>
                <a:lnTo>
                  <a:pt x="39" y="155"/>
                </a:lnTo>
                <a:lnTo>
                  <a:pt x="33" y="155"/>
                </a:lnTo>
                <a:lnTo>
                  <a:pt x="13" y="123"/>
                </a:lnTo>
                <a:lnTo>
                  <a:pt x="13" y="123"/>
                </a:lnTo>
                <a:lnTo>
                  <a:pt x="13" y="116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45120" y="280512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3"/>
                </a:moveTo>
                <a:lnTo>
                  <a:pt x="19" y="0"/>
                </a:lnTo>
                <a:lnTo>
                  <a:pt x="19" y="0"/>
                </a:lnTo>
                <a:lnTo>
                  <a:pt x="32" y="0"/>
                </a:lnTo>
                <a:lnTo>
                  <a:pt x="32" y="7"/>
                </a:lnTo>
                <a:lnTo>
                  <a:pt x="13" y="39"/>
                </a:lnTo>
                <a:lnTo>
                  <a:pt x="0" y="33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610000"/>
            <a:ext cx="20880" cy="10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5360" y="2620800"/>
            <a:ext cx="41400" cy="184320"/>
          </a:xfrm>
          <a:custGeom>
            <a:avLst/>
            <a:gdLst/>
            <a:ahLst/>
            <a:rect l="l" t="t" r="r" b="b"/>
            <a:pathLst>
              <a:path w="26" h="116">
                <a:moveTo>
                  <a:pt x="0" y="116"/>
                </a:moveTo>
                <a:lnTo>
                  <a:pt x="13" y="116"/>
                </a:lnTo>
                <a:lnTo>
                  <a:pt x="26" y="0"/>
                </a:lnTo>
                <a:lnTo>
                  <a:pt x="13" y="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8040" y="2610000"/>
            <a:ext cx="11160" cy="20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3400" y="2610000"/>
            <a:ext cx="1116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89200" y="2610000"/>
            <a:ext cx="3724200" cy="205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9520" y="2630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67480" y="24051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7" y="6"/>
                </a:lnTo>
                <a:lnTo>
                  <a:pt x="0" y="0"/>
                </a:lnTo>
                <a:lnTo>
                  <a:pt x="0" y="0"/>
                </a:lnTo>
                <a:lnTo>
                  <a:pt x="7" y="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9680" y="2405160"/>
            <a:ext cx="32832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201" y="6"/>
                </a:moveTo>
                <a:lnTo>
                  <a:pt x="7" y="272"/>
                </a:lnTo>
                <a:lnTo>
                  <a:pt x="0" y="272"/>
                </a:lnTo>
                <a:lnTo>
                  <a:pt x="7" y="265"/>
                </a:lnTo>
                <a:lnTo>
                  <a:pt x="201" y="401"/>
                </a:lnTo>
                <a:lnTo>
                  <a:pt x="207" y="401"/>
                </a:lnTo>
                <a:lnTo>
                  <a:pt x="201" y="407"/>
                </a:lnTo>
                <a:lnTo>
                  <a:pt x="194" y="407"/>
                </a:lnTo>
                <a:lnTo>
                  <a:pt x="0" y="272"/>
                </a:lnTo>
                <a:lnTo>
                  <a:pt x="0" y="272"/>
                </a:lnTo>
                <a:lnTo>
                  <a:pt x="0" y="265"/>
                </a:lnTo>
                <a:lnTo>
                  <a:pt x="194" y="0"/>
                </a:lnTo>
                <a:lnTo>
                  <a:pt x="201" y="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207" y="6"/>
                </a:moveTo>
                <a:lnTo>
                  <a:pt x="13" y="142"/>
                </a:lnTo>
                <a:lnTo>
                  <a:pt x="6" y="142"/>
                </a:lnTo>
                <a:lnTo>
                  <a:pt x="0" y="136"/>
                </a:lnTo>
                <a:lnTo>
                  <a:pt x="6" y="136"/>
                </a:lnTo>
                <a:lnTo>
                  <a:pt x="200" y="0"/>
                </a:lnTo>
                <a:lnTo>
                  <a:pt x="207" y="6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3400" y="346248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257640"/>
            <a:ext cx="164880" cy="215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7" y="0"/>
                </a:moveTo>
                <a:lnTo>
                  <a:pt x="0" y="6"/>
                </a:lnTo>
                <a:lnTo>
                  <a:pt x="97" y="136"/>
                </a:lnTo>
                <a:lnTo>
                  <a:pt x="104" y="129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22680" y="2405160"/>
            <a:ext cx="1549440" cy="215640"/>
          </a:xfrm>
          <a:custGeom>
            <a:avLst/>
            <a:gdLst/>
            <a:ahLst/>
            <a:rect l="l" t="t" r="r" b="b"/>
            <a:pathLst>
              <a:path w="976" h="136">
                <a:moveTo>
                  <a:pt x="0" y="136"/>
                </a:moveTo>
                <a:lnTo>
                  <a:pt x="78" y="0"/>
                </a:lnTo>
                <a:lnTo>
                  <a:pt x="892" y="0"/>
                </a:lnTo>
                <a:lnTo>
                  <a:pt x="976" y="136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13320" y="262080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0" y="6"/>
                </a:lnTo>
                <a:lnTo>
                  <a:pt x="12" y="13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13320" y="2394000"/>
            <a:ext cx="142560" cy="236520"/>
          </a:xfrm>
          <a:custGeom>
            <a:avLst/>
            <a:gdLst/>
            <a:ahLst/>
            <a:rect l="l" t="t" r="r" b="b"/>
            <a:pathLst>
              <a:path w="90" h="149">
                <a:moveTo>
                  <a:pt x="0" y="143"/>
                </a:moveTo>
                <a:lnTo>
                  <a:pt x="77" y="7"/>
                </a:lnTo>
                <a:lnTo>
                  <a:pt x="84" y="0"/>
                </a:lnTo>
                <a:lnTo>
                  <a:pt x="84" y="0"/>
                </a:lnTo>
                <a:lnTo>
                  <a:pt x="90" y="13"/>
                </a:lnTo>
                <a:lnTo>
                  <a:pt x="12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2394000"/>
            <a:ext cx="1303200" cy="20520"/>
          </a:xfrm>
          <a:custGeom>
            <a:avLst/>
            <a:gdLst/>
            <a:ahLst/>
            <a:rect l="l" t="t" r="r" b="b"/>
            <a:pathLst>
              <a:path w="821" h="13">
                <a:moveTo>
                  <a:pt x="0" y="0"/>
                </a:moveTo>
                <a:lnTo>
                  <a:pt x="814" y="0"/>
                </a:lnTo>
                <a:lnTo>
                  <a:pt x="814" y="0"/>
                </a:lnTo>
                <a:lnTo>
                  <a:pt x="821" y="7"/>
                </a:lnTo>
                <a:lnTo>
                  <a:pt x="81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2400" y="262080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6"/>
                </a:lnTo>
                <a:lnTo>
                  <a:pt x="0" y="13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405160"/>
            <a:ext cx="154080" cy="225360"/>
          </a:xfrm>
          <a:custGeom>
            <a:avLst/>
            <a:gdLst/>
            <a:ahLst/>
            <a:rect l="l" t="t" r="r" b="b"/>
            <a:pathLst>
              <a:path w="97" h="142">
                <a:moveTo>
                  <a:pt x="13" y="0"/>
                </a:moveTo>
                <a:lnTo>
                  <a:pt x="0" y="6"/>
                </a:lnTo>
                <a:lnTo>
                  <a:pt x="84" y="142"/>
                </a:lnTo>
                <a:lnTo>
                  <a:pt x="97" y="13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5120" y="24051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960" y="2405160"/>
            <a:ext cx="32868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13" y="0"/>
                </a:moveTo>
                <a:lnTo>
                  <a:pt x="207" y="265"/>
                </a:lnTo>
                <a:lnTo>
                  <a:pt x="207" y="272"/>
                </a:lnTo>
                <a:lnTo>
                  <a:pt x="207" y="272"/>
                </a:lnTo>
                <a:lnTo>
                  <a:pt x="13" y="407"/>
                </a:lnTo>
                <a:lnTo>
                  <a:pt x="7" y="407"/>
                </a:lnTo>
                <a:lnTo>
                  <a:pt x="0" y="401"/>
                </a:lnTo>
                <a:lnTo>
                  <a:pt x="7" y="401"/>
                </a:lnTo>
                <a:lnTo>
                  <a:pt x="201" y="265"/>
                </a:lnTo>
                <a:lnTo>
                  <a:pt x="207" y="272"/>
                </a:lnTo>
                <a:lnTo>
                  <a:pt x="201" y="272"/>
                </a:lnTo>
                <a:lnTo>
                  <a:pt x="7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512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6" y="0"/>
                </a:moveTo>
                <a:lnTo>
                  <a:pt x="200" y="136"/>
                </a:lnTo>
                <a:lnTo>
                  <a:pt x="207" y="136"/>
                </a:lnTo>
                <a:lnTo>
                  <a:pt x="200" y="142"/>
                </a:lnTo>
                <a:lnTo>
                  <a:pt x="194" y="14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200" y="346248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lnTo>
                  <a:pt x="6" y="7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89200" y="3257640"/>
            <a:ext cx="163440" cy="21564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103" y="6"/>
                </a:moveTo>
                <a:lnTo>
                  <a:pt x="97" y="0"/>
                </a:lnTo>
                <a:lnTo>
                  <a:pt x="0" y="129"/>
                </a:lnTo>
                <a:lnTo>
                  <a:pt x="6" y="136"/>
                </a:lnTo>
                <a:lnTo>
                  <a:pt x="103" y="6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5120" y="2405160"/>
            <a:ext cx="779760" cy="215640"/>
          </a:xfrm>
          <a:custGeom>
            <a:avLst/>
            <a:gdLst/>
            <a:ahLst/>
            <a:rect l="l" t="t" r="r" b="b"/>
            <a:pathLst>
              <a:path w="491" h="136">
                <a:moveTo>
                  <a:pt x="491" y="136"/>
                </a:moveTo>
                <a:lnTo>
                  <a:pt x="388" y="0"/>
                </a:lnTo>
                <a:lnTo>
                  <a:pt x="0" y="0"/>
                </a:lnTo>
                <a:lnTo>
                  <a:pt x="97" y="136"/>
                </a:lnTo>
                <a:lnTo>
                  <a:pt x="491" y="136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394000"/>
            <a:ext cx="811080" cy="236520"/>
          </a:xfrm>
          <a:custGeom>
            <a:avLst/>
            <a:gdLst/>
            <a:ahLst/>
            <a:rect l="l" t="t" r="r" b="b"/>
            <a:pathLst>
              <a:path w="511" h="149">
                <a:moveTo>
                  <a:pt x="498" y="149"/>
                </a:moveTo>
                <a:lnTo>
                  <a:pt x="394" y="13"/>
                </a:lnTo>
                <a:lnTo>
                  <a:pt x="401" y="0"/>
                </a:lnTo>
                <a:lnTo>
                  <a:pt x="401" y="13"/>
                </a:lnTo>
                <a:lnTo>
                  <a:pt x="13" y="13"/>
                </a:lnTo>
                <a:lnTo>
                  <a:pt x="6" y="13"/>
                </a:lnTo>
                <a:lnTo>
                  <a:pt x="19" y="7"/>
                </a:lnTo>
                <a:lnTo>
                  <a:pt x="116" y="143"/>
                </a:lnTo>
                <a:lnTo>
                  <a:pt x="110" y="149"/>
                </a:lnTo>
                <a:lnTo>
                  <a:pt x="103" y="149"/>
                </a:lnTo>
                <a:lnTo>
                  <a:pt x="103" y="149"/>
                </a:lnTo>
                <a:lnTo>
                  <a:pt x="6" y="13"/>
                </a:lnTo>
                <a:lnTo>
                  <a:pt x="0" y="0"/>
                </a:lnTo>
                <a:lnTo>
                  <a:pt x="13" y="0"/>
                </a:lnTo>
                <a:lnTo>
                  <a:pt x="401" y="0"/>
                </a:lnTo>
                <a:lnTo>
                  <a:pt x="401" y="0"/>
                </a:lnTo>
                <a:lnTo>
                  <a:pt x="407" y="7"/>
                </a:lnTo>
                <a:lnTo>
                  <a:pt x="511" y="143"/>
                </a:lnTo>
                <a:lnTo>
                  <a:pt x="498" y="149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9200" y="2610000"/>
            <a:ext cx="646200" cy="20520"/>
          </a:xfrm>
          <a:custGeom>
            <a:avLst/>
            <a:gdLst/>
            <a:ahLst/>
            <a:rect l="l" t="t" r="r" b="b"/>
            <a:pathLst>
              <a:path w="407" h="13">
                <a:moveTo>
                  <a:pt x="0" y="0"/>
                </a:moveTo>
                <a:lnTo>
                  <a:pt x="394" y="0"/>
                </a:lnTo>
                <a:lnTo>
                  <a:pt x="401" y="7"/>
                </a:lnTo>
                <a:lnTo>
                  <a:pt x="407" y="13"/>
                </a:lnTo>
                <a:lnTo>
                  <a:pt x="39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9920" y="2405160"/>
            <a:ext cx="1087560" cy="215640"/>
          </a:xfrm>
          <a:custGeom>
            <a:avLst/>
            <a:gdLst/>
            <a:ahLst/>
            <a:rect l="l" t="t" r="r" b="b"/>
            <a:pathLst>
              <a:path w="685" h="136">
                <a:moveTo>
                  <a:pt x="685" y="0"/>
                </a:moveTo>
                <a:lnTo>
                  <a:pt x="97" y="0"/>
                </a:lnTo>
                <a:lnTo>
                  <a:pt x="0" y="136"/>
                </a:lnTo>
                <a:lnTo>
                  <a:pt x="588" y="136"/>
                </a:lnTo>
                <a:lnTo>
                  <a:pt x="685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2394000"/>
            <a:ext cx="1108080" cy="236520"/>
          </a:xfrm>
          <a:custGeom>
            <a:avLst/>
            <a:gdLst/>
            <a:ahLst/>
            <a:rect l="l" t="t" r="r" b="b"/>
            <a:pathLst>
              <a:path w="698" h="149">
                <a:moveTo>
                  <a:pt x="698" y="13"/>
                </a:moveTo>
                <a:lnTo>
                  <a:pt x="110" y="13"/>
                </a:lnTo>
                <a:lnTo>
                  <a:pt x="104" y="7"/>
                </a:lnTo>
                <a:lnTo>
                  <a:pt x="117" y="13"/>
                </a:lnTo>
                <a:lnTo>
                  <a:pt x="20" y="149"/>
                </a:lnTo>
                <a:lnTo>
                  <a:pt x="13" y="149"/>
                </a:lnTo>
                <a:lnTo>
                  <a:pt x="13" y="136"/>
                </a:lnTo>
                <a:lnTo>
                  <a:pt x="601" y="136"/>
                </a:lnTo>
                <a:lnTo>
                  <a:pt x="608" y="149"/>
                </a:lnTo>
                <a:lnTo>
                  <a:pt x="608" y="149"/>
                </a:lnTo>
                <a:lnTo>
                  <a:pt x="601" y="149"/>
                </a:lnTo>
                <a:lnTo>
                  <a:pt x="13" y="149"/>
                </a:lnTo>
                <a:lnTo>
                  <a:pt x="0" y="149"/>
                </a:lnTo>
                <a:lnTo>
                  <a:pt x="7" y="143"/>
                </a:lnTo>
                <a:lnTo>
                  <a:pt x="104" y="7"/>
                </a:lnTo>
                <a:lnTo>
                  <a:pt x="110" y="0"/>
                </a:lnTo>
                <a:lnTo>
                  <a:pt x="110" y="0"/>
                </a:lnTo>
                <a:lnTo>
                  <a:pt x="698" y="0"/>
                </a:lnTo>
                <a:lnTo>
                  <a:pt x="698" y="13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4040" y="2394000"/>
            <a:ext cx="183960" cy="236520"/>
          </a:xfrm>
          <a:custGeom>
            <a:avLst/>
            <a:gdLst/>
            <a:ahLst/>
            <a:rect l="l" t="t" r="r" b="b"/>
            <a:pathLst>
              <a:path w="116" h="149">
                <a:moveTo>
                  <a:pt x="0" y="143"/>
                </a:moveTo>
                <a:lnTo>
                  <a:pt x="97" y="7"/>
                </a:lnTo>
                <a:lnTo>
                  <a:pt x="103" y="0"/>
                </a:lnTo>
                <a:lnTo>
                  <a:pt x="116" y="0"/>
                </a:lnTo>
                <a:lnTo>
                  <a:pt x="110" y="13"/>
                </a:lnTo>
                <a:lnTo>
                  <a:pt x="13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63960" y="2200320"/>
            <a:ext cx="924120" cy="420480"/>
          </a:xfrm>
          <a:custGeom>
            <a:avLst/>
            <a:gdLst/>
            <a:ahLst/>
            <a:rect l="l" t="t" r="r" b="b"/>
            <a:pathLst>
              <a:path w="582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194" y="265"/>
                </a:lnTo>
                <a:lnTo>
                  <a:pt x="388" y="265"/>
                </a:lnTo>
                <a:lnTo>
                  <a:pt x="485" y="129"/>
                </a:lnTo>
                <a:lnTo>
                  <a:pt x="582" y="129"/>
                </a:lnTo>
                <a:lnTo>
                  <a:pt x="58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4600" y="2200320"/>
            <a:ext cx="20520" cy="2142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2394000"/>
            <a:ext cx="781200" cy="236520"/>
          </a:xfrm>
          <a:custGeom>
            <a:avLst/>
            <a:gdLst/>
            <a:ahLst/>
            <a:rect l="l" t="t" r="r" b="b"/>
            <a:pathLst>
              <a:path w="492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4" y="7"/>
                </a:lnTo>
                <a:lnTo>
                  <a:pt x="201" y="143"/>
                </a:lnTo>
                <a:lnTo>
                  <a:pt x="194" y="149"/>
                </a:lnTo>
                <a:lnTo>
                  <a:pt x="194" y="136"/>
                </a:lnTo>
                <a:lnTo>
                  <a:pt x="388" y="136"/>
                </a:lnTo>
                <a:lnTo>
                  <a:pt x="395" y="149"/>
                </a:lnTo>
                <a:lnTo>
                  <a:pt x="382" y="143"/>
                </a:lnTo>
                <a:lnTo>
                  <a:pt x="479" y="7"/>
                </a:lnTo>
                <a:lnTo>
                  <a:pt x="485" y="0"/>
                </a:lnTo>
                <a:lnTo>
                  <a:pt x="485" y="0"/>
                </a:lnTo>
                <a:lnTo>
                  <a:pt x="492" y="13"/>
                </a:lnTo>
                <a:lnTo>
                  <a:pt x="395" y="149"/>
                </a:lnTo>
                <a:lnTo>
                  <a:pt x="395" y="149"/>
                </a:lnTo>
                <a:lnTo>
                  <a:pt x="388" y="149"/>
                </a:lnTo>
                <a:lnTo>
                  <a:pt x="194" y="149"/>
                </a:lnTo>
                <a:lnTo>
                  <a:pt x="188" y="149"/>
                </a:lnTo>
                <a:lnTo>
                  <a:pt x="188" y="149"/>
                </a:lnTo>
                <a:lnTo>
                  <a:pt x="91" y="13"/>
                </a:lnTo>
                <a:lnTo>
                  <a:pt x="104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394000"/>
            <a:ext cx="165240" cy="205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8360" y="2189160"/>
            <a:ext cx="20880" cy="2160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4600" y="2189160"/>
            <a:ext cx="933480" cy="2052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7360" y="2200320"/>
            <a:ext cx="933120" cy="4204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200" y="265"/>
                </a:lnTo>
                <a:lnTo>
                  <a:pt x="394" y="265"/>
                </a:lnTo>
                <a:lnTo>
                  <a:pt x="491" y="129"/>
                </a:lnTo>
                <a:lnTo>
                  <a:pt x="588" y="129"/>
                </a:lnTo>
                <a:lnTo>
                  <a:pt x="58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6200" y="2200320"/>
            <a:ext cx="20520" cy="2142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7360" y="2394000"/>
            <a:ext cx="788760" cy="236520"/>
          </a:xfrm>
          <a:custGeom>
            <a:avLst/>
            <a:gdLst/>
            <a:ahLst/>
            <a:rect l="l" t="t" r="r" b="b"/>
            <a:pathLst>
              <a:path w="497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3" y="7"/>
                </a:lnTo>
                <a:lnTo>
                  <a:pt x="207" y="143"/>
                </a:lnTo>
                <a:lnTo>
                  <a:pt x="200" y="149"/>
                </a:lnTo>
                <a:lnTo>
                  <a:pt x="200" y="136"/>
                </a:lnTo>
                <a:lnTo>
                  <a:pt x="394" y="136"/>
                </a:lnTo>
                <a:lnTo>
                  <a:pt x="400" y="149"/>
                </a:lnTo>
                <a:lnTo>
                  <a:pt x="388" y="143"/>
                </a:lnTo>
                <a:lnTo>
                  <a:pt x="484" y="7"/>
                </a:lnTo>
                <a:lnTo>
                  <a:pt x="491" y="0"/>
                </a:lnTo>
                <a:lnTo>
                  <a:pt x="491" y="0"/>
                </a:lnTo>
                <a:lnTo>
                  <a:pt x="497" y="13"/>
                </a:lnTo>
                <a:lnTo>
                  <a:pt x="400" y="149"/>
                </a:lnTo>
                <a:lnTo>
                  <a:pt x="400" y="149"/>
                </a:lnTo>
                <a:lnTo>
                  <a:pt x="394" y="149"/>
                </a:lnTo>
                <a:lnTo>
                  <a:pt x="200" y="149"/>
                </a:lnTo>
                <a:lnTo>
                  <a:pt x="194" y="149"/>
                </a:lnTo>
                <a:lnTo>
                  <a:pt x="194" y="149"/>
                </a:lnTo>
                <a:lnTo>
                  <a:pt x="90" y="13"/>
                </a:lnTo>
                <a:lnTo>
                  <a:pt x="103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6760" y="2394000"/>
            <a:ext cx="163440" cy="205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19680" y="2189160"/>
            <a:ext cx="20520" cy="2160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6200" y="2189160"/>
            <a:ext cx="94428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0400" y="3092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73160"/>
            <a:ext cx="20520" cy="111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6480" y="2035080"/>
            <a:ext cx="20520" cy="111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6480" y="1984320"/>
            <a:ext cx="20520" cy="507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2106720"/>
            <a:ext cx="20520" cy="111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16480" y="2127240"/>
            <a:ext cx="20520" cy="111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6480" y="2117880"/>
            <a:ext cx="20520" cy="9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6480" y="2189160"/>
            <a:ext cx="2052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6480" y="2301840"/>
            <a:ext cx="2052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6480" y="2200320"/>
            <a:ext cx="20520" cy="101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16480" y="2374920"/>
            <a:ext cx="20520" cy="9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6480" y="2394000"/>
            <a:ext cx="20520" cy="111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2384280"/>
            <a:ext cx="20520" cy="972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6480" y="2455920"/>
            <a:ext cx="20520" cy="111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16480" y="2558880"/>
            <a:ext cx="20520" cy="97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16480" y="2467080"/>
            <a:ext cx="20520" cy="9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2630520"/>
            <a:ext cx="20520" cy="111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6480" y="2651040"/>
            <a:ext cx="20520" cy="111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16480" y="2641680"/>
            <a:ext cx="20520" cy="9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6480" y="2712960"/>
            <a:ext cx="20520" cy="97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6480" y="2825640"/>
            <a:ext cx="20520" cy="111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16480" y="2722680"/>
            <a:ext cx="20520" cy="102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6480" y="2897280"/>
            <a:ext cx="20520" cy="111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6480" y="2917800"/>
            <a:ext cx="20520" cy="111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6480" y="2908440"/>
            <a:ext cx="2052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6480" y="2979720"/>
            <a:ext cx="20520" cy="111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6480" y="3092400"/>
            <a:ext cx="20520" cy="111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6480" y="2990880"/>
            <a:ext cx="20520" cy="1015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16480" y="3165480"/>
            <a:ext cx="20520" cy="9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3184560"/>
            <a:ext cx="20520" cy="111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6480" y="3174840"/>
            <a:ext cx="20520" cy="97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16480" y="3246480"/>
            <a:ext cx="20520" cy="111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6480" y="3359160"/>
            <a:ext cx="20520" cy="1116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6480" y="3257640"/>
            <a:ext cx="20520" cy="1015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16480" y="3432240"/>
            <a:ext cx="20520" cy="9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480" y="3452760"/>
            <a:ext cx="2052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16480" y="3441600"/>
            <a:ext cx="20520" cy="111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6480" y="3513240"/>
            <a:ext cx="20520" cy="111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16480" y="3575160"/>
            <a:ext cx="20520" cy="111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16480" y="3524400"/>
            <a:ext cx="20520" cy="507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1452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956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7280" y="24354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6" y="13"/>
                </a:lnTo>
                <a:lnTo>
                  <a:pt x="13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2414520"/>
            <a:ext cx="92160" cy="114480"/>
          </a:xfrm>
          <a:custGeom>
            <a:avLst/>
            <a:gdLst/>
            <a:ahLst/>
            <a:rect l="l" t="t" r="r" b="b"/>
            <a:pathLst>
              <a:path w="58" h="72">
                <a:moveTo>
                  <a:pt x="32" y="26"/>
                </a:moveTo>
                <a:lnTo>
                  <a:pt x="52" y="39"/>
                </a:lnTo>
                <a:lnTo>
                  <a:pt x="58" y="39"/>
                </a:lnTo>
                <a:lnTo>
                  <a:pt x="45" y="46"/>
                </a:lnTo>
                <a:lnTo>
                  <a:pt x="0" y="65"/>
                </a:lnTo>
                <a:lnTo>
                  <a:pt x="0" y="72"/>
                </a:lnTo>
                <a:lnTo>
                  <a:pt x="0" y="52"/>
                </a:lnTo>
                <a:lnTo>
                  <a:pt x="6" y="0"/>
                </a:lnTo>
                <a:lnTo>
                  <a:pt x="6" y="0"/>
                </a:lnTo>
                <a:lnTo>
                  <a:pt x="13" y="7"/>
                </a:lnTo>
                <a:lnTo>
                  <a:pt x="13" y="7"/>
                </a:lnTo>
                <a:lnTo>
                  <a:pt x="6" y="59"/>
                </a:lnTo>
                <a:lnTo>
                  <a:pt x="0" y="52"/>
                </a:lnTo>
                <a:lnTo>
                  <a:pt x="0" y="52"/>
                </a:lnTo>
                <a:lnTo>
                  <a:pt x="45" y="33"/>
                </a:lnTo>
                <a:lnTo>
                  <a:pt x="45" y="46"/>
                </a:lnTo>
                <a:lnTo>
                  <a:pt x="45" y="46"/>
                </a:lnTo>
                <a:lnTo>
                  <a:pt x="26" y="33"/>
                </a:lnTo>
                <a:lnTo>
                  <a:pt x="32" y="26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5600" y="2425680"/>
            <a:ext cx="41040" cy="41400"/>
          </a:xfrm>
          <a:custGeom>
            <a:avLst/>
            <a:gdLst/>
            <a:ahLst/>
            <a:rect l="l" t="t" r="r" b="b"/>
            <a:pathLst>
              <a:path w="26" h="26">
                <a:moveTo>
                  <a:pt x="7" y="0"/>
                </a:moveTo>
                <a:lnTo>
                  <a:pt x="26" y="19"/>
                </a:lnTo>
                <a:lnTo>
                  <a:pt x="20" y="26"/>
                </a:lnTo>
                <a:lnTo>
                  <a:pt x="20" y="26"/>
                </a:lnTo>
                <a:lnTo>
                  <a:pt x="20" y="26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5600" y="242568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26" y="19"/>
                </a:moveTo>
                <a:lnTo>
                  <a:pt x="46" y="32"/>
                </a:lnTo>
                <a:lnTo>
                  <a:pt x="0" y="52"/>
                </a:lnTo>
                <a:lnTo>
                  <a:pt x="7" y="0"/>
                </a:lnTo>
                <a:lnTo>
                  <a:pt x="26" y="19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9960" y="22924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13" y="6"/>
                </a:lnTo>
                <a:lnTo>
                  <a:pt x="0" y="0"/>
                </a:lnTo>
                <a:lnTo>
                  <a:pt x="0" y="6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37280" y="244620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6"/>
                </a:moveTo>
                <a:lnTo>
                  <a:pt x="13" y="13"/>
                </a:lnTo>
                <a:lnTo>
                  <a:pt x="0" y="6"/>
                </a:lnTo>
                <a:lnTo>
                  <a:pt x="0" y="0"/>
                </a:lnTo>
                <a:lnTo>
                  <a:pt x="13" y="6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37280" y="230184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84" y="7"/>
                </a:moveTo>
                <a:lnTo>
                  <a:pt x="71" y="0"/>
                </a:lnTo>
                <a:lnTo>
                  <a:pt x="0" y="91"/>
                </a:lnTo>
                <a:lnTo>
                  <a:pt x="13" y="97"/>
                </a:lnTo>
                <a:lnTo>
                  <a:pt x="84" y="7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58960" y="202572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46600" y="2106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520" y="19638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0" y="13"/>
                </a:lnTo>
                <a:lnTo>
                  <a:pt x="7" y="13"/>
                </a:lnTo>
                <a:lnTo>
                  <a:pt x="13" y="6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09960" y="2106720"/>
            <a:ext cx="82440" cy="93600"/>
          </a:xfrm>
          <a:custGeom>
            <a:avLst/>
            <a:gdLst/>
            <a:ahLst/>
            <a:rect l="l" t="t" r="r" b="b"/>
            <a:pathLst>
              <a:path w="52" h="59">
                <a:moveTo>
                  <a:pt x="45" y="39"/>
                </a:moveTo>
                <a:lnTo>
                  <a:pt x="52" y="59"/>
                </a:lnTo>
                <a:lnTo>
                  <a:pt x="52" y="59"/>
                </a:lnTo>
                <a:lnTo>
                  <a:pt x="52" y="59"/>
                </a:lnTo>
                <a:lnTo>
                  <a:pt x="6" y="52"/>
                </a:lnTo>
                <a:lnTo>
                  <a:pt x="0" y="46"/>
                </a:lnTo>
                <a:lnTo>
                  <a:pt x="0" y="46"/>
                </a:lnTo>
                <a:lnTo>
                  <a:pt x="32" y="7"/>
                </a:lnTo>
                <a:lnTo>
                  <a:pt x="32" y="0"/>
                </a:lnTo>
                <a:lnTo>
                  <a:pt x="39" y="13"/>
                </a:lnTo>
                <a:lnTo>
                  <a:pt x="39" y="13"/>
                </a:lnTo>
                <a:lnTo>
                  <a:pt x="6" y="52"/>
                </a:lnTo>
                <a:lnTo>
                  <a:pt x="0" y="46"/>
                </a:lnTo>
                <a:lnTo>
                  <a:pt x="6" y="46"/>
                </a:lnTo>
                <a:lnTo>
                  <a:pt x="52" y="52"/>
                </a:lnTo>
                <a:lnTo>
                  <a:pt x="52" y="59"/>
                </a:lnTo>
                <a:lnTo>
                  <a:pt x="45" y="59"/>
                </a:lnTo>
                <a:lnTo>
                  <a:pt x="39" y="39"/>
                </a:lnTo>
                <a:lnTo>
                  <a:pt x="45" y="39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0720" y="2127240"/>
            <a:ext cx="2088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7" y="0"/>
                </a:moveTo>
                <a:lnTo>
                  <a:pt x="13" y="26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9680" y="212724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9" y="26"/>
                </a:moveTo>
                <a:lnTo>
                  <a:pt x="46" y="46"/>
                </a:lnTo>
                <a:lnTo>
                  <a:pt x="0" y="39"/>
                </a:lnTo>
                <a:lnTo>
                  <a:pt x="33" y="0"/>
                </a:lnTo>
                <a:lnTo>
                  <a:pt x="39" y="26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27480" y="208584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13"/>
                </a:moveTo>
                <a:lnTo>
                  <a:pt x="13" y="13"/>
                </a:lnTo>
                <a:lnTo>
                  <a:pt x="7" y="0"/>
                </a:lnTo>
                <a:lnTo>
                  <a:pt x="0" y="0"/>
                </a:lnTo>
                <a:lnTo>
                  <a:pt x="7" y="13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2085840"/>
            <a:ext cx="246240" cy="93960"/>
          </a:xfrm>
          <a:custGeom>
            <a:avLst/>
            <a:gdLst/>
            <a:ahLst/>
            <a:rect l="l" t="t" r="r" b="b"/>
            <a:pathLst>
              <a:path w="155" h="59">
                <a:moveTo>
                  <a:pt x="155" y="13"/>
                </a:moveTo>
                <a:lnTo>
                  <a:pt x="148" y="0"/>
                </a:lnTo>
                <a:lnTo>
                  <a:pt x="0" y="46"/>
                </a:lnTo>
                <a:lnTo>
                  <a:pt x="6" y="59"/>
                </a:lnTo>
                <a:lnTo>
                  <a:pt x="155" y="13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14520" y="4611600"/>
            <a:ext cx="1047960" cy="9360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14520" y="4602240"/>
            <a:ext cx="1057320" cy="205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1320" y="4611600"/>
            <a:ext cx="20520" cy="10332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5160" y="4694400"/>
            <a:ext cx="1057320" cy="2052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5160" y="4602240"/>
            <a:ext cx="20520" cy="10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4520" y="5443560"/>
            <a:ext cx="1047960" cy="82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433840"/>
            <a:ext cx="1057320" cy="208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1320" y="5443560"/>
            <a:ext cx="20520" cy="921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05160" y="5516640"/>
            <a:ext cx="1057320" cy="19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5160" y="5433840"/>
            <a:ext cx="20520" cy="921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5000" y="42940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25280" y="55879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1560" y="43560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13"/>
                </a:lnTo>
                <a:lnTo>
                  <a:pt x="7" y="13"/>
                </a:lnTo>
                <a:lnTo>
                  <a:pt x="13" y="7"/>
                </a:lnTo>
                <a:lnTo>
                  <a:pt x="13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83000" y="4551480"/>
            <a:ext cx="81000" cy="71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38" y="26"/>
                </a:moveTo>
                <a:lnTo>
                  <a:pt x="51" y="45"/>
                </a:lnTo>
                <a:lnTo>
                  <a:pt x="51" y="45"/>
                </a:lnTo>
                <a:lnTo>
                  <a:pt x="51" y="45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51" y="38"/>
                </a:lnTo>
                <a:lnTo>
                  <a:pt x="51" y="45"/>
                </a:lnTo>
                <a:lnTo>
                  <a:pt x="45" y="45"/>
                </a:lnTo>
                <a:lnTo>
                  <a:pt x="32" y="26"/>
                </a:lnTo>
                <a:lnTo>
                  <a:pt x="38" y="26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2600" y="4560840"/>
            <a:ext cx="2088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7" y="0"/>
                </a:moveTo>
                <a:lnTo>
                  <a:pt x="13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3000" y="4560840"/>
            <a:ext cx="81000" cy="61920"/>
          </a:xfrm>
          <a:custGeom>
            <a:avLst/>
            <a:gdLst/>
            <a:ahLst/>
            <a:rect l="l" t="t" r="r" b="b"/>
            <a:pathLst>
              <a:path w="51" h="39">
                <a:moveTo>
                  <a:pt x="38" y="20"/>
                </a:moveTo>
                <a:lnTo>
                  <a:pt x="51" y="39"/>
                </a:lnTo>
                <a:lnTo>
                  <a:pt x="0" y="32"/>
                </a:lnTo>
                <a:lnTo>
                  <a:pt x="32" y="0"/>
                </a:lnTo>
                <a:lnTo>
                  <a:pt x="38" y="20"/>
                </a:lnTo>
                <a:close/>
              </a:path>
            </a:pathLst>
          </a:cu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9760" y="45100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13"/>
                </a:lnTo>
                <a:lnTo>
                  <a:pt x="6" y="0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54280" y="4510080"/>
            <a:ext cx="204840" cy="92160"/>
          </a:xfrm>
          <a:custGeom>
            <a:avLst/>
            <a:gdLst/>
            <a:ahLst/>
            <a:rect l="l" t="t" r="r" b="b"/>
            <a:pathLst>
              <a:path w="129" h="58">
                <a:moveTo>
                  <a:pt x="129" y="13"/>
                </a:moveTo>
                <a:lnTo>
                  <a:pt x="123" y="0"/>
                </a:lnTo>
                <a:lnTo>
                  <a:pt x="0" y="45"/>
                </a:lnTo>
                <a:lnTo>
                  <a:pt x="6" y="58"/>
                </a:lnTo>
                <a:lnTo>
                  <a:pt x="129" y="13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8080" y="4673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8080" y="55260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0440" y="3716280"/>
            <a:ext cx="447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ección transversal de una juntura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en un proceso de 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86600" y="5937120"/>
            <a:ext cx="24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Representación unidimen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2040" y="5937120"/>
            <a:ext cx="141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ímbolo del dio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l Dio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375000"/>
            <a:ext cx="406440" cy="495360"/>
          </a:xfrm>
          <a:custGeom>
            <a:avLst/>
            <a:gdLst/>
            <a:ahLst/>
            <a:rect l="l" t="t" r="r" b="b"/>
            <a:pathLst>
              <a:path w="256" h="312">
                <a:moveTo>
                  <a:pt x="256" y="0"/>
                </a:moveTo>
                <a:lnTo>
                  <a:pt x="0" y="0"/>
                </a:lnTo>
                <a:lnTo>
                  <a:pt x="128" y="312"/>
                </a:lnTo>
                <a:lnTo>
                  <a:pt x="25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55880" y="336240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16"/>
                </a:moveTo>
                <a:lnTo>
                  <a:pt x="16" y="16"/>
                </a:lnTo>
                <a:lnTo>
                  <a:pt x="8" y="16"/>
                </a:lnTo>
                <a:lnTo>
                  <a:pt x="24" y="8"/>
                </a:lnTo>
                <a:lnTo>
                  <a:pt x="152" y="320"/>
                </a:lnTo>
                <a:lnTo>
                  <a:pt x="152" y="328"/>
                </a:lnTo>
                <a:lnTo>
                  <a:pt x="144" y="344"/>
                </a:lnTo>
                <a:lnTo>
                  <a:pt x="136" y="328"/>
                </a:ln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  <a:lnTo>
                  <a:pt x="272" y="0"/>
                </a:lnTo>
                <a:lnTo>
                  <a:pt x="272" y="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3362400"/>
            <a:ext cx="241200" cy="520560"/>
          </a:xfrm>
          <a:custGeom>
            <a:avLst/>
            <a:gdLst/>
            <a:ahLst/>
            <a:rect l="l" t="t" r="r" b="b"/>
            <a:pathLst>
              <a:path w="152" h="328">
                <a:moveTo>
                  <a:pt x="0" y="320"/>
                </a:moveTo>
                <a:lnTo>
                  <a:pt x="128" y="8"/>
                </a:lnTo>
                <a:lnTo>
                  <a:pt x="136" y="0"/>
                </a:lnTo>
                <a:lnTo>
                  <a:pt x="152" y="0"/>
                </a:lnTo>
                <a:lnTo>
                  <a:pt x="144" y="16"/>
                </a:lnTo>
                <a:lnTo>
                  <a:pt x="16" y="328"/>
                </a:lnTo>
                <a:lnTo>
                  <a:pt x="0" y="32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3857760"/>
            <a:ext cx="126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31840" y="3857760"/>
            <a:ext cx="1296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4800" y="3857760"/>
            <a:ext cx="2793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71880" y="3857760"/>
            <a:ext cx="252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1880" y="3870360"/>
            <a:ext cx="25200" cy="15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71880" y="3197160"/>
            <a:ext cx="252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1880" y="3375000"/>
            <a:ext cx="252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71880" y="3209760"/>
            <a:ext cx="25200" cy="165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71880" y="3184560"/>
            <a:ext cx="2520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1880" y="2803680"/>
            <a:ext cx="25200" cy="380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52760" y="2803680"/>
            <a:ext cx="12600" cy="25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5360" y="2803680"/>
            <a:ext cx="519120" cy="252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71880" y="4035600"/>
            <a:ext cx="25200" cy="380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2760" y="4390920"/>
            <a:ext cx="12600" cy="25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65360" y="4390920"/>
            <a:ext cx="519120" cy="25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89040" y="27655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76440" y="2752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9040" y="434016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76440" y="4327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27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952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784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997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3480" y="280368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40960" y="270180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443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8080" y="2803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22560" y="27018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5600" y="2664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270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79040" y="266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9800" y="2651040"/>
            <a:ext cx="9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06480" y="271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4720" y="270180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86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56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27680" y="3184560"/>
            <a:ext cx="2556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7680" y="2803680"/>
            <a:ext cx="25560" cy="3808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803680"/>
            <a:ext cx="12600" cy="252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8960" y="2803680"/>
            <a:ext cx="571680" cy="252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7680" y="3997440"/>
            <a:ext cx="255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7680" y="4010040"/>
            <a:ext cx="25560" cy="368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4352760"/>
            <a:ext cx="12600" cy="255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68960" y="4352760"/>
            <a:ext cx="571680" cy="25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80040" y="276552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7440" y="2752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0040" y="434016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67440" y="4327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4804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0068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7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040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46800" y="3184560"/>
            <a:ext cx="762120" cy="79992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248"/>
                </a:moveTo>
                <a:lnTo>
                  <a:pt x="464" y="152"/>
                </a:lnTo>
                <a:lnTo>
                  <a:pt x="416" y="72"/>
                </a:lnTo>
                <a:lnTo>
                  <a:pt x="336" y="16"/>
                </a:lnTo>
                <a:lnTo>
                  <a:pt x="240" y="0"/>
                </a:lnTo>
                <a:lnTo>
                  <a:pt x="144" y="16"/>
                </a:lnTo>
                <a:lnTo>
                  <a:pt x="72" y="72"/>
                </a:lnTo>
                <a:lnTo>
                  <a:pt x="16" y="152"/>
                </a:lnTo>
                <a:lnTo>
                  <a:pt x="0" y="248"/>
                </a:lnTo>
                <a:lnTo>
                  <a:pt x="16" y="344"/>
                </a:lnTo>
                <a:lnTo>
                  <a:pt x="72" y="424"/>
                </a:lnTo>
                <a:lnTo>
                  <a:pt x="144" y="480"/>
                </a:lnTo>
                <a:lnTo>
                  <a:pt x="240" y="504"/>
                </a:lnTo>
                <a:lnTo>
                  <a:pt x="336" y="480"/>
                </a:lnTo>
                <a:lnTo>
                  <a:pt x="416" y="424"/>
                </a:lnTo>
                <a:lnTo>
                  <a:pt x="464" y="344"/>
                </a:lnTo>
                <a:lnTo>
                  <a:pt x="480" y="24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4200" y="3171960"/>
            <a:ext cx="78732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480" y="256"/>
                </a:moveTo>
                <a:lnTo>
                  <a:pt x="464" y="160"/>
                </a:lnTo>
                <a:lnTo>
                  <a:pt x="464" y="168"/>
                </a:lnTo>
                <a:lnTo>
                  <a:pt x="464" y="168"/>
                </a:lnTo>
                <a:lnTo>
                  <a:pt x="416" y="88"/>
                </a:lnTo>
                <a:lnTo>
                  <a:pt x="424" y="88"/>
                </a:lnTo>
                <a:lnTo>
                  <a:pt x="424" y="88"/>
                </a:lnTo>
                <a:lnTo>
                  <a:pt x="344" y="32"/>
                </a:lnTo>
                <a:lnTo>
                  <a:pt x="344" y="32"/>
                </a:lnTo>
                <a:lnTo>
                  <a:pt x="344" y="32"/>
                </a:lnTo>
                <a:lnTo>
                  <a:pt x="248" y="16"/>
                </a:lnTo>
                <a:lnTo>
                  <a:pt x="248" y="16"/>
                </a:lnTo>
                <a:lnTo>
                  <a:pt x="248" y="16"/>
                </a:lnTo>
                <a:lnTo>
                  <a:pt x="152" y="32"/>
                </a:lnTo>
                <a:lnTo>
                  <a:pt x="160" y="32"/>
                </a:lnTo>
                <a:lnTo>
                  <a:pt x="160" y="32"/>
                </a:lnTo>
                <a:lnTo>
                  <a:pt x="88" y="88"/>
                </a:lnTo>
                <a:lnTo>
                  <a:pt x="88" y="88"/>
                </a:lnTo>
                <a:lnTo>
                  <a:pt x="88" y="88"/>
                </a:lnTo>
                <a:lnTo>
                  <a:pt x="32" y="168"/>
                </a:lnTo>
                <a:lnTo>
                  <a:pt x="32" y="160"/>
                </a:lnTo>
                <a:lnTo>
                  <a:pt x="32" y="160"/>
                </a:lnTo>
                <a:lnTo>
                  <a:pt x="16" y="256"/>
                </a:lnTo>
                <a:lnTo>
                  <a:pt x="16" y="256"/>
                </a:lnTo>
                <a:lnTo>
                  <a:pt x="16" y="256"/>
                </a:lnTo>
                <a:lnTo>
                  <a:pt x="32" y="352"/>
                </a:lnTo>
                <a:lnTo>
                  <a:pt x="32" y="352"/>
                </a:lnTo>
                <a:lnTo>
                  <a:pt x="32" y="352"/>
                </a:lnTo>
                <a:lnTo>
                  <a:pt x="88" y="432"/>
                </a:lnTo>
                <a:lnTo>
                  <a:pt x="88" y="424"/>
                </a:lnTo>
                <a:lnTo>
                  <a:pt x="88" y="424"/>
                </a:lnTo>
                <a:lnTo>
                  <a:pt x="160" y="480"/>
                </a:lnTo>
                <a:lnTo>
                  <a:pt x="152" y="480"/>
                </a:lnTo>
                <a:lnTo>
                  <a:pt x="152" y="480"/>
                </a:lnTo>
                <a:lnTo>
                  <a:pt x="248" y="504"/>
                </a:lnTo>
                <a:lnTo>
                  <a:pt x="248" y="504"/>
                </a:lnTo>
                <a:lnTo>
                  <a:pt x="248" y="504"/>
                </a:lnTo>
                <a:lnTo>
                  <a:pt x="344" y="480"/>
                </a:lnTo>
                <a:lnTo>
                  <a:pt x="344" y="480"/>
                </a:lnTo>
                <a:lnTo>
                  <a:pt x="344" y="480"/>
                </a:lnTo>
                <a:lnTo>
                  <a:pt x="424" y="424"/>
                </a:lnTo>
                <a:lnTo>
                  <a:pt x="416" y="432"/>
                </a:lnTo>
                <a:lnTo>
                  <a:pt x="416" y="432"/>
                </a:lnTo>
                <a:lnTo>
                  <a:pt x="464" y="352"/>
                </a:lnTo>
                <a:lnTo>
                  <a:pt x="464" y="352"/>
                </a:lnTo>
                <a:lnTo>
                  <a:pt x="464" y="352"/>
                </a:lnTo>
                <a:lnTo>
                  <a:pt x="480" y="256"/>
                </a:lnTo>
                <a:lnTo>
                  <a:pt x="480" y="256"/>
                </a:lnTo>
                <a:lnTo>
                  <a:pt x="496" y="256"/>
                </a:lnTo>
                <a:lnTo>
                  <a:pt x="496" y="256"/>
                </a:lnTo>
                <a:lnTo>
                  <a:pt x="480" y="352"/>
                </a:lnTo>
                <a:lnTo>
                  <a:pt x="480" y="352"/>
                </a:lnTo>
                <a:lnTo>
                  <a:pt x="480" y="360"/>
                </a:lnTo>
                <a:lnTo>
                  <a:pt x="432" y="440"/>
                </a:lnTo>
                <a:lnTo>
                  <a:pt x="432" y="440"/>
                </a:lnTo>
                <a:lnTo>
                  <a:pt x="432" y="440"/>
                </a:lnTo>
                <a:lnTo>
                  <a:pt x="352" y="496"/>
                </a:lnTo>
                <a:lnTo>
                  <a:pt x="352" y="496"/>
                </a:lnTo>
                <a:lnTo>
                  <a:pt x="344" y="496"/>
                </a:lnTo>
                <a:lnTo>
                  <a:pt x="248" y="520"/>
                </a:lnTo>
                <a:lnTo>
                  <a:pt x="248" y="520"/>
                </a:lnTo>
                <a:lnTo>
                  <a:pt x="248" y="520"/>
                </a:lnTo>
                <a:lnTo>
                  <a:pt x="152" y="496"/>
                </a:lnTo>
                <a:lnTo>
                  <a:pt x="152" y="496"/>
                </a:lnTo>
                <a:lnTo>
                  <a:pt x="152" y="496"/>
                </a:lnTo>
                <a:lnTo>
                  <a:pt x="80" y="440"/>
                </a:lnTo>
                <a:lnTo>
                  <a:pt x="80" y="440"/>
                </a:lnTo>
                <a:lnTo>
                  <a:pt x="72" y="440"/>
                </a:lnTo>
                <a:lnTo>
                  <a:pt x="16" y="360"/>
                </a:lnTo>
                <a:lnTo>
                  <a:pt x="16" y="360"/>
                </a:lnTo>
                <a:lnTo>
                  <a:pt x="16" y="3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16" y="160"/>
                </a:lnTo>
                <a:lnTo>
                  <a:pt x="16" y="160"/>
                </a:lnTo>
                <a:lnTo>
                  <a:pt x="16" y="160"/>
                </a:lnTo>
                <a:lnTo>
                  <a:pt x="72" y="80"/>
                </a:lnTo>
                <a:lnTo>
                  <a:pt x="72" y="80"/>
                </a:lnTo>
                <a:lnTo>
                  <a:pt x="80" y="72"/>
                </a:lnTo>
                <a:lnTo>
                  <a:pt x="152" y="16"/>
                </a:lnTo>
                <a:lnTo>
                  <a:pt x="152" y="16"/>
                </a:lnTo>
                <a:lnTo>
                  <a:pt x="152" y="16"/>
                </a:lnTo>
                <a:lnTo>
                  <a:pt x="248" y="0"/>
                </a:lnTo>
                <a:lnTo>
                  <a:pt x="248" y="0"/>
                </a:lnTo>
                <a:lnTo>
                  <a:pt x="248" y="0"/>
                </a:lnTo>
                <a:lnTo>
                  <a:pt x="344" y="16"/>
                </a:lnTo>
                <a:lnTo>
                  <a:pt x="344" y="16"/>
                </a:lnTo>
                <a:lnTo>
                  <a:pt x="352" y="16"/>
                </a:lnTo>
                <a:lnTo>
                  <a:pt x="432" y="72"/>
                </a:lnTo>
                <a:lnTo>
                  <a:pt x="432" y="72"/>
                </a:lnTo>
                <a:lnTo>
                  <a:pt x="432" y="80"/>
                </a:lnTo>
                <a:lnTo>
                  <a:pt x="480" y="160"/>
                </a:lnTo>
                <a:lnTo>
                  <a:pt x="480" y="160"/>
                </a:lnTo>
                <a:lnTo>
                  <a:pt x="480" y="160"/>
                </a:lnTo>
                <a:lnTo>
                  <a:pt x="496" y="256"/>
                </a:lnTo>
                <a:lnTo>
                  <a:pt x="480" y="25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5960" y="3578400"/>
            <a:ext cx="25560" cy="144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76200" y="32479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89880" y="3616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594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11320" y="351468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768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9880" y="301932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32" y="0"/>
                </a:moveTo>
                <a:lnTo>
                  <a:pt x="64" y="0"/>
                </a:lnTo>
                <a:lnTo>
                  <a:pt x="72" y="0"/>
                </a:lnTo>
                <a:lnTo>
                  <a:pt x="64" y="8"/>
                </a:lnTo>
                <a:lnTo>
                  <a:pt x="32" y="56"/>
                </a:lnTo>
                <a:lnTo>
                  <a:pt x="32" y="64"/>
                </a:lnTo>
                <a:lnTo>
                  <a:pt x="24" y="48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56" y="0"/>
                </a:lnTo>
                <a:lnTo>
                  <a:pt x="64" y="8"/>
                </a:lnTo>
                <a:lnTo>
                  <a:pt x="64" y="8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2480" y="30193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0"/>
                </a:moveTo>
                <a:lnTo>
                  <a:pt x="24" y="0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2480" y="301932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24" y="0"/>
                </a:moveTo>
                <a:lnTo>
                  <a:pt x="56" y="0"/>
                </a:lnTo>
                <a:lnTo>
                  <a:pt x="24" y="48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2828880"/>
            <a:ext cx="25560" cy="12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27680" y="3006720"/>
            <a:ext cx="25560" cy="12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27680" y="2841480"/>
            <a:ext cx="25560" cy="1652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0360" y="266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94440" y="2778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5892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95560" y="3019320"/>
            <a:ext cx="139680" cy="11448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80" y="0"/>
                </a:lnTo>
                <a:lnTo>
                  <a:pt x="88" y="0"/>
                </a:lnTo>
                <a:lnTo>
                  <a:pt x="80" y="8"/>
                </a:lnTo>
                <a:lnTo>
                  <a:pt x="48" y="56"/>
                </a:lnTo>
                <a:lnTo>
                  <a:pt x="48" y="72"/>
                </a:lnTo>
                <a:lnTo>
                  <a:pt x="40" y="56"/>
                </a:lnTo>
                <a:lnTo>
                  <a:pt x="8" y="8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48" y="48"/>
                </a:lnTo>
                <a:lnTo>
                  <a:pt x="40" y="56"/>
                </a:lnTo>
                <a:lnTo>
                  <a:pt x="40" y="48"/>
                </a:lnTo>
                <a:lnTo>
                  <a:pt x="72" y="0"/>
                </a:lnTo>
                <a:lnTo>
                  <a:pt x="80" y="8"/>
                </a:lnTo>
                <a:lnTo>
                  <a:pt x="80" y="8"/>
                </a:lnTo>
                <a:lnTo>
                  <a:pt x="48" y="8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0760" y="301932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0760" y="3019320"/>
            <a:ext cx="10188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32" y="0"/>
                </a:moveTo>
                <a:lnTo>
                  <a:pt x="64" y="0"/>
                </a:lnTo>
                <a:lnTo>
                  <a:pt x="32" y="48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8920" y="2828880"/>
            <a:ext cx="25560" cy="12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8920" y="3006720"/>
            <a:ext cx="25560" cy="12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58920" y="2841480"/>
            <a:ext cx="25560" cy="1652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07640" y="4937040"/>
            <a:ext cx="225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) Modelo diodo i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37040"/>
            <a:ext cx="30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) Modelo diodo primer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98760" y="1773360"/>
            <a:ext cx="5945040" cy="27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24360" y="4792680"/>
                <a:ext cx="3672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n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ámetros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981080"/>
          <a:ext cx="7786800" cy="3768840"/>
        </p:xfrm>
        <a:graphic>
          <a:graphicData uri="http://schemas.openxmlformats.org/drawingml/2006/table">
            <a:tbl>
              <a:tblPr/>
              <a:tblGrid>
                <a:gridCol w="2386080"/>
                <a:gridCol w="906480"/>
                <a:gridCol w="1542960"/>
                <a:gridCol w="1008000"/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por d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ente sat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E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e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se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tra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ia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de grad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l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un Transis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2000" y="2425680"/>
            <a:ext cx="3503880" cy="2739600"/>
            <a:chOff x="612000" y="2425680"/>
            <a:chExt cx="3503880" cy="27396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687240" y="3614400"/>
              <a:ext cx="342864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2000" y="2425680"/>
              <a:ext cx="21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Switch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77280" y="2425680"/>
            <a:ext cx="3660120" cy="2362320"/>
            <a:chOff x="4877280" y="2425680"/>
            <a:chExt cx="3660120" cy="2362320"/>
          </a:xfrm>
        </p:grpSpPr>
        <p:grpSp>
          <p:nvGrpSpPr>
            <p:cNvPr id="377" name=""/>
            <p:cNvGrpSpPr/>
            <p:nvPr/>
          </p:nvGrpSpPr>
          <p:grpSpPr>
            <a:xfrm>
              <a:off x="5030640" y="3621240"/>
              <a:ext cx="2805120" cy="1166760"/>
              <a:chOff x="5030640" y="3621240"/>
              <a:chExt cx="2805120" cy="1166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467480" y="4332240"/>
                <a:ext cx="12600" cy="25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2400" y="4332240"/>
                <a:ext cx="12960" cy="2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5360" y="4332240"/>
                <a:ext cx="1662120" cy="25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59160" y="4737240"/>
                <a:ext cx="25560" cy="1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59160" y="4332240"/>
                <a:ext cx="25560" cy="405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72120" y="4332240"/>
                <a:ext cx="1128600" cy="25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5160" y="4737240"/>
                <a:ext cx="25560" cy="12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75160" y="4345200"/>
                <a:ext cx="25560" cy="392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5160" y="4724280"/>
                <a:ext cx="12960" cy="255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46840" y="4724280"/>
                <a:ext cx="12600" cy="255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88120" y="4724280"/>
                <a:ext cx="558720" cy="255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72120" y="472428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0" y="4724280"/>
                <a:ext cx="12600" cy="255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38600" y="4724280"/>
                <a:ext cx="53352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88120" y="4116600"/>
                <a:ext cx="12600" cy="252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72120" y="4116600"/>
                <a:ext cx="12600" cy="25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4720" y="4116600"/>
                <a:ext cx="1103400" cy="252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5680" y="3773520"/>
                <a:ext cx="25560" cy="126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65680" y="4129200"/>
                <a:ext cx="2556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65680" y="3786120"/>
                <a:ext cx="25560" cy="3430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87840" y="471168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748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638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14920" y="374796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24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24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02320" y="373536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56" y="40"/>
                    </a:moveTo>
                    <a:lnTo>
                      <a:pt x="48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4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32"/>
                    </a:lnTo>
                    <a:lnTo>
                      <a:pt x="56" y="4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91240" y="37861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48080" y="37609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60680" y="3735360"/>
                <a:ext cx="88920" cy="11448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0" y="2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8" y="64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4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60680" y="3773520"/>
                <a:ext cx="12960" cy="507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32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60680" y="373536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0" y="24"/>
                    </a:moveTo>
                    <a:lnTo>
                      <a:pt x="0" y="0"/>
                    </a:lnTo>
                    <a:lnTo>
                      <a:pt x="48" y="24"/>
                    </a:lnTo>
                    <a:lnTo>
                      <a:pt x="0" y="56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11520" y="43322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48160" y="4345200"/>
                <a:ext cx="114120" cy="87120"/>
              </a:xfrm>
              <a:custGeom>
                <a:avLst/>
                <a:gdLst/>
                <a:ahLst/>
                <a:rect l="l" t="t" r="r" b="b"/>
                <a:pathLst>
                  <a:path w="72" h="55">
                    <a:moveTo>
                      <a:pt x="40" y="0"/>
                    </a:move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55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47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8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73360" y="43452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4" y="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360" y="4345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24" y="0"/>
                    </a:moveTo>
                    <a:lnTo>
                      <a:pt x="56" y="0"/>
                    </a:lnTo>
                    <a:lnTo>
                      <a:pt x="24" y="47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1520" y="393876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160" h="256">
                    <a:moveTo>
                      <a:pt x="0" y="256"/>
                    </a:moveTo>
                    <a:lnTo>
                      <a:pt x="8" y="184"/>
                    </a:lnTo>
                    <a:lnTo>
                      <a:pt x="8" y="184"/>
                    </a:lnTo>
                    <a:lnTo>
                      <a:pt x="8" y="184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88" y="56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60" y="16"/>
                    </a:lnTo>
                    <a:lnTo>
                      <a:pt x="160" y="16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4"/>
                    </a:lnTo>
                    <a:lnTo>
                      <a:pt x="16" y="256"/>
                    </a:lnTo>
                    <a:lnTo>
                      <a:pt x="0" y="25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52720" y="3824280"/>
                <a:ext cx="241560" cy="139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72"/>
                    </a:moveTo>
                    <a:lnTo>
                      <a:pt x="144" y="0"/>
                    </a:lnTo>
                    <a:lnTo>
                      <a:pt x="144" y="0"/>
                    </a:lnTo>
                    <a:lnTo>
                      <a:pt x="144" y="16"/>
                    </a:lnTo>
                    <a:lnTo>
                      <a:pt x="152" y="16"/>
                    </a:lnTo>
                    <a:lnTo>
                      <a:pt x="8" y="88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1320" y="3760920"/>
                <a:ext cx="279360" cy="88920"/>
              </a:xfrm>
              <a:custGeom>
                <a:avLst/>
                <a:gdLst/>
                <a:ahLst/>
                <a:rect l="l" t="t" r="r" b="b"/>
                <a:pathLst>
                  <a:path w="176" h="56">
                    <a:moveTo>
                      <a:pt x="0" y="40"/>
                    </a:moveTo>
                    <a:lnTo>
                      <a:pt x="0" y="5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30640" y="3621240"/>
                <a:ext cx="21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45920" y="371016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74880" y="3621240"/>
                <a:ext cx="4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34240" y="4711680"/>
                <a:ext cx="8856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24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7212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32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102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877280" y="2425680"/>
              <a:ext cx="36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Transistor 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354480" y="273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133640" y="1614600"/>
            <a:ext cx="6858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y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51160" y="2230560"/>
            <a:ext cx="19080" cy="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51160" y="2917800"/>
            <a:ext cx="19080" cy="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2239920"/>
            <a:ext cx="19080" cy="677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1600" y="2793960"/>
            <a:ext cx="972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51160" y="2793960"/>
            <a:ext cx="190440" cy="1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1160" y="2344680"/>
            <a:ext cx="19080" cy="45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41600" y="2344680"/>
            <a:ext cx="97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0880" y="2344680"/>
            <a:ext cx="180720" cy="1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2240" y="2354400"/>
            <a:ext cx="19080" cy="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2240" y="2116080"/>
            <a:ext cx="19080" cy="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32240" y="2125800"/>
            <a:ext cx="19080" cy="228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2240" y="2793960"/>
            <a:ext cx="19080" cy="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2240" y="3024360"/>
            <a:ext cx="19080" cy="9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2240" y="2803680"/>
            <a:ext cx="19080" cy="220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56120" y="2344680"/>
            <a:ext cx="18720" cy="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56120" y="2803680"/>
            <a:ext cx="18720" cy="9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56120" y="2354400"/>
            <a:ext cx="18720" cy="44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1400" y="2593800"/>
            <a:ext cx="972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65480" y="2593800"/>
            <a:ext cx="9360" cy="19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21120" y="2593800"/>
            <a:ext cx="144360" cy="19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8400" y="4341960"/>
            <a:ext cx="19080" cy="9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8400" y="5021280"/>
            <a:ext cx="19080" cy="9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08400" y="4351320"/>
            <a:ext cx="19080" cy="669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17920" y="4897440"/>
            <a:ext cx="9360" cy="19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400" y="4897440"/>
            <a:ext cx="209520" cy="19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08400" y="4448160"/>
            <a:ext cx="19080" cy="458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920" y="4448160"/>
            <a:ext cx="9360" cy="19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17760" y="4448160"/>
            <a:ext cx="200160" cy="19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8200" y="4457880"/>
            <a:ext cx="19080" cy="9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8200" y="4218120"/>
            <a:ext cx="19080" cy="9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8200" y="4227480"/>
            <a:ext cx="19080" cy="230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8200" y="4897440"/>
            <a:ext cx="19080" cy="9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8200" y="5126040"/>
            <a:ext cx="19080" cy="93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8200" y="4906800"/>
            <a:ext cx="19080" cy="2192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93920" y="4448160"/>
            <a:ext cx="19080" cy="97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93920" y="4906800"/>
            <a:ext cx="19080" cy="9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3920" y="4457880"/>
            <a:ext cx="19080" cy="4489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59280" y="4591080"/>
            <a:ext cx="153720" cy="190440"/>
          </a:xfrm>
          <a:custGeom>
            <a:avLst/>
            <a:gdLst/>
            <a:ahLst/>
            <a:rect l="l" t="t" r="r" b="b"/>
            <a:pathLst>
              <a:path w="97" h="120">
                <a:moveTo>
                  <a:pt x="85" y="66"/>
                </a:moveTo>
                <a:lnTo>
                  <a:pt x="73" y="30"/>
                </a:lnTo>
                <a:lnTo>
                  <a:pt x="79" y="30"/>
                </a:lnTo>
                <a:lnTo>
                  <a:pt x="79" y="30"/>
                </a:lnTo>
                <a:lnTo>
                  <a:pt x="49" y="12"/>
                </a:lnTo>
                <a:lnTo>
                  <a:pt x="55" y="12"/>
                </a:lnTo>
                <a:lnTo>
                  <a:pt x="55" y="12"/>
                </a:lnTo>
                <a:lnTo>
                  <a:pt x="25" y="30"/>
                </a:lnTo>
                <a:lnTo>
                  <a:pt x="25" y="30"/>
                </a:lnTo>
                <a:lnTo>
                  <a:pt x="25" y="30"/>
                </a:lnTo>
                <a:lnTo>
                  <a:pt x="12" y="66"/>
                </a:lnTo>
                <a:lnTo>
                  <a:pt x="12" y="60"/>
                </a:lnTo>
                <a:lnTo>
                  <a:pt x="12" y="60"/>
                </a:lnTo>
                <a:lnTo>
                  <a:pt x="25" y="96"/>
                </a:lnTo>
                <a:lnTo>
                  <a:pt x="25" y="90"/>
                </a:lnTo>
                <a:lnTo>
                  <a:pt x="25" y="90"/>
                </a:lnTo>
                <a:lnTo>
                  <a:pt x="55" y="108"/>
                </a:lnTo>
                <a:lnTo>
                  <a:pt x="49" y="108"/>
                </a:lnTo>
                <a:lnTo>
                  <a:pt x="49" y="108"/>
                </a:lnTo>
                <a:lnTo>
                  <a:pt x="79" y="90"/>
                </a:lnTo>
                <a:lnTo>
                  <a:pt x="73" y="96"/>
                </a:lnTo>
                <a:lnTo>
                  <a:pt x="73" y="96"/>
                </a:lnTo>
                <a:lnTo>
                  <a:pt x="85" y="60"/>
                </a:lnTo>
                <a:lnTo>
                  <a:pt x="85" y="60"/>
                </a:lnTo>
                <a:lnTo>
                  <a:pt x="97" y="66"/>
                </a:lnTo>
                <a:lnTo>
                  <a:pt x="97" y="66"/>
                </a:lnTo>
                <a:lnTo>
                  <a:pt x="85" y="102"/>
                </a:lnTo>
                <a:lnTo>
                  <a:pt x="85" y="102"/>
                </a:lnTo>
                <a:lnTo>
                  <a:pt x="85" y="102"/>
                </a:lnTo>
                <a:lnTo>
                  <a:pt x="55" y="120"/>
                </a:lnTo>
                <a:lnTo>
                  <a:pt x="55" y="120"/>
                </a:lnTo>
                <a:lnTo>
                  <a:pt x="49" y="120"/>
                </a:lnTo>
                <a:lnTo>
                  <a:pt x="19" y="102"/>
                </a:lnTo>
                <a:lnTo>
                  <a:pt x="19" y="102"/>
                </a:lnTo>
                <a:lnTo>
                  <a:pt x="12" y="102"/>
                </a:lnTo>
                <a:lnTo>
                  <a:pt x="0" y="66"/>
                </a:lnTo>
                <a:lnTo>
                  <a:pt x="0" y="66"/>
                </a:lnTo>
                <a:lnTo>
                  <a:pt x="0" y="60"/>
                </a:lnTo>
                <a:lnTo>
                  <a:pt x="12" y="24"/>
                </a:lnTo>
                <a:lnTo>
                  <a:pt x="12" y="24"/>
                </a:lnTo>
                <a:lnTo>
                  <a:pt x="19" y="18"/>
                </a:lnTo>
                <a:lnTo>
                  <a:pt x="49" y="0"/>
                </a:lnTo>
                <a:lnTo>
                  <a:pt x="49" y="0"/>
                </a:lnTo>
                <a:lnTo>
                  <a:pt x="55" y="0"/>
                </a:lnTo>
                <a:lnTo>
                  <a:pt x="85" y="18"/>
                </a:lnTo>
                <a:lnTo>
                  <a:pt x="85" y="18"/>
                </a:lnTo>
                <a:lnTo>
                  <a:pt x="85" y="24"/>
                </a:lnTo>
                <a:lnTo>
                  <a:pt x="97" y="60"/>
                </a:lnTo>
                <a:lnTo>
                  <a:pt x="85" y="6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6864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4800" y="4676760"/>
            <a:ext cx="9360" cy="190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8640" y="4676760"/>
            <a:ext cx="9360" cy="19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4160" y="4676760"/>
            <a:ext cx="114480" cy="19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8160" y="2239920"/>
            <a:ext cx="19080" cy="9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18160" y="2917800"/>
            <a:ext cx="19080" cy="9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8160" y="2249640"/>
            <a:ext cx="19080" cy="6681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8600" y="2803680"/>
            <a:ext cx="9720" cy="187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18160" y="2803680"/>
            <a:ext cx="190440" cy="187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18160" y="2354400"/>
            <a:ext cx="19080" cy="458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08600" y="2354400"/>
            <a:ext cx="9720" cy="190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7520" y="2354400"/>
            <a:ext cx="181080" cy="190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2363760"/>
            <a:ext cx="19080" cy="97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9240" y="2125800"/>
            <a:ext cx="19080" cy="93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9240" y="2135160"/>
            <a:ext cx="1908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9240" y="2803680"/>
            <a:ext cx="19080" cy="93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9240" y="3033720"/>
            <a:ext cx="19080" cy="93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9240" y="2813040"/>
            <a:ext cx="19080" cy="2206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22760" y="2354400"/>
            <a:ext cx="19080" cy="93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22760" y="2803680"/>
            <a:ext cx="19080" cy="93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2760" y="2363760"/>
            <a:ext cx="19080" cy="4399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8400" y="2593800"/>
            <a:ext cx="9720" cy="190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32480" y="2593800"/>
            <a:ext cx="9360" cy="1908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88120" y="2593800"/>
            <a:ext cx="144360" cy="190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37240" y="2354400"/>
            <a:ext cx="85680" cy="449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7240" y="2344680"/>
            <a:ext cx="95400" cy="190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3560" y="2354400"/>
            <a:ext cx="19080" cy="4586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7520" y="2793960"/>
            <a:ext cx="95400" cy="1908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27520" y="2344680"/>
            <a:ext cx="19080" cy="4590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89520" y="303372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80160" y="302436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18320" y="30621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89520" y="207792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80160" y="206856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996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7840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9232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296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112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8200" y="5135400"/>
            <a:ext cx="38160" cy="6696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8840" y="512604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36"/>
                </a:lnTo>
                <a:lnTo>
                  <a:pt x="12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7000" y="51642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32240" y="2077920"/>
            <a:ext cx="28440" cy="5724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6" y="36"/>
                </a:lnTo>
                <a:lnTo>
                  <a:pt x="18" y="30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2520" y="20685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6"/>
                </a:lnTo>
                <a:lnTo>
                  <a:pt x="12" y="36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36"/>
                </a:lnTo>
                <a:lnTo>
                  <a:pt x="30" y="36"/>
                </a:lnTo>
                <a:lnTo>
                  <a:pt x="30" y="42"/>
                </a:lnTo>
                <a:lnTo>
                  <a:pt x="18" y="48"/>
                </a:lnTo>
                <a:lnTo>
                  <a:pt x="18" y="48"/>
                </a:lnTo>
                <a:lnTo>
                  <a:pt x="12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51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2240" y="3005280"/>
            <a:ext cx="2844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2520" y="2995560"/>
            <a:ext cx="4788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51320" y="304308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25720" y="466740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16360" y="4657680"/>
            <a:ext cx="5688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54160" y="46958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8200" y="417024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98840" y="416088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0"/>
                </a:lnTo>
                <a:lnTo>
                  <a:pt x="12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37000" y="41990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58160" y="1752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3200" y="309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1280" y="248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06080" y="1800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11120" y="315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18920" y="2468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5600" y="456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1360" y="524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772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70640" y="4370400"/>
            <a:ext cx="1908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0640" y="5049720"/>
            <a:ext cx="19080" cy="972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4379760"/>
            <a:ext cx="19080" cy="669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1080" y="4925880"/>
            <a:ext cx="9360" cy="1908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70640" y="4925880"/>
            <a:ext cx="190440" cy="1908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70640" y="4486320"/>
            <a:ext cx="19080" cy="44928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1080" y="4486320"/>
            <a:ext cx="9360" cy="1908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4486320"/>
            <a:ext cx="181080" cy="1908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51360" y="4495680"/>
            <a:ext cx="19080" cy="972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51360" y="4255920"/>
            <a:ext cx="19080" cy="97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51360" y="4265640"/>
            <a:ext cx="19080" cy="2300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51360" y="4925880"/>
            <a:ext cx="1908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51360" y="5154480"/>
            <a:ext cx="19080" cy="97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51360" y="4935600"/>
            <a:ext cx="19080" cy="21888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75240" y="4476600"/>
            <a:ext cx="19080" cy="972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5240" y="4935600"/>
            <a:ext cx="19080" cy="93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5240" y="4486320"/>
            <a:ext cx="19080" cy="44928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0880" y="4724280"/>
            <a:ext cx="9360" cy="1908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4960" y="4724280"/>
            <a:ext cx="9360" cy="1908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0240" y="4724280"/>
            <a:ext cx="144720" cy="1908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1180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18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02080" y="4724280"/>
            <a:ext cx="57240" cy="66960"/>
          </a:xfrm>
          <a:custGeom>
            <a:avLst/>
            <a:gdLst/>
            <a:ahLst/>
            <a:rect l="l" t="t" r="r" b="b"/>
            <a:pathLst>
              <a:path w="36" h="42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0"/>
                </a:lnTo>
                <a:lnTo>
                  <a:pt x="18" y="30"/>
                </a:lnTo>
                <a:lnTo>
                  <a:pt x="18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36"/>
                </a:lnTo>
                <a:lnTo>
                  <a:pt x="30" y="36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6" y="36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40240" y="47530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51360" y="420840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42000" y="4199040"/>
            <a:ext cx="4752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0440" y="424656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51360" y="514512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42000" y="5135400"/>
            <a:ext cx="47520" cy="8604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70440" y="51735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776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82680" y="52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0760" y="4629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0000" y="4734000"/>
            <a:ext cx="9720" cy="190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6120" y="4734000"/>
            <a:ext cx="9720" cy="19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9720" y="4734000"/>
            <a:ext cx="266400" cy="1908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676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37400" y="4714920"/>
            <a:ext cx="5688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75308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7600" y="3483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70160" y="34448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69360" y="34354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68480" y="559440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6080" y="342432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9960" y="559440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0920" y="4629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99120" y="5508720"/>
            <a:ext cx="12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60520" y="578484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k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30:25Z</dcterms:modified>
  <cp:revision>158</cp:revision>
  <dc:subject/>
  <dc:title>EL 6XX</dc:title>
</cp:coreProperties>
</file>