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CD4D9-F682-47A3-A126-303CEA34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D6B8-FCCD-47C3-84F9-CD5358FB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2EA25-9310-465E-ABAC-15B2DF16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F832-7805-4EB8-8A29-355817C8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E0A2-E3BA-4495-9781-FDCDF468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5BCE-6440-44E9-BA38-11FA1ECD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9C58-998B-452B-816F-9C5DAE31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DC64-13A1-418D-A421-DE6113E2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6BCB-451F-4ACD-823F-34FBD4E0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50D8-66C5-420C-A231-76F714EF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4306-1589-4BFF-A253-7DA02C21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69B21-9B01-4B50-96BD-5C3E125E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B452-0C90-4E2C-88EE-1CF77BA8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DB97-26C2-4400-A37D-E7F476E8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72D0-E8FF-4BC7-9835-6BCE7AE8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4680-2E1B-4A2B-A520-667CE51C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C634-F471-4998-9391-DBF1C4A5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486AE-7EE4-4B2F-8430-FCB37051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C9944-FEEA-4616-983E-E97E66B9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29563-0581-43D2-ACD1-EB748C3C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16539-C053-4A5B-9CD2-EB91EDF7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86F9D-41FA-473A-9F7C-461467AF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0C9AD-DE3B-4F5A-8F74-D2D14938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CB49D-5C40-46B1-880D-69085E9C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D442-E492-42C6-B411-08B23A59CD4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337A-D9D0-418F-9DB9-A5A52B309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3E32-4440-4750-B889-F34FD9818D1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A393-2086-4772-B9BE-67F66061A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enguajes de Descripción de Siste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1994, el grupo de trabajo IEEE 1364 convierte el OVI LRM en un estándar IEEE (Diciembre 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ador 4 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3640" y="1341360"/>
            <a:ext cx="64803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4 bit up-counter with synchronous active high reset and active high enabl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counter (clock, reset, enable, counter_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npu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 clock, reset, en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put[3:0] counter_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Input ports data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re clock, reset, en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Output port data 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[3:0] counter_ou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Clock trig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 (posedge clo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gin: COU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reset == 1'b1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er_out &lt;= 4'b000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if (enable == 1'b1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er_out &lt;= #1 counter_out +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7272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ador 4 bits - Testbe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8000" y="1484280"/>
            <a:ext cx="4572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`include "counter.v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counter_tb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clock, reset, en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re[3:0] counter_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display("time\t clk reset enable counte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monitor("%g\t %b %b %b %b"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time, clock, reset, enable, counter_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ock =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e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abl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5 reset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0 rese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5 enable =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00 enabl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0 $finis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ador 4 bits - Testbe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68360" y="2205000"/>
            <a:ext cx="4572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ways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5 clock = ~cloc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 U_counter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oc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e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abl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_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14440" y="966960"/>
            <a:ext cx="811692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erilog – Sintaxis y Semán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milar a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nguaje case-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labras reservadas en minús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ínea simple: /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íneas múltiples: /* …..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úmeros en Veri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números negativos se representan en complemen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loques básicos del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jerarquía del diseño se crea instanciando módulos en otros 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instanciación de un módulo es su uso en un módulo de mayor jerarqu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puertos (ports) permiten la comunicación entre el módulo y su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odos los módulos tienen puertos, excepto el de nivel más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uer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puertos pueden ser input, output o in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2708280"/>
            <a:ext cx="61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[range_val:range_var] list_of_identifie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[range_val:range_var] list_of_identifie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out [range_val:range_var] list_of_identifie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3852720"/>
            <a:ext cx="82296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módulos pueden ser conectados implícitamente o explíci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63920" y="1715040"/>
            <a:ext cx="22291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2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dentificadores Jerárqu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sados en el módulo superior seguido por el identificador separado por un p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 para testbe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3611520"/>
            <a:ext cx="61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tb.U.u0.sum, tb.U.u2.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t: conexiones estructurales entre compo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ers: variable usadas para almacenar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981080"/>
          <a:ext cx="8229600" cy="3108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e, t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onex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, t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cable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d, tri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cable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0, tri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 up/pull down cuando el net no es dri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0, suppl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1 lógico const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r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rda el último valor, cuando driven por z (trist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Reg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981080"/>
          <a:ext cx="8229600" cy="2038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s sin sig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con signo de 32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sin signo de 6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punto flotante doble prec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amiento a Nivel Compuer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rilog posee primitivas tales como compuertas y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aramente usados en codificación RT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itivas de Compuer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981080"/>
          <a:ext cx="8229600" cy="2768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AND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NAND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OR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NOR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XOR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XNOR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1989000"/>
            <a:ext cx="64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gates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Port data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re out0,out1,out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in1,in2,in3,in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t U1(out0,in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d U2(out1,in1,in2,in3,in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or U3(out2,in1,in2,in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imitivas de Compuertas de Transmi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1981080"/>
          <a:ext cx="8229600" cy="3592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de transm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if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fer 3 estados, enable activo en 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i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fer 3 estados, enable activo en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or 3 estados, enable activo en 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or 3 estados, enable activo en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itivas de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981080"/>
          <a:ext cx="8229600" cy="2768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PMOS unidirec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p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PMOS resis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NMOS unidirec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n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NMOS resis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PMOS unidirec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CMOS resis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itivas de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981080"/>
          <a:ext cx="8229600" cy="3286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i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bidireccional (al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if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bidireccional (baj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ani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resistivo (al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anif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resistivo (baj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de paso bidirec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resistivo de pa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or pull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or pull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VHSIC (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ry High Speed Integrated Circuits)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dwar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criptio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do a mediados de los 80 por el Departamento de Defensa (DOD) y patrocinado por la IE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objetivo inicial era la creación de circuitos integrados de alta velo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ha convertido en uno de los estándares de la industria para la descripción de sistemas digi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lores 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981080"/>
          <a:ext cx="8229600" cy="18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o, bajo, fal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o, alto, verdad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o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impedancia, flot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onocido, no inicializ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981080"/>
          <a:ext cx="8229600" cy="3286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ngth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ation key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dr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0, suppl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0, strong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 dr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0, pull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capaci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 dr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0, weak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capaci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capaci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 impe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z0,highz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33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full adder tiene la siguiente tabla de verdad para la suma S y el carry Co en función de las entradas a, b y carry 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rive las funciones de la tabla y escriba una descripción en compuertas del circ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375240" y="1714680"/>
          <a:ext cx="2444760" cy="3585960"/>
        </p:xfrm>
        <a:graphic>
          <a:graphicData uri="http://schemas.openxmlformats.org/drawingml/2006/table">
            <a:tbl>
              <a:tblPr/>
              <a:tblGrid>
                <a:gridCol w="428760"/>
                <a:gridCol w="358920"/>
                <a:gridCol w="649080"/>
                <a:gridCol w="432000"/>
                <a:gridCol w="57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tar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la realidad las compuertas y switches tienen retar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rilog provee la capacidad de definir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ise: transición a uno de otro valor (0,x,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 : transición a cero de otro valor (1,x,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urn-off : transición a z de otro valor (0,1,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nimal: valor mínimo del ret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ypical: valor típico del ret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ximum: valor máximo del ret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Aritmé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inarios: +, -, *, /, % (módu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rios: +,- (usado para especificar el sig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división de enteros trunca la parte fr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resultado de una operación módulo toma el signo del primer oper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tipos de datos reg son usados para números sin signo (los números negativos son guardados en complemento a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Relaci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400356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resultado es un valor esca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si la relación es fa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 si la relación es verdad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X si alguno de los operandos tiene bit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890720"/>
          <a:ext cx="8229600" cy="18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lt;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inferior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gt;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uperior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lt;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inferior o igual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gt;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uperior o igual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de Igual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400356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operandos son comparados bit a bit, en caso de largos diferentes se llena con c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resultado es 0 (falso) o 1 (verdad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os operandos == y !=, el resultado es x si alguno de los operandos contiene un x o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os operandos === y !==, los bits con x y z son incluidos en el análisis de igual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890720"/>
          <a:ext cx="8229600" cy="18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=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igual a b incluyendo x y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!=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ferente de b incluyendo x y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igual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!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ferente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378900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expresiones son evaluadas de izquierda a derecha (&amp;&amp; y ||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evaluación para apenas se conoce el resul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resultado es un valor esca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 si la relación es fa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 si la relación es verda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 si alguno de los operandos tiene un bit 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1890720"/>
          <a:ext cx="8229600" cy="1460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ción ló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Bit-w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421920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operación es realizada tomando cada bit y comparándolo con el bit correspo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uno de los operandos es más corto, se rellena con 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7200" y="1890720"/>
          <a:ext cx="8229600" cy="219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exclu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~ o ~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 exclu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it-wise con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~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&amp; x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 &amp; x = x &amp; 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 | x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| x = x | 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^ x = 1 ^ x = x ^ 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^~ x = 1 ^~ x = x ^~ 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HDL es descrito en el estándar IEEE 1076 – 19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tros lenguajes existentes en el mercado son Verilog, System Verilog y ABEL (Advanced Boolean Equation Langu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milar a lenguajes de programación con importantes di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nguaje inherentemente paral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presenta el comportamiento de un dispositivo fís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orpora especificaciones tempo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cribe un sistema como una interconexión de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de Re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436536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dores u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alizan una operación bit-wise en un operando produciendo un bit d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bits x son tratados como en los operandos ant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1628640"/>
          <a:ext cx="8229600" cy="2556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~ o ~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Sh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386028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operando a la izquierda es corrido el número de posiciones indicado por el operando a la der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bits vacantes se llenan con 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2046240"/>
          <a:ext cx="8229600" cy="1095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 a la izquier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 a la derec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de Concate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oncatenación se expresa utilizando los caracteres { y }, con comas separando las expresiones entre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{a,b[3:0],c,4’b100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constantes sin signo no pueden ser usadas en concaten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de Repl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zados para replicar un grupo de bits n v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{n{m}} replica m n v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{3{a}} es equivalente a {a,a,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{b,{3{c,d}}} es equivalente a {b,c,d,c,d,c,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cedencia de Oper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890720"/>
          <a:ext cx="8002440" cy="2556000"/>
        </p:xfrm>
        <a:graphic>
          <a:graphicData uri="http://schemas.openxmlformats.org/drawingml/2006/table">
            <a:tbl>
              <a:tblPr/>
              <a:tblGrid>
                <a:gridCol w="4475160"/>
                <a:gridCol w="3527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bo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, multiplicación, división, mód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,~,*,/,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, 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,-,&lt;&lt;,&g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ón, igual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,&gt;,&lt;=,&gt;=,==,!=,===,!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,~&amp;,^,^~,|,~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ó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&amp;,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es de Abs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1916280"/>
            <a:ext cx="1871640" cy="115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 &lt;= A +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1916280"/>
            <a:ext cx="1871640" cy="115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88000" y="2131920"/>
            <a:ext cx="1728720" cy="757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48000" y="249084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1700280"/>
            <a:ext cx="5618160" cy="22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8880" y="3068640"/>
            <a:ext cx="168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orta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gorít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lujo de 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17440" y="3086280"/>
            <a:ext cx="18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ruc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ter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4724280"/>
            <a:ext cx="1871640" cy="1152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92520" y="5014800"/>
            <a:ext cx="750960" cy="571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4500360" y="3860640"/>
            <a:ext cx="64764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3860640"/>
            <a:ext cx="64908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47640" y="486900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í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structura Básica de un Archivo VHD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2492280"/>
            <a:ext cx="2520720" cy="3457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tidad VH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306864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terfa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declaración entida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4005360"/>
            <a:ext cx="172872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uer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arquitectu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uen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binat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5229360"/>
            <a:ext cx="129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ubprogra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3141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3321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8920" y="316404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uer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63920" y="1715040"/>
            <a:ext cx="22291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2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ace en 1984 como lenguaje propietario de modelamiento de hardware (simulació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tenece en sus orígenes a Gateway Design 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eñado a partir de HiLo (lenguaje HDL) y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nguaje no estándar en sus orí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imulador Verilog fue usado inicialmente en 19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dence compra Gateway en 1990, convirtiéndose en el propietario de Veri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mismo tiempo, Synopsys vendía la herramienta de síntesis usando Ver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990 cadence organiza el Open Verilog International (OVI), entregando el lengu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VI mejoró el Language Reference Manual (LRM) clarificando 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02T15:27:10Z</dcterms:modified>
  <cp:revision>183</cp:revision>
  <dc:subject/>
  <dc:title>EL 6XX</dc:title>
</cp:coreProperties>
</file>