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AEF4-863F-4974-B498-DF510BE5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9B02-8563-4038-B857-48988F38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D686-E86A-4566-A42E-2AAABAAF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6D22-8002-4CFD-A780-9E0A3DA5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8C72-7FB9-4479-9723-29F75C81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8F70-495E-4A19-A8EC-DF81011A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EA0A-F078-4003-BBCD-CD35A382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C43C-15DA-4973-A610-96FE2E7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11F6-ADB2-4005-B0C3-0532D64F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E761-39C5-4EF8-9E27-3EAC0C35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A49D-541D-4A22-A557-DB372B0F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C310-D4A1-4438-9266-9BF7711F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C7B5-0849-40C7-B4E2-EB0F4A55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7C10-0F5D-4EFC-89DA-5DDC4B8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ED88-B566-411E-B483-6595146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39A1-8142-49C2-A106-E14B8652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5FA8-E0EA-4D55-8752-6BCDB0EA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342E-EC2A-4735-BFF8-FD5C4109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544A-69E4-4CDB-BC38-B6F267E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BF41-AFFF-49F5-9CA4-C48B0C3D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06AB-7505-429A-B1E5-AAF6FD1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DFA2-BF83-4D6D-B42B-ADE4ADBA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83F3-C3F3-4C9C-967A-6FE8262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1D93-82D1-4BD7-B395-D8356D89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7F8-BDBF-4387-AB90-8FE76659A8C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1E2-7600-441A-A92C-0C206192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53D1-FB23-408D-9CB6-D1944B69044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21D4-CCC3-4B02-87D0-8F0609BB8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nguajes de Descripción de Siste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1994, el grupo de trabajo IEEE 1364 convierte el OVI LRM en un estándar IEEE (Diciembre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1341360"/>
            <a:ext cx="6480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4 bit up-counter with synchronous active high reset and active high enabl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 (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Input ports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Output port data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[3:0] count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Clock 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 (posedg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gin: 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eset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4'b00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enable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#1 counter_out +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272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1484280"/>
            <a:ext cx="4572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`include "counter.v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_tb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display("time\t clk reset enable count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monitor("%g\t %b %b %b %b"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time, 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rese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enable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0 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$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2205000"/>
            <a:ext cx="457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clock = ~clo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U_counter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440" y="966960"/>
            <a:ext cx="81169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 – Sintaxis y Semá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ilar 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case-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labras reservadas en minús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simple: 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s múltiples: /* …..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úmeros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números negativos se representan en complemen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loques básicos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jerarquía del diseño se crea instanciando módulos en otros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es su uso en un módulo de mayor jerarqu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(ports) permiten la comunicación entre el módulo y su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odos los módulos tienen puertos, excepto el de nivel má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uertos pueden ser input, output o i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708280"/>
            <a:ext cx="61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o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3852720"/>
            <a:ext cx="82296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módulos pueden ser conectados implícitamente o explíci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dentificadores Jerárqu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sados en el módulo superior seguido por el identificador separado por un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 para testbe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361152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b.U.u0.sum, tb.U.u2.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t: conexiones estructurales entre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ers: variable usadas para almacenar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981080"/>
          <a:ext cx="8229600" cy="310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e, 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ex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, t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d, tri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0, tri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up/pull down cuando el net no es dri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1 lógico cons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da el último valor, cuando driven por z (trist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981080"/>
          <a:ext cx="8229600" cy="2038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 sin sig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n signo de 32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sin signo de 6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punto flotante doble 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amiento a Nivel Compu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osee primitivas tales como compuertas y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aramente usados en codificación R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Compuer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198900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gates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Port data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re out0,out1,ou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in1,in2,in3,in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U1(out0,in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d U2(out1,in1,in2,in3,in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or U3(out2,in1,in2,in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imitivas de Compuertas de Trans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981080"/>
          <a:ext cx="8229600" cy="359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de transm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C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de paso b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de p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VHSIC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y High Speed Integrated Circuits)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dwar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do a mediados de los 80 por el Departamento de Defensa (DOD) y patrocinado por la IE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bjetivo inicial era la creación de circuitos integrados de alta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ha convertido en uno de los estándares de la industria para la descripción de sistemas digi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81080"/>
          <a:ext cx="8229600" cy="18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o, bajo, 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o, alto, verd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o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impedancia, flo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nocido, no iniciali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 key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0, stron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0, pul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0, weak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 impe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z0,highz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en compuertas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realidad las compuertas y switches tienen retar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rovee la capacidad de defini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ise: transición a uno de otro valor (0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 : transición a cero de otro valor (1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-off : transición a z de otro valor (0,1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mal: valor mín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ypical: valor típic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um: valor máx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Aritm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s: +, -, *, /, % (módu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rios: +,- (usado para especificar el sig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ivisión de enteros trunca la parte f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de una operación módulo toma el signo del primer op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ipos de datos reg son usados para números sin signo (los números negativos son guardados en complemento a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Re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si alguno de los operandos tiene bit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operandos son comparados bit a bit, en caso de largos diferentes se llena con 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0 (falso) o 1 (verdad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 y !=, el resultado es x si alguno de los operandos contiene un x o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= y !==, los bits con x y z son incluidos en el análisis de 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expresiones son evaluadas de izquierda a derecha (&amp;&amp; y ||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valuación para apenas se conoce el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si alguno de los operandos tiene un bit 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890720"/>
          <a:ext cx="8229600" cy="146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 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Bit-w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421920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operación es realizada tomando cada bit y comparándolo con el bit correspo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uno de los operandos es más corto, se rellena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890720"/>
          <a:ext cx="8229600" cy="219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t-wise co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~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&amp; x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&amp; x = x &amp;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| x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| x = x |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 x = 1 ^ x = x ^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~ x = 1 ^~ x = x ^~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HDL es descrito en el estándar IEEE 1076 – 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lenguajes existentes en el mercado son Verilog, System Verilog y ABEL (Advanced Boolean Equation Langu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milar a lenguajes de programación con importantes di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nguaje inherentemente paral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 el comportamiento de un dispositiv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orpora especificaciones tempo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be un sistema como una interconexión de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zan una operación bit-wise en un operando produciendo un bit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bits x son tratados como en los operando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628640"/>
          <a:ext cx="8229600" cy="255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operando a la izquierda es corrido el número de posiciones indicado por el operando a la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bits vacantes se llenan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2046240"/>
          <a:ext cx="8229600" cy="1095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izqui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de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Concate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catenación se expresa utilizando los caracteres { y }, con comas separando las expresiones entre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{a,b[3:0],c,4’b100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nstantes sin signo no pueden ser usadas en concate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para replicar un grupo de bits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n{m}} replica m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3{a}} es equivalente a {a,a,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b,{3{c,d}}} es equivalente a {b,c,d,c,d,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cedencia de Op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890720"/>
          <a:ext cx="8002440" cy="2556000"/>
        </p:xfrm>
        <a:graphic>
          <a:graphicData uri="http://schemas.openxmlformats.org/drawingml/2006/table">
            <a:tbl>
              <a:tblPr/>
              <a:tblGrid>
                <a:gridCol w="4475160"/>
                <a:gridCol w="352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o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, multiplicación, división, mód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,~,*,/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, 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,-,&lt;&lt;,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ón, igual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,&gt;,&lt;=,&gt;=,==,!=,===,!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,~&amp;,^,^~,|,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,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&lt;=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88000" y="2131920"/>
            <a:ext cx="1728720" cy="75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48000" y="249084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1700280"/>
            <a:ext cx="5618160" cy="22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8880" y="3068640"/>
            <a:ext cx="168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rt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lujo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17440" y="30862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er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4724280"/>
            <a:ext cx="1871640" cy="115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92520" y="5014800"/>
            <a:ext cx="750960" cy="571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4500360" y="3860640"/>
            <a:ext cx="64764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3860640"/>
            <a:ext cx="64908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7640" y="4869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tructura Básica de un Archivo VHD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2520720" cy="345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idad V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declaración entid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005360"/>
            <a:ext cx="172872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arquitect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bina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229360"/>
            <a:ext cx="129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prog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33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8920" y="31640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ce en 1984 como lenguaje propietario de modelamiento de hardware (simul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tenece en sus orígenes a Gateway Design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do a partir de HiLo (lenguaje HDL) 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no estándar en sus orí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mulador Verilog fue usado inicialmente en 19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ence compra Gateway en 1990, convirtiéndose en el propietario de Veri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mismo tiempo, Synopsys vendía la herramienta de síntesis usando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90 cadence organiza el Open Verilog International (OVI), entregando el lengu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VI mejoró el Language Reference Manual (LRM) clarificando 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2T15:27:10Z</dcterms:modified>
  <cp:revision>183</cp:revision>
  <dc:subject/>
  <dc:title>EL 6XX</dc:title>
</cp:coreProperties>
</file>