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4DF6-5812-41B1-A06F-04A22FBE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3CD8-62E7-4312-B025-0EE906A0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2792-795C-423B-98A5-4663CCE2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8813-717A-4068-BCC7-B5BA995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AAD0-0FB8-4EAC-BB45-4A55296E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42BA-912D-4E3E-AC9C-6E10B260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26A-CB23-4770-8752-6F731C76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8FE-C17B-4958-B979-72CFD6EE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E5C-5D4F-434F-99C5-9E75F3C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AF21-C887-474D-8391-D77BE73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618D-41BD-4D29-B28C-8B9F7FB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3D91-DACB-43DC-A449-A6B43E87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BE42-4D11-44FF-8C6C-C04EA99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4C27-AE82-4466-B64B-AAC5D59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9D7-EAAF-48DF-AE1F-A025456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286-785F-4FA0-84DC-3EDD613F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53BD-B0BE-4881-8891-A28C6B16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5888-60C2-4548-88A1-54B2A97D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6F7D-96CA-4438-9DC6-74836CE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5E78-2904-490F-AF0C-7A7DE864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4FD6-5F36-4CF7-9603-4BDAA2CF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2F2F-46B3-4F30-A4BB-1A4ED75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2489-0EAA-49D6-80BD-CE0A3CB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D12F-11F1-419A-A607-A5EA6B3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F3A-662C-4612-AC9A-D88DEF1ED96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AB9-8421-4334-BB15-17E47703F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2B0B-2F90-410A-9C42-83A59FB5994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6DD-F42D-4B7E-A9A6-DD517D86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jes de Descrip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4, el grupo de trabajo IEEE 1364 convierte el OVI LRM en un estándar IEEE (Diciemb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341360"/>
            <a:ext cx="6480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4 bit up-counter with synchronous active high reset and active high enabl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 (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Input ports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Output port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[3:0] count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Clock 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posedg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: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set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4'b00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enable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#1 counter_out 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27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4842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`include "counter.v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_tb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display("time\t clk reset enable count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monitor("%g\t %b %b %b %b"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time, 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rese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enable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0 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20500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ock = ~clo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U_counter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40" y="966960"/>
            <a:ext cx="81169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 – Sintaxis y 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ilar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case-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labras reservadas en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simple: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s múltiples: /* …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úmeros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números negativos se representan en complemen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loques básic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jerarquía del diseño se crea instanciando módulos en otros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es su uso en un módulo de mayor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(ports) permiten la comunicación entre el módulo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dos los módulos tienen puertos, excepto el de nivel má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uertos pueden ser input, output o 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o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52720"/>
            <a:ext cx="8229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módulos pueden ser conectados implícitamente o explíc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dentificadores Jerárqu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sados en el módulo superior seguido por el identificador separado por un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test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115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b.U.u0.sum, tb.U.u2.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t: conexiones estructurales entre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ers: variable usadas para almacenar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1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, 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, t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, tri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0, tr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up/pull down cuando el net no es 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 lógico 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el último valor, cuando driven por z (tri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981080"/>
          <a:ext cx="8229600" cy="203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 sin sig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n signo de 3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sin signo de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punto flotante doble 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amiento a Nivel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primitivas tales como compuertas y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mente usados en codificación R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Compuer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198900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gate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ort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 out0,out1,ou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in1,in2,in3,i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U1(out0,i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 U2(out1,in1,in2,in3,in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 U3(out2,in1,in2,i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de Compuertas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5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C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de paso b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de 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HSIC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y High Speed Integrated Circuits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dwar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do a mediados de los 80 por el Departamento de Defensa (DOD) y patrocinado por la I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bjetivo inicial era la creación de circuitos integrados de alta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ha convertido en uno de los estándares de la industria para la descripción de sistemas digi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81080"/>
          <a:ext cx="8229600" cy="18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o, bajo, 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o, alto, verd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o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impedancia, flo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do, no inicia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 key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0, stron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0, pul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0, wea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 impe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z0,highz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en compuertas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realidad las compuertas y switches tienen ret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rovee la capacidad de defini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se: transición a uno de otro valor (0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 : transición a cero de otro valor (1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-off : transición a z de otro valor (0,1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mal: valor mín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ypical: valor típic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um: valor máx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s: +, -, *, /, % (mód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rios: +,- (usado para especificar el sig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ivisión de enteros trunca la parte f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de una operación módulo toma el signo del primer op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ipos de datos reg son usados para números sin signo (los números negativos son guardados en complemento a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Re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si alguno de los operandos tiene bi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perandos son comparados bit a bit, en caso de largos diferentes se llena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0 (falso) o 1 (verdad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 y !=, el resultado es x si alguno de los operandos contiene un x o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= y !==, los bits con x y z son incluidos en el análisis de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expresiones son evaluadas de izquierda a derecha (&amp;&amp; y |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valuación para apenas se conoce el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si alguno de los operandos tiene un bit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890720"/>
          <a:ext cx="8229600" cy="146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 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Bit-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421920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operación es realizada tomando cada bit y comparándolo con el bit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uno de los operandos es más corto, se rellena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890720"/>
          <a:ext cx="8229600" cy="219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t-wise c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~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&amp; 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&amp; x = x &amp;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| 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| x = x |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 x = 1 ^ x = x ^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~ x = 1 ^~ x = x ^~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HDL es descrito en el estándar IEEE 1076 –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lenguajes existentes en el mercado son Verilog, System Verilog y ABEL (Advanced Boolean Equation Langu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lenguajes de programación con importantes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inherentemente paral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 el comportamiento de un dispositiv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rpora especificaciones temp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e un sistema como una interconexión de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n una operación bit-wise en un operando produciendo un bit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bits x son tratados como en los operand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28640"/>
          <a:ext cx="8229600" cy="25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perando a la izquierda es corrido el número de posiciones indicado por el operand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bits vacantes se llenan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46240"/>
          <a:ext cx="8229600" cy="109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Concate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catenación se expresa utilizando los caracteres { y }, con comas separando las expresiones entre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{a,b[3:0],c,4’b100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nstantes sin signo no pueden ser usadas en concate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para replicar un grupo de bits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n{m}} replica m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3{a}} es equivalente a {a,a,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b,{3{c,d}}} es equivalente a {b,c,d,c,d,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cedencia de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890720"/>
          <a:ext cx="8002440" cy="2556000"/>
        </p:xfrm>
        <a:graphic>
          <a:graphicData uri="http://schemas.openxmlformats.org/drawingml/2006/table">
            <a:tbl>
              <a:tblPr/>
              <a:tblGrid>
                <a:gridCol w="4475160"/>
                <a:gridCol w="35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, multiplicación, división, mód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,~,*,/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,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-,&lt;&lt;,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, 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,&gt;,&lt;=,&gt;=,==,!=,===,!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,~&amp;,^,^~,|,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,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&lt;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2131920"/>
            <a:ext cx="1728720" cy="75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48000" y="24908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700280"/>
            <a:ext cx="561816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8880" y="306864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rt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lujo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7440" y="3086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1871640" cy="115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92520" y="5014800"/>
            <a:ext cx="75096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4500360" y="386064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860640"/>
            <a:ext cx="649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7640" y="4869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tructura Básica de un Archivo VH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2520720" cy="345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idad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declaración ent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005360"/>
            <a:ext cx="1728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rquitec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bina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22936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3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3164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ce en 1984 como lenguaje propietario de modelamiento de hardware (simul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en sus orígenes a Gateway Desig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do a partir de HiLo (lenguaje HDL)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no estándar en su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mulador Verilog fue usado inicialmente en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ence compra Gateway en 1990, convirtiéndose en el propietario de Veri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mismo tiempo, Synopsys vendía la herramienta de síntesis usando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0 cadence organiza el Open Verilog International (OVI), entregando 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 mejoró el Language Reference Manual (LRM) clarificando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2T15:27:10Z</dcterms:modified>
  <cp:revision>183</cp:revision>
  <dc:subject/>
  <dc:title>EL 6XX</dc:title>
</cp:coreProperties>
</file>