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05DE-E862-4FA3-B6A2-98E08321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D210-4A84-40D4-82F3-DE86638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A6EB-F47E-4EA0-9DE8-54E915FC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6AD77-FB21-458D-97C7-A57743B7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FEFD-6881-40B1-B4C6-1245187A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5C9C-C123-4FF8-AF94-4F1FCB1E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580-1BA3-46DE-B30D-79A2D884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689A-BEFE-4D44-80DA-9B8CA879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F2F6-59A4-4727-9E0C-F389EA66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D36F-6654-469F-8187-52EA10B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CC98-1F27-44E0-8D4E-DD0F1360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09DB-4BDB-47C4-952E-54AD249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6A9A-ADAF-4945-AC14-D98178C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8889-1347-4328-ACC7-628F9317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BF2E-E875-4CB7-BDAF-25535A34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3D10-C6E4-4BA8-8791-74754B51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8CFA-C3D6-4449-AD10-ECB4A33A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FA66-6417-4901-AADF-272AB81D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D5B8-C36C-4177-B3F5-749022F5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0524F-A78C-4668-A320-6EAFA43A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F219-C278-4AFA-AEB3-1FE7E5A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6191-77F7-4BE9-986C-96AEC8AC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2DE3-03F6-4537-9B32-6966A16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1336-5196-4E1E-81F9-DE7E504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D62-DA0D-49E6-8AF3-9EBA1DB5529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D3D-7E07-4690-A1AF-B9562706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F574-B558-4AAE-9E53-CC78BF6C7DD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4006-FF15-4E9F-8B25-16F0F8312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nguajes de Descripción de Siste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1994, el grupo de trabajo IEEE 1364 convierte el OVI LRM en un estándar IEEE (Diciembre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341360"/>
            <a:ext cx="6480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4 bit up-counter with synchronous active high reset and active high enabl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 (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Input ports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Output port data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[3:0] count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Clock trig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posedg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egin: CO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eset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4'b00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enable == 1'b1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unter_out &lt;= #1 counter_out 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272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1484280"/>
            <a:ext cx="4572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`include "counter.v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_tb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ock, reset, e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re[3:0] counter_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display("time\t clk reset enable count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monitor("%g\t %b %b %b %b"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time, clock, reset, enable, 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reset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rese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enable =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0 enabl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0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dor 4 bits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2205000"/>
            <a:ext cx="457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ock = ~cloc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 U_counter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c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bl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er_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440" y="966960"/>
            <a:ext cx="811692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 – Sintaxis y Semán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ilar 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case-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labras reservadas en minús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simple: 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s múltiples: /* …..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úmeros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números negativos se representan en complemen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loques básicos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jerarquía del diseño se crea instanciando módulos en otros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es su uso en un módulo de mayor jerarqu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(ports) permiten la comunicación entre el módulo y su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odos los módulos tienen puertos, excepto el de nivel más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uertos pueden ser input, output o i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708280"/>
            <a:ext cx="61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out [range_val:range_var] list_of_identifi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852720"/>
            <a:ext cx="82296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módulos pueden ser conectados implícitamente o explíci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dentificadores Jerárqu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sados en el módulo superior seguido por el identificador separado por un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 para testbe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361152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b.U.u0.sum, tb.U.u2.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t: conexiones estructurales entre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ers: variable usadas para almacenar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81080"/>
          <a:ext cx="8229600" cy="310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, 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con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, t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d, tri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cable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0, tri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up/pull down cuando el net no es dri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1 lógico cons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rda el último valor, cuando driven por z (trist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981080"/>
          <a:ext cx="8229600" cy="203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 sin sig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n signo de 32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sin signo de 64 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punto flotante doble 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amiento a Nivel Compu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primitivas tales como compuertas y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aramente usados en codificación R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Compuer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AND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XNOR de n entr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1989000"/>
            <a:ext cx="64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gates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Port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re out0,out1,out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in1,in2,in3,in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t U1(out0,in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d U2(out1,in1,in2,in3,in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or U3(out2,in1,in2,in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mitivas de Compuertas de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8229600" cy="35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erta de transm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or 3 estados, enable activo en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981080"/>
          <a:ext cx="8229600" cy="2768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N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PMOS un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 CMOS resis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de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bidireccional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al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if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(baj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de paso bidirec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tor resistivo de p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or pull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VHSIC 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y High Speed Integrated Circuits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dwar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do a mediados de los 80 por el Departamento de Defensa (DOD) y patrocinado por la IE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bjetivo inicial era la creación de circuitos integrados de alta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ha convertido en uno de los estándares de la industria para la descripción de sistemas digi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81080"/>
          <a:ext cx="8229600" cy="18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o, bajo, 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o, alto, verd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o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impedancia, flot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ocido, no inicializ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981080"/>
          <a:ext cx="8229600" cy="32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ation key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0, suppl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p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0, stron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0, pul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 dr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0, weak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capaci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 impe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z0,highz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en compuertas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realidad las compuertas y switches tienen retar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rovee la capacidad de defini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ise: transición a uno de otro valor (0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 : transición a cero de otro valor (1,x,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-off : transición a z de otro valor (0,1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imal: valor mín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ypical: valor típic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um: valor máximo del ret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Aritmé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s: +, -, *, /, % (módu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rios: +,- (usado para especificar el sig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ivisión de enteros trunca la parte f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de una operación módulo toma el signo del primer op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ipos de datos reg son usados para números sin signo (los números negativos son guardados en complemento a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Re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si alguno de los operandos tiene bit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nf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gt;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uperior o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Igual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400356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operandos son comparados bit a bit, en caso de largos diferentes se llena con 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0 (falso) o 1 (verdad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 y !=, el resultado es x si alguno de los operandos contiene un x o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os operandos === y !==, los bits con x y z son incluidos en el análisis de igual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90720"/>
          <a:ext cx="8229600" cy="18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 incluyendo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igual 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!=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diferente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expresiones son evaluadas de izquierda a derecha (&amp;&amp; y ||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valuación para apenas se conoce el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resultado es un valor esca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si la relación es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 si la relación es verdad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si alguno de los operandos tiene un bit 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890720"/>
          <a:ext cx="8229600" cy="146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 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Bit-w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421920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operación es realizada tomando cada bit y comparándolo con el bit correspo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uno de los operandos es más corto, se rellena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890720"/>
          <a:ext cx="8229600" cy="219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exclu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t-wise c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~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&amp; x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&amp; x = x &amp;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 | x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| x = x |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 x = 1 ^ x = x ^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 ^~ x = 1 ^~ x = x ^~ x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HDL es descrito en el estándar IEEE 1076 – 19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tros lenguajes existentes en el mercado son Verilog, System Verilog y ABEL (Advanced Boolean Equation Langu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lenguajes de programación con importantes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nguaje inherentemente paral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 el comportamiento de un dispositiv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orpora especificaciones tempo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be un sistema como una interconexión de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4365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zan una operación bit-wise en un operando produciendo un bit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bits x son tratados como en los operandos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628640"/>
          <a:ext cx="8229600" cy="2556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~ o ~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operando a la izquierda es corrido el número de posiciones indicado por el operando a la der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bits vacantes se llenan con c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2046240"/>
          <a:ext cx="8229600" cy="1095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izqui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a la de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Concate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oncatenación se expresa utilizando los caracteres { y }, con comas separando las expresiones entre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{a,b[3:0],c,4’b100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nstantes sin signo no pueden ser usadas en concate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eradores de Re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para replicar un grupo de bits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n{m}} replica m n v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3{a}} es equivalente a {a,a,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b,{3{c,d}}} es equivalente a {b,c,d,c,d,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cedencia de Op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890720"/>
          <a:ext cx="8002440" cy="2556000"/>
        </p:xfrm>
        <a:graphic>
          <a:graphicData uri="http://schemas.openxmlformats.org/drawingml/2006/table">
            <a:tbl>
              <a:tblPr/>
              <a:tblGrid>
                <a:gridCol w="4475160"/>
                <a:gridCol w="352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bo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, multiplicación, división, mód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,~,*,/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, 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,-,&lt;&lt;,&g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ón, 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,&gt;,&lt;=,&gt;=,==,!=,===,!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,~&amp;,^,^~,|,~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,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&lt;=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16280"/>
            <a:ext cx="1871640" cy="115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88000" y="2131920"/>
            <a:ext cx="1728720" cy="75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48000" y="249084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1700280"/>
            <a:ext cx="5618160" cy="22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8880" y="3068640"/>
            <a:ext cx="168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rt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lujo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17440" y="30862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erconex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4724280"/>
            <a:ext cx="1871640" cy="115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92520" y="5014800"/>
            <a:ext cx="75096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4500360" y="3860640"/>
            <a:ext cx="647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3860640"/>
            <a:ext cx="64908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7640" y="4869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structura Básica de un Archivo VH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2520720" cy="345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idad V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declaración entid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005360"/>
            <a:ext cx="17287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arquitect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u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bina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229360"/>
            <a:ext cx="129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33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35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8920" y="31640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u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3920" y="1715040"/>
            <a:ext cx="2229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ace en 1984 como lenguaje propietario de modelamiento de hardware (simulaci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en sus orígenes a Gateway Design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do a partir de HiLo (lenguaje HDL) 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no estándar en sus orí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Genera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imulador Verilog fue usado inicialmente en 19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dence compra Gateway en 1990, convirtiéndose en el propietario de Veri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mismo tiempo, Synopsys vendía la herramienta de síntesis usando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1990 cadence organiza el Open Verilog International (OVI), entregando el 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VI mejoró el Language Reference Manual (LRM) clarificando 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2T15:27:10Z</dcterms:modified>
  <cp:revision>183</cp:revision>
  <dc:subject/>
  <dc:title>EL 6XX</dc:title>
</cp:coreProperties>
</file>