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5EB4-624E-4D2A-B303-B3B56E93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43F9-08E5-4C3D-BCF3-49DABDF9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7242-D3E7-4437-8CFA-64ACF1DA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B43D-8F49-4295-B2FD-FEA8F285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F178-9885-4A2E-A806-05D097A5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A495-7217-4FE6-99B6-794C98FF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65BA-36FB-429D-A07C-81DB8A61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FAC-2DA3-4BEF-A36E-5ADA47C5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259F-FE06-4B4C-9252-2BC2E99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28C9-6120-46A0-9109-5FAAE427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62FA-78C1-4914-AC77-9183753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0412-9C6F-47EB-90C9-8C1333B2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7B3C-A615-46B9-989D-2D4F7DC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77E7-5BFB-4C09-BCB2-4E11743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D89E-E324-4320-947B-2DFC6F26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4D82-FB13-46AF-8F64-E1F1B6DE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2B28-7A90-41AB-AE3A-06BC586A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B6F5-91F3-421E-AD36-D1F95239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7070-2B0E-414C-BFE5-CD1ED951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4894-9F8D-4895-8DF1-338D0D9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F0BE-082E-4F4B-9748-43A2FC9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C2B5-C0C4-409A-AFE0-C765358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9E90-6F41-4FCE-89CC-DD75C91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8515-57A1-47EB-B61D-2279B2D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D2F6-905F-40BF-8FE3-23DF5D850D2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CF5-7AAD-4254-A1E8-5A7B8E28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9DE-1D3B-48F3-8CC3-DCD82490FF4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1503-8F4A-4FD4-AE8C-9099688B2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81080"/>
          <a:ext cx="8229600" cy="3830760"/>
        </p:xfrm>
        <a:graphic>
          <a:graphicData uri="http://schemas.openxmlformats.org/drawingml/2006/table">
            <a:tbl>
              <a:tblPr/>
              <a:tblGrid>
                <a:gridCol w="3106800"/>
                <a:gridCol w="2808360"/>
                <a:gridCol w="1439640"/>
                <a:gridCol w="874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Integrated Circuits (2nd Edi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 M. Rabaey, Anantha Chandrakasan, Borivoje Niko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Design of Digital Integrated Circuit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A. Hodges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ce G. Jackson, Resve Saleh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Graw-H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Syn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inivas Devadas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Graw-Hill Profession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Student's Guide to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ter J. Ashende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gan Kaufman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System Design with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 Zwolinsk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Digital Design with the Verilog(TM) 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 D. Cilett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Design with SystemC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orsten Grötker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nge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ses intera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actu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ctura de artículos a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los conceptos básicos asociados a los circuitos inte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zar los conceptos asociados al diseño de circuitos integrados digit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os algoritmos utilizados en las herramientas de diseño de circuitos integrados digi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as distintas herramientas utilizadas para el diseño de circuitos integrados digita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lizar diseños pequeños en forma manu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 proyecto de diseño utilizando herramientas líderes d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ctor Grimblatt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n Microelectrónica, INP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lectrónico, UTF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naging Director, Synopsys Chile R&amp;D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mail: vgrimbla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l of: 714 6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y 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storia de los circuitos inte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integrados digitales y ana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í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máquinas de estado finitos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top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circuitos integrado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máquinas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s de descripción de circuitos integrados (Verilog, VHDL, Syste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ar un circuito integrado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tilización de las herramientas Synop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todología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valuará avance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parte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consideradas parte de la ma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den ser parte de pruebas y/o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057400"/>
          <a:ext cx="6400800" cy="3043080"/>
        </p:xfrm>
        <a:graphic>
          <a:graphicData uri="http://schemas.openxmlformats.org/drawingml/2006/table">
            <a:tbl>
              <a:tblPr/>
              <a:tblGrid>
                <a:gridCol w="4724640"/>
                <a:gridCol w="1676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(2 en el se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(*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6T13:58:51Z</dcterms:modified>
  <cp:revision>32</cp:revision>
  <dc:subject/>
  <dc:title>EL 6XX</dc:title>
</cp:coreProperties>
</file>