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32E911-23DC-4FF0-9924-B6BACBEDD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83CCB0-89B8-47D7-840E-210B3B3AC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65401E-609E-4E2B-A934-A95DD1008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48D0B4-86C4-44C7-BFF3-97708FB19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E40A5-99D5-4A8A-82A0-C9BC509CD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F2A29-5DF3-4E31-9063-4B9F863C8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CE766-55AC-4DA6-9969-C7227AEFB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EA923-677F-4E81-9CC0-6961C7DEA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2C93C-243C-4B69-A995-82FFE3891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C2145-3A31-435E-A4BC-57E6D2078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BB54B-77D2-46C8-ABFE-436E38B8F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08C515-521D-4D41-9600-D561FCF31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19C87-ECEB-4F0B-8617-053A2D005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57F3F-AA56-4B86-B968-C7406FC9D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54FFE-2B34-4803-AEDB-F16D648B2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4841A-ABA6-4F8C-A529-FFFE4E6D3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FC346-1AFC-4CC6-BC01-D3EFD3265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245806-EE09-4632-AD08-8481E12BE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99AE59-DE23-43B7-80D4-0B8B2EE37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41756F-4639-4F7C-BD10-467B229C9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6D165D-08F8-450E-A395-1425432E1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B70DC3-9BDE-4597-BBF2-415369F3A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03E3DA-46EC-406B-BD87-95CAC89F9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B16C65-3E87-427C-849F-B10A56BF5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1C7BC-6F4C-4515-B3B8-825F509D171F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>
            <a:off x="608760" y="6335640"/>
            <a:ext cx="66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EL 65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>
            <a:off x="7860240" y="633564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45AE1-019F-4176-80D2-46EF9DC385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3940920" y="6335640"/>
            <a:ext cx="1582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  <a:ea typeface="Arial"/>
              </a:rPr>
              <a:t>©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 Victor Grimblatt 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"/>
          <p:cNvGrpSpPr/>
          <p:nvPr/>
        </p:nvGrpSpPr>
        <p:grpSpPr>
          <a:xfrm>
            <a:off x="8155080" y="229320"/>
            <a:ext cx="587880" cy="532800"/>
            <a:chOff x="8155080" y="229320"/>
            <a:chExt cx="587880" cy="532800"/>
          </a:xfrm>
        </p:grpSpPr>
        <p:pic>
          <p:nvPicPr>
            <p:cNvPr id="19" name="" descr=""/>
            <p:cNvPicPr/>
            <p:nvPr/>
          </p:nvPicPr>
          <p:blipFill>
            <a:blip r:embed="rId2"/>
            <a:stretch/>
          </p:blipFill>
          <p:spPr>
            <a:xfrm>
              <a:off x="8155080" y="304920"/>
              <a:ext cx="58788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" name=""/>
            <p:cNvSpPr txBox="1"/>
            <p:nvPr/>
          </p:nvSpPr>
          <p:spPr>
            <a:xfrm rot="19363200">
              <a:off x="8152920" y="405000"/>
              <a:ext cx="609840" cy="86400"/>
            </a:xfrm>
            <a:prstGeom prst="rect">
              <a:avLst/>
            </a:prstGeom>
          </p:spPr>
          <p:txBody>
            <a:bodyPr wrap="none" lIns="90000" rIns="90000" tIns="39960" bIns="39960" anchor="ctr" anchorCtr="1">
              <a:prstTxWarp prst="textSlantUp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Motor  Controller</a:t>
              </a:r>
              <a:endPara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8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61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5DAEE-0D8A-4BC3-AE7A-40CAFC27A905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760" y="6335640"/>
            <a:ext cx="66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EL 65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860240" y="633564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45404-0105-4801-8DA7-9345484B17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940920" y="6335640"/>
            <a:ext cx="1582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  <a:ea typeface="Arial"/>
              </a:rPr>
              <a:t>©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 Victor Grimblatt 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8155080" y="229320"/>
            <a:ext cx="587880" cy="532800"/>
            <a:chOff x="8155080" y="229320"/>
            <a:chExt cx="587880" cy="532800"/>
          </a:xfrm>
        </p:grpSpPr>
        <p:pic>
          <p:nvPicPr>
            <p:cNvPr id="79" name="" descr=""/>
            <p:cNvPicPr/>
            <p:nvPr/>
          </p:nvPicPr>
          <p:blipFill>
            <a:blip r:embed="rId2"/>
            <a:stretch/>
          </p:blipFill>
          <p:spPr>
            <a:xfrm>
              <a:off x="8155080" y="304920"/>
              <a:ext cx="58788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"/>
            <p:cNvSpPr txBox="1"/>
            <p:nvPr/>
          </p:nvSpPr>
          <p:spPr>
            <a:xfrm rot="19363200">
              <a:off x="8152920" y="405000"/>
              <a:ext cx="609840" cy="86400"/>
            </a:xfrm>
            <a:prstGeom prst="rect">
              <a:avLst/>
            </a:prstGeom>
          </p:spPr>
          <p:txBody>
            <a:bodyPr wrap="none" lIns="90000" rIns="90000" tIns="39960" bIns="39960" anchor="ctr" anchorCtr="1">
              <a:prstTxWarp prst="textSlantUp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Motor  Controller</a:t>
              </a:r>
              <a:endPara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8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971800" y="2068200"/>
            <a:ext cx="60199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ffffff"/>
                </a:solidFill>
                <a:latin typeface="Arial"/>
              </a:rPr>
              <a:t>EL 653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Introducció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Bibliografí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457200" y="1981080"/>
          <a:ext cx="8229600" cy="3830760"/>
        </p:xfrm>
        <a:graphic>
          <a:graphicData uri="http://schemas.openxmlformats.org/drawingml/2006/table">
            <a:tbl>
              <a:tblPr/>
              <a:tblGrid>
                <a:gridCol w="3106800"/>
                <a:gridCol w="2808360"/>
                <a:gridCol w="1439640"/>
                <a:gridCol w="874800"/>
              </a:tblGrid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igital Integrated Circuits (2nd Edition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an M. Rabaey, Anantha Chandrakasan, Borivoje Nikoli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entice Hal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alysis and Design of Digital Integrated Circuits</a:t>
                      </a: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avid A. Hodges,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orace G. Jackson, Resve Saleh</a:t>
                      </a: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cGraw-Hil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gic Synthes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rinivas Devadas, et al</a:t>
                      </a: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cGraw-Hill Professional</a:t>
                      </a: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he Student's Guide to VHDL</a:t>
                      </a: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eter J. Ashenden</a:t>
                      </a: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rgan Kaufmann</a:t>
                      </a: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igital System Design with VHDL</a:t>
                      </a: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ark Zwolinski</a:t>
                      </a: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entice Hall</a:t>
                      </a: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dvanced Digital Design with the Verilog(TM) HDL</a:t>
                      </a: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ichael D. Ciletti</a:t>
                      </a: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entice Hal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ystem Design with SystemC</a:t>
                      </a: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horsten Grötker, et al</a:t>
                      </a: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pringer</a:t>
                      </a: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Comentarios Gener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Clases interactiv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Discusión de temas de actua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Lectura de artículos atinge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Discusión de temas de negoc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Objetiv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389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efinir los conceptos básicos asociados a los circuitos integrad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nalizar los conceptos asociados al diseño de circuitos integrados digitales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nocer los algoritmos utilizados en las herramientas de diseño de circuitos integrados digitales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nocer las distintas herramientas utilizadas para el diseño de circuitos integrados digitales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Objetivo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5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Realizar diseños pequeños en forma manual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Realizar un proyecto de diseño utilizando herramientas líderes del merca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Profes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Victor Grimblatt 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Ingeniero Civil en Microelectrónica, INP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Ingeniero Civil Electrónico, UTF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Managing Director, Synopsys Chile R&amp;D Cen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mail: vgrimbla@ing.uchile.c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Tel of: 714 68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Contenid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Circuitos Integra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nceptos y defini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Historia de los circuitos integr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ircuitos integrados digitales y analóg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Metodologías de Diseñ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iseño de lógica combinato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iseño de máquinas de estado finitos (FS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iseño top d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iseño bottom 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iseño de circuitos integrados digit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Contenido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Herramientas de Diseñ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iseño y optimización de lógica combinato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iseño y optimización de máquinas de estados fini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iseño y optimización de AS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enguajes de descripción de circuitos integrados (Verilog, VHDL, System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Casos Práct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Proyec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Diseñar un circuito integrado digit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Utilización de las herramientas Synopsy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Metodología de diseñ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Se evaluará avance del proyec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Tar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Son parte del cur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Son consideradas parte de la mat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Pueden ser parte de pruebas y/o exa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Evalu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1523880" y="2057400"/>
          <a:ext cx="6400800" cy="3043080"/>
        </p:xfrm>
        <a:graphic>
          <a:graphicData uri="http://schemas.openxmlformats.org/drawingml/2006/table">
            <a:tbl>
              <a:tblPr/>
              <a:tblGrid>
                <a:gridCol w="4724640"/>
                <a:gridCol w="1676160"/>
              </a:tblGrid>
              <a:tr h="101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roles (2 en el semestre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amen fin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yecto (*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5T14:39:55Z</dcterms:created>
  <dc:creator>Administrator</dc:creator>
  <dc:description/>
  <dc:language>en-US</dc:language>
  <cp:lastModifiedBy>Synopsys</cp:lastModifiedBy>
  <dcterms:modified xsi:type="dcterms:W3CDTF">2006-07-26T13:58:51Z</dcterms:modified>
  <cp:revision>32</cp:revision>
  <dc:subject/>
  <dc:title>EL 6XX</dc:title>
</cp:coreProperties>
</file>