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F0B8-B595-4B32-A878-32537672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DCD0-1F38-43F1-86E4-50302CD1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1B89-B87B-4DD6-A7AA-B333BD83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0448-66DD-4FE6-B0E2-AD6AE056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5ED6-2FA6-447B-BF17-3292C757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7217-4B6C-44AF-A9BB-ED613280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76DF-E779-4AA4-B794-60A39D61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EAA3-E72A-4D95-B703-DEF387CE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DF1C-7A34-458A-913A-1F7C76D7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7F8A-96D5-400D-BAC1-E792833E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42A0-ED69-47CF-A6C6-A1B9FB3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75DE-BAA7-4104-A4EF-EABA3759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E34E-A45F-432D-884E-6ADE7E85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B4A4-8D59-4EEF-AF0E-8C799D0A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5720-871B-4322-87C2-3C89A482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5572-8894-4FF7-A69C-A97D179C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A266-7FD8-463D-A2DB-0FBE5D86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4638-E9B6-4570-844E-467FA133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40CCA-D68C-4A3D-9641-53E5F9DC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841D-13A6-41D3-93B7-6160FFF9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C9B0-97E4-498C-9960-B60EFF00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0445-49FB-4017-A098-72C423A0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E804-0057-4BF0-A36E-ED035D39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C979-4CD8-446C-8340-327A9A98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1C1-6F9C-47FF-BAFE-69ECEC3A2A5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DB77-457F-4CC3-AC28-EE4D36E5C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EDC5-8C10-4B0B-81C1-9ECF54314B1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9D21-8E21-4FAF-AA3E-7FCBD1129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981080"/>
          <a:ext cx="8229600" cy="3830760"/>
        </p:xfrm>
        <a:graphic>
          <a:graphicData uri="http://schemas.openxmlformats.org/drawingml/2006/table">
            <a:tbl>
              <a:tblPr/>
              <a:tblGrid>
                <a:gridCol w="3106800"/>
                <a:gridCol w="2808360"/>
                <a:gridCol w="1439640"/>
                <a:gridCol w="874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al Integrated Circuits (2nd Edi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 M. Rabaey, Anantha Chandrakasan, Borivoje Niko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and Design of Digital Integrated Circuits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A. Hodges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ace G. Jackson, Resve Saleh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Graw-H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Syn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inivas Devadas, et 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cGraw-Hill Profession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Student's Guide to V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ter J. Ashenden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gan Kaufmann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al System Design with V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 Zwolinski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Digital Design with the Verilog(TM) 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hael D. Ciletti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Design with SystemC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orsten Grötker, et 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ringer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ses intera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cusión de temas de actu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ctura de artículos atin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cusión de temas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r los conceptos básicos asociados a los circuitos inte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izar los conceptos asociados al diseño de circuitos integrados digit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ocer los algoritmos utilizados en las herramientas de diseño de circuitos integrados digit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ocer las distintas herramientas utilizadas para el diseño de circuitos integrados digital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alizar diseños pequeños en forma manu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lizar un proyecto de diseño utilizando herramientas líderes d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fe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ctor Grimblatt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eniero Civil en Microelectrónica, INP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eniero Civil Electrónico, UTF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naging Director, Synopsys Chile R&amp;D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mail: vgrimbla@ing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l of: 714 68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y 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storia de los circuitos inte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s integrados digitales y ana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ología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lógica combin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máquinas de estado finitos (F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top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circuitos integrado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erramienta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lógica combin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máquinas de estados fin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s de descripción de circuitos integrados (Verilog, VHDL, Syste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ar un circuito integrado dig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tilización de las herramientas Synops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todología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valuará avance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n parte del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n consideradas parte de la ma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eden ser parte de pruebas y/o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3880" y="2057400"/>
          <a:ext cx="6400800" cy="3043080"/>
        </p:xfrm>
        <a:graphic>
          <a:graphicData uri="http://schemas.openxmlformats.org/drawingml/2006/table">
            <a:tbl>
              <a:tblPr/>
              <a:tblGrid>
                <a:gridCol w="4724640"/>
                <a:gridCol w="16761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s (2 en el semest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en f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(*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6T13:58:51Z</dcterms:modified>
  <cp:revision>32</cp:revision>
  <dc:subject/>
  <dc:title>EL 6XX</dc:title>
</cp:coreProperties>
</file>