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2EB0-E979-41C2-88EE-9C3BE007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AA72-90C0-4686-B5B4-1CA3DD35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6DB0-A48C-43EB-9929-6C23E633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C179-B2FA-4212-90EA-34816431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4ACC-A389-4F57-8581-B80B2039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54B1-1008-4D31-8C7B-949E32CF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E20F-2582-46D8-9B66-4674E6AF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C684-F69C-4A85-99ED-920B10F1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1C15-F1F9-4B73-BE04-76353117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EABB-8C2F-46D8-BE0A-64D68071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22E3-B1A1-4EFF-84C9-E5C379C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A7F8-D4DC-4908-BCB8-CC240C24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BD5D-914D-48C9-8166-4802850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0703-9DCA-4A5A-8AB7-87D3E701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2EEE-657C-45B8-848E-57A67B2B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D146-E7D2-459D-9D61-E95B2041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E8E0-AC88-4705-B4C6-2B16ECF3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1F62-EF60-4D98-94AA-2DCEDD8A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E489-E116-452A-AC53-55866696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3950-0218-4FB9-9822-17F2F073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4B8D-6175-4255-9D05-E34E5E0E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2678-BD09-41A3-8D91-E21993FC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1F43-B78B-41EC-B5E1-A62A1E1A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BB31-8BD4-4034-A2A4-855D7E5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1943-2C39-4013-99ED-BDF92EE71DC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7D6A-40F3-4DAB-B68F-5BC17CEBF18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campill@ing.uchile.c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aciones Biblioteca Departamento Ingeniería Eléctrica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66720"/>
            <a:ext cx="82360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blicaciones con Contenido de Diseño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vistas - Memo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5445000"/>
            <a:ext cx="82360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umnos: Javiera Kett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amuel Rodrí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cila Balles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51280" y="5877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04000" y="58053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71640" y="5805360"/>
            <a:ext cx="2238120" cy="654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35640" y="5084640"/>
            <a:ext cx="2376360" cy="50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1584360" cy="839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cursos de información acadé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92000" y="2349000"/>
            <a:ext cx="58323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2852640"/>
            <a:ext cx="936720" cy="11527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152720"/>
              <a:gd name="textAreaBottom" fmla="*/ 1092240 h 1152720"/>
            </a:gdLst>
            <a:ahLst/>
            <a:rect l="textAreaLeft" t="textAreaTop" r="textAreaRight" b="textAreaBottom"/>
            <a:pathLst>
              <a:path w="21600" h="26579">
                <a:moveTo>
                  <a:pt x="0" y="0"/>
                </a:moveTo>
                <a:lnTo>
                  <a:pt x="21600" y="0"/>
                </a:lnTo>
                <a:lnTo>
                  <a:pt x="21600" y="26579"/>
                </a:lnTo>
                <a:lnTo>
                  <a:pt x="0" y="26579"/>
                </a:lnTo>
                <a:close/>
              </a:path>
              <a:path fill="lightenLess" w="21600" h="265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9">
                <a:moveTo>
                  <a:pt x="21600" y="0"/>
                </a:moveTo>
                <a:lnTo>
                  <a:pt x="21600" y="26579"/>
                </a:lnTo>
                <a:lnTo>
                  <a:pt x="20200" y="25179"/>
                </a:lnTo>
                <a:lnTo>
                  <a:pt x="20200" y="1400"/>
                </a:lnTo>
                <a:close/>
              </a:path>
              <a:path fill="darkenLess" w="21600" h="26579">
                <a:moveTo>
                  <a:pt x="21600" y="26579"/>
                </a:moveTo>
                <a:lnTo>
                  <a:pt x="0" y="26579"/>
                </a:lnTo>
                <a:lnTo>
                  <a:pt x="1400" y="25179"/>
                </a:lnTo>
                <a:lnTo>
                  <a:pt x="20200" y="25179"/>
                </a:lnTo>
                <a:close/>
              </a:path>
              <a:path fill="lighten" w="21600" h="26579">
                <a:moveTo>
                  <a:pt x="0" y="265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9"/>
                </a:lnTo>
                <a:close/>
              </a:path>
              <a:path fill="darkenLess" w="21600" h="26579">
                <a:moveTo>
                  <a:pt x="5273" y="6474"/>
                </a:moveTo>
                <a:lnTo>
                  <a:pt x="12271" y="6474"/>
                </a:lnTo>
                <a:lnTo>
                  <a:pt x="16327" y="9973"/>
                </a:lnTo>
                <a:lnTo>
                  <a:pt x="16327" y="20104"/>
                </a:lnTo>
                <a:lnTo>
                  <a:pt x="5273" y="20104"/>
                </a:lnTo>
                <a:close/>
              </a:path>
              <a:path fill="darken" w="21600" h="26579">
                <a:moveTo>
                  <a:pt x="12271" y="6474"/>
                </a:moveTo>
                <a:lnTo>
                  <a:pt x="16327" y="9973"/>
                </a:lnTo>
                <a:lnTo>
                  <a:pt x="12271" y="997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1413000"/>
            <a:ext cx="936720" cy="115236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152360"/>
              <a:gd name="textAreaBottom" fmla="*/ 1091880 h 1152360"/>
            </a:gdLst>
            <a:ahLst/>
            <a:rect l="textAreaLeft" t="textAreaTop" r="textAreaRight" b="textAreaBottom"/>
            <a:pathLst>
              <a:path w="21600" h="26571">
                <a:moveTo>
                  <a:pt x="0" y="0"/>
                </a:moveTo>
                <a:lnTo>
                  <a:pt x="21600" y="0"/>
                </a:lnTo>
                <a:lnTo>
                  <a:pt x="21600" y="26571"/>
                </a:lnTo>
                <a:lnTo>
                  <a:pt x="0" y="26571"/>
                </a:lnTo>
                <a:close/>
              </a:path>
              <a:path fill="lightenLess" w="21600" h="265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1">
                <a:moveTo>
                  <a:pt x="21600" y="0"/>
                </a:moveTo>
                <a:lnTo>
                  <a:pt x="21600" y="26571"/>
                </a:lnTo>
                <a:lnTo>
                  <a:pt x="20200" y="25171"/>
                </a:lnTo>
                <a:lnTo>
                  <a:pt x="20200" y="1400"/>
                </a:lnTo>
                <a:close/>
              </a:path>
              <a:path fill="darkenLess" w="21600" h="26571">
                <a:moveTo>
                  <a:pt x="21600" y="26571"/>
                </a:moveTo>
                <a:lnTo>
                  <a:pt x="0" y="26571"/>
                </a:lnTo>
                <a:lnTo>
                  <a:pt x="1400" y="25171"/>
                </a:lnTo>
                <a:lnTo>
                  <a:pt x="20200" y="25171"/>
                </a:lnTo>
                <a:close/>
              </a:path>
              <a:path fill="lighten" w="21600" h="26571">
                <a:moveTo>
                  <a:pt x="0" y="265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1"/>
                </a:lnTo>
                <a:close/>
              </a:path>
              <a:path fill="darkenLess" w="21600" h="26571">
                <a:moveTo>
                  <a:pt x="5273" y="6470"/>
                </a:moveTo>
                <a:lnTo>
                  <a:pt x="12271" y="6470"/>
                </a:lnTo>
                <a:lnTo>
                  <a:pt x="16327" y="9969"/>
                </a:lnTo>
                <a:lnTo>
                  <a:pt x="16327" y="20100"/>
                </a:lnTo>
                <a:lnTo>
                  <a:pt x="5273" y="20100"/>
                </a:lnTo>
                <a:close/>
              </a:path>
              <a:path fill="darken" w="21600" h="26571">
                <a:moveTo>
                  <a:pt x="12271" y="6470"/>
                </a:moveTo>
                <a:lnTo>
                  <a:pt x="16327" y="9969"/>
                </a:lnTo>
                <a:lnTo>
                  <a:pt x="12271" y="996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Carolina   Campillay   F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bliotecaria de Referencia – Btca. Central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c.  de  Cs.  Físicas y  Matemátic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iversidad    de   Chile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v. Beauchef 850       F.2-97845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ntiago   -   Chile </a:t>
            </a:r>
            <a:br>
              <a:rPr sz="3200"/>
            </a:br>
            <a:r>
              <a:rPr b="0" lang="es-E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campill@ing.uchile.c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Fin de la pres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987640" y="4723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¿Dud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3240" y="155736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2354400"/>
            <a:ext cx="7775280" cy="4068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42920" y="98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Cómo ingres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6297 L 0.00017 0.3963 E">
                                      <p:cBhvr>
                                        <p:cTn id="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8400" y="555480"/>
            <a:ext cx="762012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ÁLOGO B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2421000"/>
            <a:ext cx="2016000" cy="720720"/>
          </a:xfrm>
          <a:prstGeom prst="wedgeRoundRectCallout">
            <a:avLst>
              <a:gd name="adj1" fmla="val -65199"/>
              <a:gd name="adj2" fmla="val 11211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úsqueda avan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7319" r="0" b="6638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692280"/>
            <a:ext cx="2016000" cy="504720"/>
          </a:xfrm>
          <a:prstGeom prst="wedgeRoundRectCallout">
            <a:avLst>
              <a:gd name="adj1" fmla="val -72361"/>
              <a:gd name="adj2" fmla="val 1257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2492280"/>
            <a:ext cx="1800360" cy="1008000"/>
          </a:xfrm>
          <a:prstGeom prst="wedgeRoundRectCallout">
            <a:avLst>
              <a:gd name="adj1" fmla="val -97087"/>
              <a:gd name="adj2" fmla="val -10070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artamento Ingeniería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907920"/>
            <a:ext cx="1440000" cy="360360"/>
          </a:xfrm>
          <a:prstGeom prst="wedgeRoundRectCallout">
            <a:avLst>
              <a:gd name="adj1" fmla="val 95754"/>
              <a:gd name="adj2" fmla="val 117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989000"/>
            <a:ext cx="1440000" cy="360360"/>
          </a:xfrm>
          <a:prstGeom prst="wedgeRoundRectCallout">
            <a:avLst>
              <a:gd name="adj1" fmla="val 81421"/>
              <a:gd name="adj2" fmla="val -464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1557360"/>
            <a:ext cx="936720" cy="360360"/>
          </a:xfrm>
          <a:prstGeom prst="wedgeRoundRectCallout">
            <a:avLst>
              <a:gd name="adj1" fmla="val -131523"/>
              <a:gd name="adj2" fmla="val -3634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3573360"/>
            <a:ext cx="1297080" cy="432000"/>
          </a:xfrm>
          <a:prstGeom prst="wedgeRectCallout">
            <a:avLst>
              <a:gd name="adj1" fmla="val 39351"/>
              <a:gd name="adj2" fmla="val -10110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6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982" r="1004" b="9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ms bus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blicaciones del Depa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8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7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Ning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220500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  <a:path fill="darkenLess" w="21600" h="23988">
                <a:moveTo>
                  <a:pt x="5273" y="5179"/>
                </a:moveTo>
                <a:lnTo>
                  <a:pt x="12271" y="5179"/>
                </a:lnTo>
                <a:lnTo>
                  <a:pt x="16327" y="8678"/>
                </a:lnTo>
                <a:lnTo>
                  <a:pt x="16327" y="18809"/>
                </a:lnTo>
                <a:lnTo>
                  <a:pt x="5273" y="18809"/>
                </a:lnTo>
                <a:close/>
              </a:path>
              <a:path fill="darken" w="21600" h="23988">
                <a:moveTo>
                  <a:pt x="12271" y="5179"/>
                </a:moveTo>
                <a:lnTo>
                  <a:pt x="16327" y="8678"/>
                </a:lnTo>
                <a:lnTo>
                  <a:pt x="12271" y="867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3645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Less" w="21600" h="23976">
                <a:moveTo>
                  <a:pt x="5273" y="5173"/>
                </a:moveTo>
                <a:lnTo>
                  <a:pt x="12271" y="5173"/>
                </a:lnTo>
                <a:lnTo>
                  <a:pt x="16327" y="8672"/>
                </a:lnTo>
                <a:lnTo>
                  <a:pt x="16327" y="18803"/>
                </a:lnTo>
                <a:lnTo>
                  <a:pt x="5273" y="18803"/>
                </a:lnTo>
                <a:close/>
              </a:path>
              <a:path fill="darken" w="21600" h="23976">
                <a:moveTo>
                  <a:pt x="12271" y="5173"/>
                </a:moveTo>
                <a:lnTo>
                  <a:pt x="16327" y="8672"/>
                </a:lnTo>
                <a:lnTo>
                  <a:pt x="12271" y="867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18241" r="41338" b="8664"/>
          <a:stretch/>
        </p:blipFill>
        <p:spPr>
          <a:xfrm>
            <a:off x="1619280" y="692280"/>
            <a:ext cx="6840360" cy="616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2492280"/>
            <a:ext cx="5472360" cy="1584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27675" r="30626" b="63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ón C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utores :Nelson 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olfo P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orge 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iel Valde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quinas Eléc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58:41Z</dcterms:created>
  <dc:creator>Lucila</dc:creator>
  <dc:description/>
  <dc:language>en-US</dc:language>
  <cp:lastModifiedBy>ABOTTESELLE</cp:lastModifiedBy>
  <dcterms:modified xsi:type="dcterms:W3CDTF">2007-12-05T19:57:05Z</dcterms:modified>
  <cp:revision>8</cp:revision>
  <dc:subject/>
  <dc:title>Diapositiva 1</dc:title>
</cp:coreProperties>
</file>