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6B3A-BAF3-4F0B-BFBF-5D0A835A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11E3-B364-4274-A96E-A29B73F9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535A-288C-4963-BFF0-A449DCB9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3F67D-A45E-44FB-BA04-7E13429F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9C1F-6485-43A2-BFDF-CE2CBF6F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C492-D584-46AF-8FC3-24C91500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1686-41EE-4B30-875B-AFA5BF03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C2F8-63BA-4DE4-A563-577F6D86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358B-CBA3-4910-849B-803C6E4B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97BE-4690-4ED6-BAFE-65E51122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E620-232D-46BF-89F7-C20249D4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6C75-4D83-4F08-849D-63E11F08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04B1-BF22-4856-8C0B-2711D22B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08D9-8402-4EAA-93D6-A68DA493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2DBC-7B1E-465F-B8FD-718DE2B0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B91D-C859-4B4B-A28D-13E940ED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FFBB-956D-4DBA-95B1-A71CD3FA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A97AA-A33D-4EF0-82B8-8552FFA0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CAFA-0CF8-4D5A-AA08-275B2781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9E854-F5FC-4D34-87E7-A3DE355D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C58F4-BB7A-4700-8395-8402605F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7754-BC7B-4B29-B06F-8244ED25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9E79-603D-4C12-B4B0-3B83E471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A46C-8212-4893-A175-103175A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CCA0-B4E2-4CA1-8663-434D63D7EAB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91AD-02B6-4FAB-8312-8F13459BD10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ccampill@ing.uchile.c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blicaciones Biblioteca Departamento Ingeniería Eléctrica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66720"/>
            <a:ext cx="823608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blicaciones con Contenido de Diseño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vistas - Memo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5445000"/>
            <a:ext cx="82360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umnos: Javiera Kett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amuel Rodrí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cila Ballest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51280" y="58770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04000" y="580536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71640" y="5805360"/>
            <a:ext cx="2238120" cy="654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435640" y="5084640"/>
            <a:ext cx="2376360" cy="50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971640" y="4941720"/>
            <a:ext cx="1584360" cy="839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cursos de información acadé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92000" y="2349000"/>
            <a:ext cx="583236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2852640"/>
            <a:ext cx="936720" cy="115272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1152720"/>
              <a:gd name="textAreaBottom" fmla="*/ 1092240 h 1152720"/>
            </a:gdLst>
            <a:ahLst/>
            <a:rect l="textAreaLeft" t="textAreaTop" r="textAreaRight" b="textAreaBottom"/>
            <a:pathLst>
              <a:path w="21600" h="26579">
                <a:moveTo>
                  <a:pt x="0" y="0"/>
                </a:moveTo>
                <a:lnTo>
                  <a:pt x="21600" y="0"/>
                </a:lnTo>
                <a:lnTo>
                  <a:pt x="21600" y="26579"/>
                </a:lnTo>
                <a:lnTo>
                  <a:pt x="0" y="26579"/>
                </a:lnTo>
                <a:close/>
              </a:path>
              <a:path fill="lightenLess" w="21600" h="265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9">
                <a:moveTo>
                  <a:pt x="21600" y="0"/>
                </a:moveTo>
                <a:lnTo>
                  <a:pt x="21600" y="26579"/>
                </a:lnTo>
                <a:lnTo>
                  <a:pt x="20200" y="25179"/>
                </a:lnTo>
                <a:lnTo>
                  <a:pt x="20200" y="1400"/>
                </a:lnTo>
                <a:close/>
              </a:path>
              <a:path fill="darkenLess" w="21600" h="26579">
                <a:moveTo>
                  <a:pt x="21600" y="26579"/>
                </a:moveTo>
                <a:lnTo>
                  <a:pt x="0" y="26579"/>
                </a:lnTo>
                <a:lnTo>
                  <a:pt x="1400" y="25179"/>
                </a:lnTo>
                <a:lnTo>
                  <a:pt x="20200" y="25179"/>
                </a:lnTo>
                <a:close/>
              </a:path>
              <a:path fill="lighten" w="21600" h="26579">
                <a:moveTo>
                  <a:pt x="0" y="265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9"/>
                </a:lnTo>
                <a:close/>
              </a:path>
              <a:path fill="darkenLess" w="21600" h="26579">
                <a:moveTo>
                  <a:pt x="5273" y="6474"/>
                </a:moveTo>
                <a:lnTo>
                  <a:pt x="12271" y="6474"/>
                </a:lnTo>
                <a:lnTo>
                  <a:pt x="16327" y="9973"/>
                </a:lnTo>
                <a:lnTo>
                  <a:pt x="16327" y="20104"/>
                </a:lnTo>
                <a:lnTo>
                  <a:pt x="5273" y="20104"/>
                </a:lnTo>
                <a:close/>
              </a:path>
              <a:path fill="darken" w="21600" h="26579">
                <a:moveTo>
                  <a:pt x="12271" y="6474"/>
                </a:moveTo>
                <a:lnTo>
                  <a:pt x="16327" y="9973"/>
                </a:lnTo>
                <a:lnTo>
                  <a:pt x="12271" y="9973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51640" y="1413000"/>
            <a:ext cx="936720" cy="115236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1152360"/>
              <a:gd name="textAreaBottom" fmla="*/ 1091880 h 1152360"/>
            </a:gdLst>
            <a:ahLst/>
            <a:rect l="textAreaLeft" t="textAreaTop" r="textAreaRight" b="textAreaBottom"/>
            <a:pathLst>
              <a:path w="21600" h="26571">
                <a:moveTo>
                  <a:pt x="0" y="0"/>
                </a:moveTo>
                <a:lnTo>
                  <a:pt x="21600" y="0"/>
                </a:lnTo>
                <a:lnTo>
                  <a:pt x="21600" y="26571"/>
                </a:lnTo>
                <a:lnTo>
                  <a:pt x="0" y="26571"/>
                </a:lnTo>
                <a:close/>
              </a:path>
              <a:path fill="lightenLess" w="21600" h="265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1">
                <a:moveTo>
                  <a:pt x="21600" y="0"/>
                </a:moveTo>
                <a:lnTo>
                  <a:pt x="21600" y="26571"/>
                </a:lnTo>
                <a:lnTo>
                  <a:pt x="20200" y="25171"/>
                </a:lnTo>
                <a:lnTo>
                  <a:pt x="20200" y="1400"/>
                </a:lnTo>
                <a:close/>
              </a:path>
              <a:path fill="darkenLess" w="21600" h="26571">
                <a:moveTo>
                  <a:pt x="21600" y="26571"/>
                </a:moveTo>
                <a:lnTo>
                  <a:pt x="0" y="26571"/>
                </a:lnTo>
                <a:lnTo>
                  <a:pt x="1400" y="25171"/>
                </a:lnTo>
                <a:lnTo>
                  <a:pt x="20200" y="25171"/>
                </a:lnTo>
                <a:close/>
              </a:path>
              <a:path fill="lighten" w="21600" h="26571">
                <a:moveTo>
                  <a:pt x="0" y="265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1"/>
                </a:lnTo>
                <a:close/>
              </a:path>
              <a:path fill="darkenLess" w="21600" h="26571">
                <a:moveTo>
                  <a:pt x="5273" y="6470"/>
                </a:moveTo>
                <a:lnTo>
                  <a:pt x="12271" y="6470"/>
                </a:lnTo>
                <a:lnTo>
                  <a:pt x="16327" y="9969"/>
                </a:lnTo>
                <a:lnTo>
                  <a:pt x="16327" y="20100"/>
                </a:lnTo>
                <a:lnTo>
                  <a:pt x="5273" y="20100"/>
                </a:lnTo>
                <a:close/>
              </a:path>
              <a:path fill="darken" w="21600" h="26571">
                <a:moveTo>
                  <a:pt x="12271" y="6470"/>
                </a:moveTo>
                <a:lnTo>
                  <a:pt x="16327" y="9969"/>
                </a:lnTo>
                <a:lnTo>
                  <a:pt x="12271" y="996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bliote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Carolina   Campillay   F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bliotecaria de Referencia – Btca. Central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ac.  de  Cs.  Físicas y  Matemática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iversidad    de   Chile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v. Beauchef 850       F.2-97845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ntiago   -   Chile </a:t>
            </a:r>
            <a:br>
              <a:rPr sz="3200"/>
            </a:br>
            <a:r>
              <a:rPr b="0" lang="es-E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campill@ing.uchile.c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Fin de la present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987640" y="47239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¿Dud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83240" y="155736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2354400"/>
            <a:ext cx="7775280" cy="4068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42920" y="98100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Cómo ingres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6297 L 0.00017 0.3963 E">
                                      <p:cBhvr>
                                        <p:cTn id="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58400" y="555480"/>
            <a:ext cx="762012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ÁLOGO B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2421000"/>
            <a:ext cx="2016000" cy="720720"/>
          </a:xfrm>
          <a:prstGeom prst="wedgeRoundRectCallout">
            <a:avLst>
              <a:gd name="adj1" fmla="val -65199"/>
              <a:gd name="adj2" fmla="val 11211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úsqueda avan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17319" r="0" b="6638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0" y="692280"/>
            <a:ext cx="2016000" cy="504720"/>
          </a:xfrm>
          <a:prstGeom prst="wedgeRoundRectCallout">
            <a:avLst>
              <a:gd name="adj1" fmla="val -72361"/>
              <a:gd name="adj2" fmla="val 1257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2492280"/>
            <a:ext cx="1800360" cy="1008000"/>
          </a:xfrm>
          <a:prstGeom prst="wedgeRoundRectCallout">
            <a:avLst>
              <a:gd name="adj1" fmla="val -97087"/>
              <a:gd name="adj2" fmla="val -10070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artamento Ingeniería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907920"/>
            <a:ext cx="1440000" cy="360360"/>
          </a:xfrm>
          <a:prstGeom prst="wedgeRoundRectCallout">
            <a:avLst>
              <a:gd name="adj1" fmla="val 95754"/>
              <a:gd name="adj2" fmla="val 11740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989000"/>
            <a:ext cx="1440000" cy="360360"/>
          </a:xfrm>
          <a:prstGeom prst="wedgeRoundRectCallout">
            <a:avLst>
              <a:gd name="adj1" fmla="val 81421"/>
              <a:gd name="adj2" fmla="val -464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1557360"/>
            <a:ext cx="936720" cy="360360"/>
          </a:xfrm>
          <a:prstGeom prst="wedgeRoundRectCallout">
            <a:avLst>
              <a:gd name="adj1" fmla="val -131523"/>
              <a:gd name="adj2" fmla="val -3634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32000" y="3573360"/>
            <a:ext cx="1297080" cy="432000"/>
          </a:xfrm>
          <a:prstGeom prst="wedgeRectCallout">
            <a:avLst>
              <a:gd name="adj1" fmla="val 39351"/>
              <a:gd name="adj2" fmla="val -10110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16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16982" r="1004" b="9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tems bus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blicaciones del Depar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contradas: 8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contradas: 7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v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contradas: Ning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24720" y="2205000"/>
            <a:ext cx="647640" cy="719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9280"/>
              <a:gd name="textAreaBottom" fmla="*/ 677520 h 719280"/>
            </a:gdLst>
            <a:ahLst/>
            <a:rect l="textAreaLeft" t="textAreaTop" r="textAreaRight" b="textAreaBottom"/>
            <a:pathLst>
              <a:path w="21600" h="23988">
                <a:moveTo>
                  <a:pt x="0" y="0"/>
                </a:moveTo>
                <a:lnTo>
                  <a:pt x="21600" y="0"/>
                </a:lnTo>
                <a:lnTo>
                  <a:pt x="21600" y="23988"/>
                </a:lnTo>
                <a:lnTo>
                  <a:pt x="0" y="23988"/>
                </a:lnTo>
                <a:close/>
              </a:path>
              <a:path fill="lightenLess" w="21600" h="23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88">
                <a:moveTo>
                  <a:pt x="21600" y="0"/>
                </a:moveTo>
                <a:lnTo>
                  <a:pt x="21600" y="23988"/>
                </a:lnTo>
                <a:lnTo>
                  <a:pt x="20200" y="22588"/>
                </a:lnTo>
                <a:lnTo>
                  <a:pt x="20200" y="1400"/>
                </a:lnTo>
                <a:close/>
              </a:path>
              <a:path fill="darkenLess" w="21600" h="23988">
                <a:moveTo>
                  <a:pt x="21600" y="23988"/>
                </a:moveTo>
                <a:lnTo>
                  <a:pt x="0" y="23988"/>
                </a:lnTo>
                <a:lnTo>
                  <a:pt x="1400" y="22588"/>
                </a:lnTo>
                <a:lnTo>
                  <a:pt x="20200" y="22588"/>
                </a:lnTo>
                <a:close/>
              </a:path>
              <a:path fill="lighten" w="21600" h="23988">
                <a:moveTo>
                  <a:pt x="0" y="23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88"/>
                </a:lnTo>
                <a:close/>
              </a:path>
              <a:path fill="darkenLess" w="21600" h="23988">
                <a:moveTo>
                  <a:pt x="5273" y="5179"/>
                </a:moveTo>
                <a:lnTo>
                  <a:pt x="12271" y="5179"/>
                </a:lnTo>
                <a:lnTo>
                  <a:pt x="16327" y="8678"/>
                </a:lnTo>
                <a:lnTo>
                  <a:pt x="16327" y="18809"/>
                </a:lnTo>
                <a:lnTo>
                  <a:pt x="5273" y="18809"/>
                </a:lnTo>
                <a:close/>
              </a:path>
              <a:path fill="darken" w="21600" h="23988">
                <a:moveTo>
                  <a:pt x="12271" y="5179"/>
                </a:moveTo>
                <a:lnTo>
                  <a:pt x="16327" y="8678"/>
                </a:lnTo>
                <a:lnTo>
                  <a:pt x="12271" y="867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24720" y="364500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Less" w="21600" h="23976">
                <a:moveTo>
                  <a:pt x="5273" y="5173"/>
                </a:moveTo>
                <a:lnTo>
                  <a:pt x="12271" y="5173"/>
                </a:lnTo>
                <a:lnTo>
                  <a:pt x="16327" y="8672"/>
                </a:lnTo>
                <a:lnTo>
                  <a:pt x="16327" y="18803"/>
                </a:lnTo>
                <a:lnTo>
                  <a:pt x="5273" y="18803"/>
                </a:lnTo>
                <a:close/>
              </a:path>
              <a:path fill="darken" w="21600" h="23976">
                <a:moveTo>
                  <a:pt x="12271" y="5173"/>
                </a:moveTo>
                <a:lnTo>
                  <a:pt x="16327" y="8672"/>
                </a:lnTo>
                <a:lnTo>
                  <a:pt x="12271" y="8672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18241" r="41338" b="8664"/>
          <a:stretch/>
        </p:blipFill>
        <p:spPr>
          <a:xfrm>
            <a:off x="1619280" y="692280"/>
            <a:ext cx="6840360" cy="616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2492280"/>
            <a:ext cx="5472360" cy="1584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27675" r="30626" b="63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ublicación C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utores :Nelson M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olfo Pa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Jorge 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iel Valdeneg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teni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quinas Eléct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7:58:41Z</dcterms:created>
  <dc:creator>Lucila</dc:creator>
  <dc:description/>
  <dc:language>en-US</dc:language>
  <cp:lastModifiedBy>ABOTTESELLE</cp:lastModifiedBy>
  <dcterms:modified xsi:type="dcterms:W3CDTF">2007-12-05T19:57:05Z</dcterms:modified>
  <cp:revision>8</cp:revision>
  <dc:subject/>
  <dc:title>Diapositiva 1</dc:title>
</cp:coreProperties>
</file>