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A476E-868D-4055-A33F-A11B6DC5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5D2B6-1F18-4242-8056-A8892C66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CCB44-DD68-472D-A108-88BA678F2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35206-D673-4026-8E1D-1CA18882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D733-811A-409C-AE28-7D496F1E9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AF6B0-0EE8-4B4A-9C4D-5B1DC432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C223-286D-4DDA-9A09-23BA55EAE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B848-01D1-452A-A050-A52C9628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7D53-262C-495A-87AD-8F3EA982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B564-B778-47DC-A256-BEF1E131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A433-EFB2-4BA8-980B-16BB0441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6695D-3DC6-4F07-AF3D-A00DF95E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09B1-01CD-4A7F-B4C6-9A761DC7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505B-34EF-4831-B0F0-99A241F1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82FD-1F60-46D4-848B-F64B2FC4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17CF-0E25-454D-A960-34611851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72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7043040" y="426672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297180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50072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7043040" y="5182560"/>
            <a:ext cx="1938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0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CD31-E735-4C51-A226-795C6DC9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CEDF4-7409-49C2-BD8C-29EB3293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79041-574F-4D53-BAC2-E582E94C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844D6-F5ED-4EC2-B48E-51534138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971800" y="1828800"/>
            <a:ext cx="6019920" cy="102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F82C7-0766-459B-A35C-7566F86A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C219A-5267-48AC-AC25-C9F5E7E2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56640" y="518256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EF264-AA77-4805-BE20-9C6981DB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97180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056640" y="4266720"/>
            <a:ext cx="29376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971800" y="5182560"/>
            <a:ext cx="6019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09D3E-E816-4A28-BAC7-9ADC3991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0650-0AC0-4B4E-80B5-2E0583CE6C2E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7AE1-F483-498F-96A0-B019A82A861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ccampill@ing.uchile.c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ublicaciones Biblioteca Departamento Ingeniería Eléctrica</a:t>
            </a: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66720"/>
            <a:ext cx="8236080" cy="10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ublicaciones con Contenido de Diseño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evistas - Memo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5445000"/>
            <a:ext cx="823608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umnos: Javiera Kette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amuel Rodrígu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ucila Ballest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851280" y="5877000"/>
            <a:ext cx="1727280" cy="507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04000" y="5805360"/>
            <a:ext cx="1428840" cy="628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971640" y="5805360"/>
            <a:ext cx="2238120" cy="654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5435640" y="5084640"/>
            <a:ext cx="2376360" cy="501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971640" y="4941720"/>
            <a:ext cx="1584360" cy="839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7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cursos de información acadé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692000" y="2349000"/>
            <a:ext cx="5832360" cy="22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1640" y="2852640"/>
            <a:ext cx="936720" cy="115272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1152720"/>
              <a:gd name="textAreaBottom" fmla="*/ 1092240 h 1152720"/>
            </a:gdLst>
            <a:ahLst/>
            <a:rect l="textAreaLeft" t="textAreaTop" r="textAreaRight" b="textAreaBottom"/>
            <a:pathLst>
              <a:path w="21600" h="26579">
                <a:moveTo>
                  <a:pt x="0" y="0"/>
                </a:moveTo>
                <a:lnTo>
                  <a:pt x="21600" y="0"/>
                </a:lnTo>
                <a:lnTo>
                  <a:pt x="21600" y="26579"/>
                </a:lnTo>
                <a:lnTo>
                  <a:pt x="0" y="26579"/>
                </a:lnTo>
                <a:close/>
              </a:path>
              <a:path fill="lightenLess" w="21600" h="2657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9">
                <a:moveTo>
                  <a:pt x="21600" y="0"/>
                </a:moveTo>
                <a:lnTo>
                  <a:pt x="21600" y="26579"/>
                </a:lnTo>
                <a:lnTo>
                  <a:pt x="20200" y="25179"/>
                </a:lnTo>
                <a:lnTo>
                  <a:pt x="20200" y="1400"/>
                </a:lnTo>
                <a:close/>
              </a:path>
              <a:path fill="darkenLess" w="21600" h="26579">
                <a:moveTo>
                  <a:pt x="21600" y="26579"/>
                </a:moveTo>
                <a:lnTo>
                  <a:pt x="0" y="26579"/>
                </a:lnTo>
                <a:lnTo>
                  <a:pt x="1400" y="25179"/>
                </a:lnTo>
                <a:lnTo>
                  <a:pt x="20200" y="25179"/>
                </a:lnTo>
                <a:close/>
              </a:path>
              <a:path fill="lighten" w="21600" h="26579">
                <a:moveTo>
                  <a:pt x="0" y="26579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9"/>
                </a:lnTo>
                <a:close/>
              </a:path>
              <a:path fill="darkenLess" w="21600" h="26579">
                <a:moveTo>
                  <a:pt x="5273" y="6474"/>
                </a:moveTo>
                <a:lnTo>
                  <a:pt x="12271" y="6474"/>
                </a:lnTo>
                <a:lnTo>
                  <a:pt x="16327" y="9973"/>
                </a:lnTo>
                <a:lnTo>
                  <a:pt x="16327" y="20104"/>
                </a:lnTo>
                <a:lnTo>
                  <a:pt x="5273" y="20104"/>
                </a:lnTo>
                <a:close/>
              </a:path>
              <a:path fill="darken" w="21600" h="26579">
                <a:moveTo>
                  <a:pt x="12271" y="6474"/>
                </a:moveTo>
                <a:lnTo>
                  <a:pt x="16327" y="9973"/>
                </a:lnTo>
                <a:lnTo>
                  <a:pt x="12271" y="9973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P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451640" y="1413000"/>
            <a:ext cx="936720" cy="1152360"/>
          </a:xfrm>
          <a:custGeom>
            <a:avLst/>
            <a:gdLst>
              <a:gd name="textAreaLeft" fmla="*/ 60480 w 936720"/>
              <a:gd name="textAreaRight" fmla="*/ 876240 w 936720"/>
              <a:gd name="textAreaTop" fmla="*/ 60480 h 1152360"/>
              <a:gd name="textAreaBottom" fmla="*/ 1091880 h 1152360"/>
            </a:gdLst>
            <a:ahLst/>
            <a:rect l="textAreaLeft" t="textAreaTop" r="textAreaRight" b="textAreaBottom"/>
            <a:pathLst>
              <a:path w="21600" h="26571">
                <a:moveTo>
                  <a:pt x="0" y="0"/>
                </a:moveTo>
                <a:lnTo>
                  <a:pt x="21600" y="0"/>
                </a:lnTo>
                <a:lnTo>
                  <a:pt x="21600" y="26571"/>
                </a:lnTo>
                <a:lnTo>
                  <a:pt x="0" y="26571"/>
                </a:lnTo>
                <a:close/>
              </a:path>
              <a:path fill="lightenLess" w="21600" h="2657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571">
                <a:moveTo>
                  <a:pt x="21600" y="0"/>
                </a:moveTo>
                <a:lnTo>
                  <a:pt x="21600" y="26571"/>
                </a:lnTo>
                <a:lnTo>
                  <a:pt x="20200" y="25171"/>
                </a:lnTo>
                <a:lnTo>
                  <a:pt x="20200" y="1400"/>
                </a:lnTo>
                <a:close/>
              </a:path>
              <a:path fill="darkenLess" w="21600" h="26571">
                <a:moveTo>
                  <a:pt x="21600" y="26571"/>
                </a:moveTo>
                <a:lnTo>
                  <a:pt x="0" y="26571"/>
                </a:lnTo>
                <a:lnTo>
                  <a:pt x="1400" y="25171"/>
                </a:lnTo>
                <a:lnTo>
                  <a:pt x="20200" y="25171"/>
                </a:lnTo>
                <a:close/>
              </a:path>
              <a:path fill="lighten" w="21600" h="26571">
                <a:moveTo>
                  <a:pt x="0" y="26571"/>
                </a:moveTo>
                <a:lnTo>
                  <a:pt x="0" y="0"/>
                </a:lnTo>
                <a:lnTo>
                  <a:pt x="1400" y="1400"/>
                </a:lnTo>
                <a:lnTo>
                  <a:pt x="1400" y="25171"/>
                </a:lnTo>
                <a:close/>
              </a:path>
              <a:path fill="darkenLess" w="21600" h="26571">
                <a:moveTo>
                  <a:pt x="5273" y="6470"/>
                </a:moveTo>
                <a:lnTo>
                  <a:pt x="12271" y="6470"/>
                </a:lnTo>
                <a:lnTo>
                  <a:pt x="16327" y="9969"/>
                </a:lnTo>
                <a:lnTo>
                  <a:pt x="16327" y="20100"/>
                </a:lnTo>
                <a:lnTo>
                  <a:pt x="5273" y="20100"/>
                </a:lnTo>
                <a:close/>
              </a:path>
              <a:path fill="darken" w="21600" h="26571">
                <a:moveTo>
                  <a:pt x="12271" y="6470"/>
                </a:moveTo>
                <a:lnTo>
                  <a:pt x="16327" y="9969"/>
                </a:lnTo>
                <a:lnTo>
                  <a:pt x="12271" y="9969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bliote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ac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0000"/>
                </a:solidFill>
                <a:latin typeface="Arial"/>
              </a:rPr>
              <a:t>Carolina   Campillay   F.</a:t>
            </a:r>
            <a:br>
              <a:rPr sz="3200"/>
            </a:b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ibliotecaria de Referencia – Btca. Central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ac.  de  Cs.  Físicas y  Matemática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niversidad    de   Chile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v. Beauchef 850       F.2-97845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antiago   -   Chile </a:t>
            </a:r>
            <a:br>
              <a:rPr sz="3200"/>
            </a:br>
            <a:r>
              <a:rPr b="0" lang="es-E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campill@ing.uchile.c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Fin de la present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987640" y="47239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¿Duda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983240" y="155736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84360" y="2354400"/>
            <a:ext cx="7775280" cy="4068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042920" y="981000"/>
            <a:ext cx="287280" cy="576360"/>
          </a:xfrm>
          <a:prstGeom prst="downArrow">
            <a:avLst>
              <a:gd name="adj1" fmla="val 50000"/>
              <a:gd name="adj2" fmla="val 50157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¿Cómo ingres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6297 L 0.00017 0.3963 E">
                                      <p:cBhvr>
                                        <p:cTn id="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58400" y="555480"/>
            <a:ext cx="762012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ÁLOGO BEL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572000" y="2421000"/>
            <a:ext cx="2016000" cy="720720"/>
          </a:xfrm>
          <a:prstGeom prst="wedgeRoundRectCallout">
            <a:avLst>
              <a:gd name="adj1" fmla="val -65199"/>
              <a:gd name="adj2" fmla="val 112115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úsqueda avanz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17319" r="0" b="6638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0" y="692280"/>
            <a:ext cx="2016000" cy="504720"/>
          </a:xfrm>
          <a:prstGeom prst="wedgeRoundRectCallout">
            <a:avLst>
              <a:gd name="adj1" fmla="val -72361"/>
              <a:gd name="adj2" fmla="val 125787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92720" y="2492280"/>
            <a:ext cx="1800360" cy="1008000"/>
          </a:xfrm>
          <a:prstGeom prst="wedgeRoundRectCallout">
            <a:avLst>
              <a:gd name="adj1" fmla="val -97087"/>
              <a:gd name="adj2" fmla="val -100708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partamento Ingeniería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907920"/>
            <a:ext cx="1440000" cy="360360"/>
          </a:xfrm>
          <a:prstGeom prst="wedgeRoundRectCallout">
            <a:avLst>
              <a:gd name="adj1" fmla="val 95754"/>
              <a:gd name="adj2" fmla="val 11740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989000"/>
            <a:ext cx="1440000" cy="360360"/>
          </a:xfrm>
          <a:prstGeom prst="wedgeRoundRectCallout">
            <a:avLst>
              <a:gd name="adj1" fmla="val 81421"/>
              <a:gd name="adj2" fmla="val -4647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1557360"/>
            <a:ext cx="936720" cy="360360"/>
          </a:xfrm>
          <a:prstGeom prst="wedgeRoundRectCallout">
            <a:avLst>
              <a:gd name="adj1" fmla="val -131523"/>
              <a:gd name="adj2" fmla="val -36342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32000" y="3573360"/>
            <a:ext cx="1297080" cy="432000"/>
          </a:xfrm>
          <a:prstGeom prst="wedgeRectCallout">
            <a:avLst>
              <a:gd name="adj1" fmla="val 39351"/>
              <a:gd name="adj2" fmla="val -10110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BUS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16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16982" r="1004" b="9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Items bus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blicaciones del Depart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contradas: 8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contradas: 7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v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contradas: Ningu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524720" y="2205000"/>
            <a:ext cx="647640" cy="71928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9280"/>
              <a:gd name="textAreaBottom" fmla="*/ 677520 h 719280"/>
            </a:gdLst>
            <a:ahLst/>
            <a:rect l="textAreaLeft" t="textAreaTop" r="textAreaRight" b="textAreaBottom"/>
            <a:pathLst>
              <a:path w="21600" h="23988">
                <a:moveTo>
                  <a:pt x="0" y="0"/>
                </a:moveTo>
                <a:lnTo>
                  <a:pt x="21600" y="0"/>
                </a:lnTo>
                <a:lnTo>
                  <a:pt x="21600" y="23988"/>
                </a:lnTo>
                <a:lnTo>
                  <a:pt x="0" y="23988"/>
                </a:lnTo>
                <a:close/>
              </a:path>
              <a:path fill="lightenLess" w="21600" h="2398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88">
                <a:moveTo>
                  <a:pt x="21600" y="0"/>
                </a:moveTo>
                <a:lnTo>
                  <a:pt x="21600" y="23988"/>
                </a:lnTo>
                <a:lnTo>
                  <a:pt x="20200" y="22588"/>
                </a:lnTo>
                <a:lnTo>
                  <a:pt x="20200" y="1400"/>
                </a:lnTo>
                <a:close/>
              </a:path>
              <a:path fill="darkenLess" w="21600" h="23988">
                <a:moveTo>
                  <a:pt x="21600" y="23988"/>
                </a:moveTo>
                <a:lnTo>
                  <a:pt x="0" y="23988"/>
                </a:lnTo>
                <a:lnTo>
                  <a:pt x="1400" y="22588"/>
                </a:lnTo>
                <a:lnTo>
                  <a:pt x="20200" y="22588"/>
                </a:lnTo>
                <a:close/>
              </a:path>
              <a:path fill="lighten" w="21600" h="23988">
                <a:moveTo>
                  <a:pt x="0" y="23988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88"/>
                </a:lnTo>
                <a:close/>
              </a:path>
              <a:path fill="darkenLess" w="21600" h="23988">
                <a:moveTo>
                  <a:pt x="5273" y="5179"/>
                </a:moveTo>
                <a:lnTo>
                  <a:pt x="12271" y="5179"/>
                </a:lnTo>
                <a:lnTo>
                  <a:pt x="16327" y="8678"/>
                </a:lnTo>
                <a:lnTo>
                  <a:pt x="16327" y="18809"/>
                </a:lnTo>
                <a:lnTo>
                  <a:pt x="5273" y="18809"/>
                </a:lnTo>
                <a:close/>
              </a:path>
              <a:path fill="darken" w="21600" h="23988">
                <a:moveTo>
                  <a:pt x="12271" y="5179"/>
                </a:moveTo>
                <a:lnTo>
                  <a:pt x="16327" y="8678"/>
                </a:lnTo>
                <a:lnTo>
                  <a:pt x="12271" y="8678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24720" y="3645000"/>
            <a:ext cx="647640" cy="71892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76">
                <a:moveTo>
                  <a:pt x="0" y="0"/>
                </a:moveTo>
                <a:lnTo>
                  <a:pt x="21600" y="0"/>
                </a:lnTo>
                <a:lnTo>
                  <a:pt x="21600" y="23976"/>
                </a:lnTo>
                <a:lnTo>
                  <a:pt x="0" y="23976"/>
                </a:lnTo>
                <a:close/>
              </a:path>
              <a:path fill="lightenLess" w="21600" h="2397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76">
                <a:moveTo>
                  <a:pt x="21600" y="0"/>
                </a:moveTo>
                <a:lnTo>
                  <a:pt x="21600" y="23976"/>
                </a:lnTo>
                <a:lnTo>
                  <a:pt x="20200" y="22576"/>
                </a:lnTo>
                <a:lnTo>
                  <a:pt x="20200" y="1400"/>
                </a:lnTo>
                <a:close/>
              </a:path>
              <a:path fill="darkenLess" w="21600" h="23976">
                <a:moveTo>
                  <a:pt x="21600" y="23976"/>
                </a:moveTo>
                <a:lnTo>
                  <a:pt x="0" y="23976"/>
                </a:lnTo>
                <a:lnTo>
                  <a:pt x="1400" y="22576"/>
                </a:lnTo>
                <a:lnTo>
                  <a:pt x="20200" y="22576"/>
                </a:lnTo>
                <a:close/>
              </a:path>
              <a:path fill="lighten" w="21600" h="23976">
                <a:moveTo>
                  <a:pt x="0" y="23976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76"/>
                </a:lnTo>
                <a:close/>
              </a:path>
              <a:path fill="darkenLess" w="21600" h="23976">
                <a:moveTo>
                  <a:pt x="5273" y="5173"/>
                </a:moveTo>
                <a:lnTo>
                  <a:pt x="12271" y="5173"/>
                </a:lnTo>
                <a:lnTo>
                  <a:pt x="16327" y="8672"/>
                </a:lnTo>
                <a:lnTo>
                  <a:pt x="16327" y="18803"/>
                </a:lnTo>
                <a:lnTo>
                  <a:pt x="5273" y="18803"/>
                </a:lnTo>
                <a:close/>
              </a:path>
              <a:path fill="darken" w="21600" h="23976">
                <a:moveTo>
                  <a:pt x="12271" y="5173"/>
                </a:moveTo>
                <a:lnTo>
                  <a:pt x="16327" y="8672"/>
                </a:lnTo>
                <a:lnTo>
                  <a:pt x="12271" y="8672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18241" r="41338" b="8664"/>
          <a:stretch/>
        </p:blipFill>
        <p:spPr>
          <a:xfrm>
            <a:off x="1619280" y="692280"/>
            <a:ext cx="6840360" cy="6165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2492280"/>
            <a:ext cx="5472360" cy="1584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rcRect l="0" t="27675" r="30626" b="63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ublicación C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utores :Nelson M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olfo Pal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Jorge R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riel Valdeneg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nteni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áquinas Eléct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7:58:41Z</dcterms:created>
  <dc:creator>Lucila</dc:creator>
  <dc:description/>
  <dc:language>en-US</dc:language>
  <cp:lastModifiedBy>ABOTTESELLE</cp:lastModifiedBy>
  <dcterms:modified xsi:type="dcterms:W3CDTF">2007-12-05T19:57:05Z</dcterms:modified>
  <cp:revision>8</cp:revision>
  <dc:subject/>
  <dc:title>Diapositiva 1</dc:title>
</cp:coreProperties>
</file>