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B343A-554C-4ACF-A102-ED6DB49C0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8D38F-C270-4585-9E1F-96A47FEEE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E4C22-F66E-4BB7-ACE1-F714DBD93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BDE97-4783-41F8-8C89-BCD9839E8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5A5FD-91DB-483D-9818-59FF724BD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F8195-CEAC-4F12-97AF-15C1A8432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95CA6-EEED-4DC5-B0CD-959A43239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DCD52-D123-41FA-8739-E1C896B68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83F5B-DB81-4C03-AFCE-906278DD6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7ACB8-0195-4337-9DF8-4CBF06CDC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B336B-04EF-44A1-9809-D9A5949D5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25D84-30DD-4565-9691-5F73BA292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61F69-5D9F-4CF3-8B0F-5D896878F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BED02-47D8-45AE-A71D-D003D2682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EC863-5E6D-4AEA-BB03-60E47745E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4AF1B-C3A4-4EC3-AB5F-E27DA6160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C7778-3298-4BC6-B7AE-B799B592B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86764-7FCE-42A7-88D0-E197AFEB6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FC4F5-AB9E-4E44-827F-99FEA81EE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C4D53-5DCF-473B-BDC4-2F1F2550E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37807-FF7B-4AE7-B223-8DCCB4BFF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A1E5F-B53E-4F81-B69A-50335BFD1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41E57-917F-4773-9D5A-ED40D0516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500E-6989-4634-8E96-86F41E291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9E52-70A4-4818-958A-4B3E66758B2A}"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3A2B-6A91-4F66-9B82-AEB3CEBDCD0B}"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Norma Técnica Transformadores Potencial</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57C – Taller de Diseño en Sistemas de Potenci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colás Carrasc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Antonio Moren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Patricio Sot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6"/>
          </p:nvPr>
        </p:nvSpPr>
        <p:spPr/>
        <p:txBody>
          <a:bodyPr/>
          <a:p>
            <a:fld id="{CCBE22E9-12B2-49FC-ADB5-F49EA65563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veles de BIL (Basic Insulation Level)</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st Dieléctrico</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Pruebas varias de transformador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strucción</a:t>
            </a:r>
            <a:endParaRPr b="0" lang="en-US" sz="32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olaridad </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ipo de terminales</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Simbologia</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9B689FB-CD12-429B-BD21-814B5476EF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1" name="" descr=""/>
          <p:cNvPicPr/>
          <p:nvPr/>
        </p:nvPicPr>
        <p:blipFill>
          <a:blip r:embed="rId1"/>
          <a:stretch/>
        </p:blipFill>
        <p:spPr>
          <a:xfrm>
            <a:off x="912960" y="1905120"/>
            <a:ext cx="6707160" cy="4805280"/>
          </a:xfrm>
          <a:prstGeom prst="rect">
            <a:avLst/>
          </a:prstGeom>
          <a:ln w="0">
            <a:noFill/>
          </a:ln>
        </p:spPr>
      </p:pic>
      <p:sp>
        <p:nvSpPr>
          <p:cNvPr id="3" name="PlaceHolder 2"/>
          <p:cNvSpPr>
            <a:spLocks noGrp="1"/>
          </p:cNvSpPr>
          <p:nvPr>
            <p:ph type="sldNum" idx="3"/>
          </p:nvPr>
        </p:nvSpPr>
        <p:spPr/>
        <p:txBody>
          <a:bodyPr/>
          <a:p>
            <a:fld id="{81CC4B54-CA17-4082-867A-0BC5EECFBF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3" name="" descr=""/>
          <p:cNvPicPr/>
          <p:nvPr/>
        </p:nvPicPr>
        <p:blipFill>
          <a:blip r:embed="rId1"/>
          <a:stretch/>
        </p:blipFill>
        <p:spPr>
          <a:xfrm>
            <a:off x="457200" y="1905120"/>
            <a:ext cx="8110440" cy="4190760"/>
          </a:xfrm>
          <a:prstGeom prst="rect">
            <a:avLst/>
          </a:prstGeom>
          <a:ln w="0">
            <a:noFill/>
          </a:ln>
        </p:spPr>
      </p:pic>
      <p:sp>
        <p:nvSpPr>
          <p:cNvPr id="3" name="PlaceHolder 2"/>
          <p:cNvSpPr>
            <a:spLocks noGrp="1"/>
          </p:cNvSpPr>
          <p:nvPr>
            <p:ph type="sldNum" idx="3"/>
          </p:nvPr>
        </p:nvSpPr>
        <p:spPr/>
        <p:txBody>
          <a:bodyPr/>
          <a:p>
            <a:fld id="{39650B3A-7053-4F6F-88D6-7AE1E15223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5" name="" descr=""/>
          <p:cNvPicPr/>
          <p:nvPr/>
        </p:nvPicPr>
        <p:blipFill>
          <a:blip r:embed="rId1"/>
          <a:stretch/>
        </p:blipFill>
        <p:spPr>
          <a:xfrm>
            <a:off x="1676520" y="2057400"/>
            <a:ext cx="6248160" cy="4191120"/>
          </a:xfrm>
          <a:prstGeom prst="rect">
            <a:avLst/>
          </a:prstGeom>
          <a:ln w="0">
            <a:noFill/>
          </a:ln>
        </p:spPr>
      </p:pic>
      <p:sp>
        <p:nvSpPr>
          <p:cNvPr id="3" name="PlaceHolder 2"/>
          <p:cNvSpPr>
            <a:spLocks noGrp="1"/>
          </p:cNvSpPr>
          <p:nvPr>
            <p:ph type="sldNum" idx="3"/>
          </p:nvPr>
        </p:nvSpPr>
        <p:spPr/>
        <p:txBody>
          <a:bodyPr/>
          <a:p>
            <a:fld id="{39E5D451-317A-441A-AC92-26A85A8E61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7" name="" descr=""/>
          <p:cNvPicPr/>
          <p:nvPr/>
        </p:nvPicPr>
        <p:blipFill>
          <a:blip r:embed="rId1"/>
          <a:stretch/>
        </p:blipFill>
        <p:spPr>
          <a:xfrm>
            <a:off x="457200" y="2057400"/>
            <a:ext cx="8110440" cy="4191120"/>
          </a:xfrm>
          <a:prstGeom prst="rect">
            <a:avLst/>
          </a:prstGeom>
          <a:ln w="0">
            <a:noFill/>
          </a:ln>
        </p:spPr>
      </p:pic>
      <p:sp>
        <p:nvSpPr>
          <p:cNvPr id="3" name="PlaceHolder 2"/>
          <p:cNvSpPr>
            <a:spLocks noGrp="1"/>
          </p:cNvSpPr>
          <p:nvPr>
            <p:ph type="sldNum" idx="3"/>
          </p:nvPr>
        </p:nvSpPr>
        <p:spPr/>
        <p:txBody>
          <a:bodyPr/>
          <a:p>
            <a:fld id="{0A1E1D05-3044-4411-A803-FC81968D16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9"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873493ED-E1C1-4D23-AF76-77A0E6A21D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1"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744AC183-F0D1-47A8-8F69-2FE6F219A6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3" name="" descr=""/>
          <p:cNvPicPr/>
          <p:nvPr/>
        </p:nvPicPr>
        <p:blipFill>
          <a:blip r:embed="rId1"/>
          <a:stretch/>
        </p:blipFill>
        <p:spPr>
          <a:xfrm>
            <a:off x="533520" y="2133720"/>
            <a:ext cx="8110440" cy="4190760"/>
          </a:xfrm>
          <a:prstGeom prst="rect">
            <a:avLst/>
          </a:prstGeom>
          <a:ln w="0">
            <a:noFill/>
          </a:ln>
        </p:spPr>
      </p:pic>
      <p:sp>
        <p:nvSpPr>
          <p:cNvPr id="3" name="PlaceHolder 2"/>
          <p:cNvSpPr>
            <a:spLocks noGrp="1"/>
          </p:cNvSpPr>
          <p:nvPr>
            <p:ph type="sldNum" idx="3"/>
          </p:nvPr>
        </p:nvSpPr>
        <p:spPr/>
        <p:txBody>
          <a:bodyPr/>
          <a:p>
            <a:fld id="{34F6E6FA-92ED-47B3-86C1-0A97CF3B5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5" name="" descr=""/>
          <p:cNvPicPr/>
          <p:nvPr/>
        </p:nvPicPr>
        <p:blipFill>
          <a:blip r:embed="rId1"/>
          <a:stretch/>
        </p:blipFill>
        <p:spPr>
          <a:xfrm>
            <a:off x="533520" y="2133720"/>
            <a:ext cx="8110440" cy="4190760"/>
          </a:xfrm>
          <a:prstGeom prst="rect">
            <a:avLst/>
          </a:prstGeom>
          <a:ln w="0">
            <a:noFill/>
          </a:ln>
        </p:spPr>
      </p:pic>
      <p:sp>
        <p:nvSpPr>
          <p:cNvPr id="3" name="PlaceHolder 2"/>
          <p:cNvSpPr>
            <a:spLocks noGrp="1"/>
          </p:cNvSpPr>
          <p:nvPr>
            <p:ph type="sldNum" idx="3"/>
          </p:nvPr>
        </p:nvSpPr>
        <p:spPr/>
        <p:txBody>
          <a:bodyPr/>
          <a:p>
            <a:fld id="{6FDAD83D-88A8-4693-B2C2-FC663379EE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7" name="" descr=""/>
          <p:cNvPicPr/>
          <p:nvPr/>
        </p:nvPicPr>
        <p:blipFill>
          <a:blip r:embed="rId1"/>
          <a:stretch/>
        </p:blipFill>
        <p:spPr>
          <a:xfrm>
            <a:off x="609480" y="2133720"/>
            <a:ext cx="8110800" cy="4190760"/>
          </a:xfrm>
          <a:prstGeom prst="rect">
            <a:avLst/>
          </a:prstGeom>
          <a:ln w="0">
            <a:noFill/>
          </a:ln>
        </p:spPr>
      </p:pic>
      <p:sp>
        <p:nvSpPr>
          <p:cNvPr id="3" name="PlaceHolder 2"/>
          <p:cNvSpPr>
            <a:spLocks noGrp="1"/>
          </p:cNvSpPr>
          <p:nvPr>
            <p:ph type="sldNum" idx="3"/>
          </p:nvPr>
        </p:nvSpPr>
        <p:spPr/>
        <p:txBody>
          <a:bodyPr/>
          <a:p>
            <a:fld id="{28160358-D539-4C36-A759-5F589C3FC0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umario</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lcance de norma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ferencia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Definicione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xigencias generale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ransformadores de Potencial</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rgas estándar</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tras característica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Norma de seguridad y calidad de servicio</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jemplo de norma en INN</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F47CCEC-45B0-4B79-9832-E151EC6DD6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9"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E6434917-BCA3-4A3A-B840-02B98CE307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Cargas Estándar</a:t>
            </a:r>
            <a:endParaRPr b="0" lang="en-US" sz="4400" spc="-1" strike="noStrike">
              <a:solidFill>
                <a:srgbClr val="003366"/>
              </a:solidFill>
              <a:latin typeface="Verdana"/>
            </a:endParaRPr>
          </a:p>
        </p:txBody>
      </p:sp>
      <p:pic>
        <p:nvPicPr>
          <p:cNvPr id="251" name="" descr=""/>
          <p:cNvPicPr/>
          <p:nvPr/>
        </p:nvPicPr>
        <p:blipFill>
          <a:blip r:embed="rId1"/>
          <a:stretch/>
        </p:blipFill>
        <p:spPr>
          <a:xfrm>
            <a:off x="1219320" y="2133720"/>
            <a:ext cx="7086600" cy="4190760"/>
          </a:xfrm>
          <a:prstGeom prst="rect">
            <a:avLst/>
          </a:prstGeom>
          <a:ln w="0">
            <a:noFill/>
          </a:ln>
        </p:spPr>
      </p:pic>
      <p:sp>
        <p:nvSpPr>
          <p:cNvPr id="3" name="PlaceHolder 2"/>
          <p:cNvSpPr>
            <a:spLocks noGrp="1"/>
          </p:cNvSpPr>
          <p:nvPr>
            <p:ph type="sldNum" idx="3"/>
          </p:nvPr>
        </p:nvSpPr>
        <p:spPr/>
        <p:txBody>
          <a:bodyPr/>
          <a:p>
            <a:fld id="{2643ADD3-2451-4DE4-AFC4-602DBB8266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Otras Características</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veles de precisió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aracterística térmica de carg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Datos de plac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rminal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apacidad de Cortocircuit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Información de us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st de voltaje inducido</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4628EFB-00E3-4483-A227-1379AF3576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66"/>
                </a:solidFill>
                <a:latin typeface="Verdana"/>
              </a:rPr>
              <a:t>Norma técnica de </a:t>
            </a:r>
            <a:br>
              <a:rPr sz="3600"/>
            </a:br>
            <a:r>
              <a:rPr b="0" lang="es-ES" sz="3600" spc="-1" strike="noStrike">
                <a:solidFill>
                  <a:srgbClr val="003366"/>
                </a:solidFill>
                <a:latin typeface="Verdana"/>
              </a:rPr>
              <a:t>seguridad y calidad de servicio</a:t>
            </a:r>
            <a:endParaRPr b="0" lang="en-US" sz="36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os Coordinados que posean u operen equipos de transformación pertenecientes al Sistema de Transmisión, deberán entregar a la DP (Dirección de Peajes del CDEC.) mediante informe escrito y en medio electrónico los datos que a continuación se especifican:</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a) Capacidad nominal en [MV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b) Impedancia de secuencia positiv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c) Impedancia de secuencia cer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 Relación de Transformación y tensiones nominales.</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e) Grupo de conexión.</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f) Pérdidas en vací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g) Pérdidas a plena carg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h) Método de conexión a tierra del neutro (sólidamente conectado a tierra, vía impedancia u otro métod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i) Tipo de cambiador de tap (en vacío o en carga), cantidad de pasos y rango de regulación.</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j) Máxima sobrecarga admisible, curva de dañ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k) Protecciones y calibraciones.</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 Tasa de indisponibilidad forzad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m) Tasa de indisponibilidad programada.</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4E9A87E8-AB4D-45BE-BB02-CF0FA43368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Normas en una especificación</a:t>
            </a:r>
            <a:endParaRPr b="0" lang="en-US" sz="40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t>
            </a:r>
            <a:r>
              <a:rPr b="0" lang="es-ES" sz="2400" spc="-1" strike="noStrike">
                <a:solidFill>
                  <a:srgbClr val="000000"/>
                </a:solidFill>
                <a:latin typeface="Verdana"/>
              </a:rPr>
              <a:t>Mientras no se indique explícitamente lo contrario dentro de estas especificaciones, los transformadores para instrumentos deben satisfacer en general las normas aplicables de la Comisión Electrotécnica Internacional CEI (International Electrotechnical Commission IEC) y particularmente las publicaciones No. 60044, 186 y 358. En cualquier caso regirá la versión vigente de cada norma a la fecha de la convocatoria para el concurso o licitación, incluyendo los anexos, addenda o revisiones vigentes de cada norma en dicha fecha”.</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78E06A7-6A5A-4D68-968C-D09131686C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Ejemplo de normas del INN</a:t>
            </a:r>
            <a:endParaRPr b="0" lang="en-US" sz="4400" spc="-1" strike="noStrike">
              <a:solidFill>
                <a:srgbClr val="003366"/>
              </a:solidFill>
              <a:latin typeface="Verdana"/>
            </a:endParaRPr>
          </a:p>
        </p:txBody>
      </p:sp>
      <p:graphicFrame>
        <p:nvGraphicFramePr>
          <p:cNvPr id="259" name=""/>
          <p:cNvGraphicFramePr/>
          <p:nvPr/>
        </p:nvGraphicFramePr>
        <p:xfrm>
          <a:off x="611280" y="1844640"/>
          <a:ext cx="8064360" cy="4365720"/>
        </p:xfrm>
        <a:graphic>
          <a:graphicData uri="http://schemas.openxmlformats.org/presentationml/2006/ole">
            <p:oleObj r:id="rId1" spid="">
              <p:embed/>
              <p:pic>
                <p:nvPicPr>
                  <p:cNvPr id="260" name="" descr=""/>
                  <p:cNvPicPr/>
                  <p:nvPr/>
                </p:nvPicPr>
                <p:blipFill>
                  <a:blip r:embed="rId2"/>
                  <a:stretch/>
                </p:blipFill>
                <p:spPr>
                  <a:xfrm>
                    <a:off x="611280" y="1844640"/>
                    <a:ext cx="8064360" cy="4365720"/>
                  </a:xfrm>
                  <a:prstGeom prst="rect">
                    <a:avLst/>
                  </a:prstGeom>
                  <a:ln w="0">
                    <a:noFill/>
                  </a:ln>
                </p:spPr>
              </p:pic>
            </p:oleObj>
          </a:graphicData>
        </a:graphic>
      </p:graphicFrame>
      <p:sp>
        <p:nvSpPr>
          <p:cNvPr id="3" name="PlaceHolder 2"/>
          <p:cNvSpPr>
            <a:spLocks noGrp="1"/>
          </p:cNvSpPr>
          <p:nvPr>
            <p:ph type="sldNum" idx="3"/>
          </p:nvPr>
        </p:nvSpPr>
        <p:spPr/>
        <p:txBody>
          <a:bodyPr/>
          <a:p>
            <a:fld id="{E28EF5D4-6A49-4E48-A1D7-94BCBB323F09}"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orma Técnica IEEE Std C57.13-1993 (Revisión de norma IEEE Std C57.13-1978)</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a:t>
            </a:r>
            <a:r>
              <a:rPr b="0" lang="es-CL" sz="3200" spc="-1" strike="noStrike">
                <a:solidFill>
                  <a:srgbClr val="000000"/>
                </a:solidFill>
                <a:latin typeface="Verdana"/>
              </a:rPr>
              <a:t>IEEE Standard Requirements for Instrument Transformer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1C0F7BD-D586-400E-9839-7A3C0BEE0A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Alcances de norma</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Redactada para ser usada como base de estudios de desempeño, intercambio y seguridad de transformadores eléctricos, y para asistir en la correcta selección de dichos equipo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0211EB-2B3B-4368-886D-A9DCA24645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Alcances de norma</a:t>
            </a:r>
            <a:endParaRPr b="0" lang="en-US" sz="4400" spc="-1" strike="noStrike">
              <a:solidFill>
                <a:srgbClr val="003366"/>
              </a:solidFill>
              <a:latin typeface="Verdana"/>
            </a:endParaRPr>
          </a:p>
        </p:txBody>
      </p:sp>
      <p:sp>
        <p:nvSpPr>
          <p:cNvPr id="21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Se refiere también a características eléctricas, mecánicas y dimension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sidera características de seguridad de transformadores de corriente y de voltaje usados en la medición de electricidad y el control del equipamiento asociado con la generación, distribución y transmisión de corriente altern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ADC9650-59B8-4C0C-99AA-C43F43132D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Referencias</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NSI C37.06-1987</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37.04-1979</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37.09</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57.12.00-1993</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57.12.90-1993</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4-1978</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21-1976</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100-1992</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NEMA SG 4-1975 (R 1980)</a:t>
            </a: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1C9DB33-2C80-4499-8FED-65343CBFF2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Definiciones</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Glosario de términos técnicos y definiciones usados en el desarrollo de la norm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A6DC790-1658-4830-B232-1BCC45E141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diciones de servici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emperatura</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titud</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Vibracion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Vapor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tc</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9A6EE23-3F00-45CE-9E50-A1FB8E3FDE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Efecto de densidad del aire en voltaje de ruptur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Frecuenci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Efecto de altitud en aumento de temperatura del equipo y efecto de temperatura ambiente en carga permisibl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BD0C1AC-3D38-4DC8-B2B8-AF2DE2963F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7:03:35Z</dcterms:created>
  <dc:creator>Lorena Mella</dc:creator>
  <dc:description/>
  <dc:language>en-US</dc:language>
  <cp:lastModifiedBy>ABOTTESELLE</cp:lastModifiedBy>
  <dcterms:modified xsi:type="dcterms:W3CDTF">2007-11-27T17:35:54Z</dcterms:modified>
  <cp:revision>5</cp:revision>
  <dc:subject/>
  <dc:title>Norma Técnica Transformadores Potencial</dc:title>
</cp:coreProperties>
</file>