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DEBA2-D193-43D1-B0BE-C9B936D43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BC60-64D7-4ED4-955E-5CF2246A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820BA-F68E-450B-B2F1-F8D104742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351A8-12C3-4B9A-A297-F2165D89A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1C6E3-4709-4E20-AD7B-422D5AA94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D4D7B-CB11-45A9-B941-A765B931A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18200-046E-40AF-ACFD-0113C3381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C938E-D142-4863-AFA4-4A390F492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C738C-B0DF-4863-8328-A7F0CF793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1E1F6-7781-4199-ADAC-55BBB7E3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9E90-DA1F-43D6-8627-3AF5371E9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7BAD-C811-4E22-814D-D38CB681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09B89-6C85-4F54-985C-29B9C7F61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F9D33-EB84-4AA7-BF3B-0661D552F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E6B8-537E-4B1C-8007-1972A6A76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8B112-EAD3-45DE-A897-626B0724A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18A62-634E-412E-A27B-B13172208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C2B59-87AB-452C-B4FC-87F88E3D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05EB1-0FD1-49C9-845B-2C0EBD64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267EA-7CCB-4588-AE00-815A2935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C7D4-875C-4826-8CFA-A8491A9F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D392-B4F0-4DCF-BECF-A546CE750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E6C3-7889-4F8F-A320-2042AAFFE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6593-FDA8-41B7-8ECE-89273C5FB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BE7A-F6F9-46CB-B8A5-BF79F7FCCEFF}"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93DA-2CBD-4E54-A8B6-C875A67BF1BD}"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Norma Técnica Transformadores Potencial</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57C – Taller de Diseño en Sistemas de Potenci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colás Carrasc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ntonio Moren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atricio Sot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6"/>
          </p:nvPr>
        </p:nvSpPr>
        <p:spPr/>
        <p:txBody>
          <a:bodyPr/>
          <a:p>
            <a:fld id="{FAACC0DF-34BC-4B3E-82B4-0A1CCDADC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BIL (Basic Insulation Level)</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ieléctrico</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ruebas varias de transformador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trucción</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olaridad </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ipo de terminale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imbologia</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3AA97F3-153A-4996-AFB6-2D3A312B7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1" name="" descr=""/>
          <p:cNvPicPr/>
          <p:nvPr/>
        </p:nvPicPr>
        <p:blipFill>
          <a:blip r:embed="rId1"/>
          <a:stretch/>
        </p:blipFill>
        <p:spPr>
          <a:xfrm>
            <a:off x="912960" y="1905120"/>
            <a:ext cx="6707160" cy="4805280"/>
          </a:xfrm>
          <a:prstGeom prst="rect">
            <a:avLst/>
          </a:prstGeom>
          <a:ln w="0">
            <a:noFill/>
          </a:ln>
        </p:spPr>
      </p:pic>
      <p:sp>
        <p:nvSpPr>
          <p:cNvPr id="3" name="PlaceHolder 2"/>
          <p:cNvSpPr>
            <a:spLocks noGrp="1"/>
          </p:cNvSpPr>
          <p:nvPr>
            <p:ph type="sldNum" idx="3"/>
          </p:nvPr>
        </p:nvSpPr>
        <p:spPr/>
        <p:txBody>
          <a:bodyPr/>
          <a:p>
            <a:fld id="{297ACEFE-3FF1-4AB6-BDBB-1F2531744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3" name="" descr=""/>
          <p:cNvPicPr/>
          <p:nvPr/>
        </p:nvPicPr>
        <p:blipFill>
          <a:blip r:embed="rId1"/>
          <a:stretch/>
        </p:blipFill>
        <p:spPr>
          <a:xfrm>
            <a:off x="457200" y="1905120"/>
            <a:ext cx="8110440" cy="4190760"/>
          </a:xfrm>
          <a:prstGeom prst="rect">
            <a:avLst/>
          </a:prstGeom>
          <a:ln w="0">
            <a:noFill/>
          </a:ln>
        </p:spPr>
      </p:pic>
      <p:sp>
        <p:nvSpPr>
          <p:cNvPr id="3" name="PlaceHolder 2"/>
          <p:cNvSpPr>
            <a:spLocks noGrp="1"/>
          </p:cNvSpPr>
          <p:nvPr>
            <p:ph type="sldNum" idx="3"/>
          </p:nvPr>
        </p:nvSpPr>
        <p:spPr/>
        <p:txBody>
          <a:bodyPr/>
          <a:p>
            <a:fld id="{3113EC6B-667E-4A8D-B676-2DBF5E109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5" name="" descr=""/>
          <p:cNvPicPr/>
          <p:nvPr/>
        </p:nvPicPr>
        <p:blipFill>
          <a:blip r:embed="rId1"/>
          <a:stretch/>
        </p:blipFill>
        <p:spPr>
          <a:xfrm>
            <a:off x="1676520" y="2057400"/>
            <a:ext cx="6248160" cy="4191120"/>
          </a:xfrm>
          <a:prstGeom prst="rect">
            <a:avLst/>
          </a:prstGeom>
          <a:ln w="0">
            <a:noFill/>
          </a:ln>
        </p:spPr>
      </p:pic>
      <p:sp>
        <p:nvSpPr>
          <p:cNvPr id="3" name="PlaceHolder 2"/>
          <p:cNvSpPr>
            <a:spLocks noGrp="1"/>
          </p:cNvSpPr>
          <p:nvPr>
            <p:ph type="sldNum" idx="3"/>
          </p:nvPr>
        </p:nvSpPr>
        <p:spPr/>
        <p:txBody>
          <a:bodyPr/>
          <a:p>
            <a:fld id="{A301388B-DC6A-470F-947F-BFB7FA7922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7" name="" descr=""/>
          <p:cNvPicPr/>
          <p:nvPr/>
        </p:nvPicPr>
        <p:blipFill>
          <a:blip r:embed="rId1"/>
          <a:stretch/>
        </p:blipFill>
        <p:spPr>
          <a:xfrm>
            <a:off x="457200" y="2057400"/>
            <a:ext cx="8110440" cy="4191120"/>
          </a:xfrm>
          <a:prstGeom prst="rect">
            <a:avLst/>
          </a:prstGeom>
          <a:ln w="0">
            <a:noFill/>
          </a:ln>
        </p:spPr>
      </p:pic>
      <p:sp>
        <p:nvSpPr>
          <p:cNvPr id="3" name="PlaceHolder 2"/>
          <p:cNvSpPr>
            <a:spLocks noGrp="1"/>
          </p:cNvSpPr>
          <p:nvPr>
            <p:ph type="sldNum" idx="3"/>
          </p:nvPr>
        </p:nvSpPr>
        <p:spPr/>
        <p:txBody>
          <a:bodyPr/>
          <a:p>
            <a:fld id="{5FF7BD09-F8ED-4F7D-AADC-E3F34E701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7917068C-644A-4C35-9BBE-34279F28BF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1"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45B27E44-F091-4F36-8A92-49BA5CD52C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3"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EB97BA90-E2C8-4BCA-8B74-55447BECAC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5"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E720B682-0E7F-46E1-85AC-029AEFDD6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7" name="" descr=""/>
          <p:cNvPicPr/>
          <p:nvPr/>
        </p:nvPicPr>
        <p:blipFill>
          <a:blip r:embed="rId1"/>
          <a:stretch/>
        </p:blipFill>
        <p:spPr>
          <a:xfrm>
            <a:off x="609480" y="2133720"/>
            <a:ext cx="8110800" cy="4190760"/>
          </a:xfrm>
          <a:prstGeom prst="rect">
            <a:avLst/>
          </a:prstGeom>
          <a:ln w="0">
            <a:noFill/>
          </a:ln>
        </p:spPr>
      </p:pic>
      <p:sp>
        <p:nvSpPr>
          <p:cNvPr id="3" name="PlaceHolder 2"/>
          <p:cNvSpPr>
            <a:spLocks noGrp="1"/>
          </p:cNvSpPr>
          <p:nvPr>
            <p:ph type="sldNum" idx="3"/>
          </p:nvPr>
        </p:nvSpPr>
        <p:spPr/>
        <p:txBody>
          <a:bodyPr/>
          <a:p>
            <a:fld id="{FC4ED56F-3087-4456-BC45-E7889A1D30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umario</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lcance de norma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ferenci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efinicion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xigencias general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ransformadores de Potencial</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rgas estánda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tras característic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Norma de seguridad y calidad de servicio</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jemplo de norma en INN</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B355339-80A6-47E3-BECE-5F0B56BCB0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81CA4748-43FB-4D57-B4A8-3DEF6C3AB0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Cargas Estándar</a:t>
            </a:r>
            <a:endParaRPr b="0" lang="en-US" sz="4400" spc="-1" strike="noStrike">
              <a:solidFill>
                <a:srgbClr val="003366"/>
              </a:solidFill>
              <a:latin typeface="Verdana"/>
            </a:endParaRPr>
          </a:p>
        </p:txBody>
      </p:sp>
      <p:pic>
        <p:nvPicPr>
          <p:cNvPr id="251" name="" descr=""/>
          <p:cNvPicPr/>
          <p:nvPr/>
        </p:nvPicPr>
        <p:blipFill>
          <a:blip r:embed="rId1"/>
          <a:stretch/>
        </p:blipFill>
        <p:spPr>
          <a:xfrm>
            <a:off x="1219320" y="2133720"/>
            <a:ext cx="7086600" cy="4190760"/>
          </a:xfrm>
          <a:prstGeom prst="rect">
            <a:avLst/>
          </a:prstGeom>
          <a:ln w="0">
            <a:noFill/>
          </a:ln>
        </p:spPr>
      </p:pic>
      <p:sp>
        <p:nvSpPr>
          <p:cNvPr id="3" name="PlaceHolder 2"/>
          <p:cNvSpPr>
            <a:spLocks noGrp="1"/>
          </p:cNvSpPr>
          <p:nvPr>
            <p:ph type="sldNum" idx="3"/>
          </p:nvPr>
        </p:nvSpPr>
        <p:spPr/>
        <p:txBody>
          <a:bodyPr/>
          <a:p>
            <a:fld id="{A4A43ECA-0A91-41E9-BE05-B549AF838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Otras Característica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precisió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racterística térmica de carg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Datos de plac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rmin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pacidad de Cortocircui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Información de us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e voltaje inducid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3A6F87B-1316-4F0F-B4AD-D103D2F7D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Verdana"/>
              </a:rPr>
              <a:t>Norma técnica de </a:t>
            </a:r>
            <a:br>
              <a:rPr sz="3600"/>
            </a:br>
            <a:r>
              <a:rPr b="0" lang="es-ES" sz="3600" spc="-1" strike="noStrike">
                <a:solidFill>
                  <a:srgbClr val="003366"/>
                </a:solidFill>
                <a:latin typeface="Verdana"/>
              </a:rPr>
              <a:t>seguridad y calidad de servicio</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os Coordinados que posean u operen equipos de transformación pertenecientes al Sistema de Transmisión, deberán entregar a la DP (Dirección de Peajes del CDEC.) mediante informe escrito y en medio electrónico los datos que a continuación se especifican:</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a) Capacidad nominal en [M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b) Impedancia de secuencia positi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 Impedancia de secuencia cer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 Relación de Transformación y tensiones nominal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 Grupo de conex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f) Pérdidas en vací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g) Pérdidas a plena carg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h) Método de conexión a tierra del neutro (sólidamente conectado a tierra, vía impedancia u otro métod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 Tipo de cambiador de tap (en vacío o en carga), cantidad de pasos y rango de regulac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j) Máxima sobrecarga admisible, curva de dañ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k) Protecciones y calibracion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 Tasa de indisponibilidad forzad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m) Tasa de indisponibilidad programada.</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5C4383B7-6998-4B99-B43E-8651955B0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Normas en una especificación</a:t>
            </a:r>
            <a:endParaRPr b="0" lang="en-US" sz="40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t>
            </a:r>
            <a:r>
              <a:rPr b="0" lang="es-ES" sz="2400" spc="-1" strike="noStrike">
                <a:solidFill>
                  <a:srgbClr val="000000"/>
                </a:solidFill>
                <a:latin typeface="Verdan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addenda o revisiones vigentes de cada norma en dicha fech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5D336D5-4919-4D3C-AE18-7DFDE9877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jemplo de normas del INN</a:t>
            </a:r>
            <a:endParaRPr b="0" lang="en-US" sz="4400" spc="-1" strike="noStrike">
              <a:solidFill>
                <a:srgbClr val="003366"/>
              </a:solidFill>
              <a:latin typeface="Verdana"/>
            </a:endParaRPr>
          </a:p>
        </p:txBody>
      </p:sp>
      <p:graphicFrame>
        <p:nvGraphicFramePr>
          <p:cNvPr id="259" name=""/>
          <p:cNvGraphicFramePr/>
          <p:nvPr/>
        </p:nvGraphicFramePr>
        <p:xfrm>
          <a:off x="611280" y="1844640"/>
          <a:ext cx="8064360" cy="4365720"/>
        </p:xfrm>
        <a:graphic>
          <a:graphicData uri="http://schemas.openxmlformats.org/presentationml/2006/ole">
            <p:oleObj r:id="rId1" spid="">
              <p:embed/>
              <p:pic>
                <p:nvPicPr>
                  <p:cNvPr id="260" name="" descr=""/>
                  <p:cNvPicPr/>
                  <p:nvPr/>
                </p:nvPicPr>
                <p:blipFill>
                  <a:blip r:embed="rId2"/>
                  <a:stretch/>
                </p:blipFill>
                <p:spPr>
                  <a:xfrm>
                    <a:off x="611280" y="1844640"/>
                    <a:ext cx="8064360" cy="4365720"/>
                  </a:xfrm>
                  <a:prstGeom prst="rect">
                    <a:avLst/>
                  </a:prstGeom>
                  <a:ln w="0">
                    <a:noFill/>
                  </a:ln>
                </p:spPr>
              </p:pic>
            </p:oleObj>
          </a:graphicData>
        </a:graphic>
      </p:graphicFrame>
      <p:sp>
        <p:nvSpPr>
          <p:cNvPr id="3" name="PlaceHolder 2"/>
          <p:cNvSpPr>
            <a:spLocks noGrp="1"/>
          </p:cNvSpPr>
          <p:nvPr>
            <p:ph type="sldNum" idx="3"/>
          </p:nvPr>
        </p:nvSpPr>
        <p:spPr/>
        <p:txBody>
          <a:bodyPr/>
          <a:p>
            <a:fld id="{0907092C-EF6F-4928-8BD0-CD686335AF1B}"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orma Técnica IEEE Std C57.13-1993 (Revisión de norma IEEE Std C57.13-1978)</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t>
            </a:r>
            <a:r>
              <a:rPr b="0" lang="es-CL" sz="3200" spc="-1" strike="noStrike">
                <a:solidFill>
                  <a:srgbClr val="000000"/>
                </a:solidFill>
                <a:latin typeface="Verdana"/>
              </a:rPr>
              <a:t>IEEE Standard Requirements for Instrument Transforme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73D193-46D6-4C0F-B9F0-BADF082856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Redactada para ser usada como base de estudios de desempeño, intercambio y seguridad de transformadores eléctricos, y para asistir en la correcta selección de dichos equipo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5EA7A33-A009-4EE7-AD8C-6A1C531EB4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Se refiere también a características eléctricas, mecánicas y dimension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idera características de seguridad de transformadores de corriente y de voltaje usados en la medición de electricidad y el control del equipamiento asociado con la generación, distribución y transmisión de corriente altern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9A42D0-3C5F-4689-89CA-4FC576C898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Referencias</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SI C37.06-1987</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4-197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0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9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4-1978</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21-1976</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100-1992</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EMA SG 4-1975 (R 1980)</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073D30E-EF6B-4AE9-AF42-C1F7DB950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Definiciones</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Glosario de términos técnicos y definiciones usados en el desarrollo de la norm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1DA2DF9-157B-42CB-96DF-13C62DBA61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diciones de servici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emperatura</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titu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ibracion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ap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tc</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9AE9ED7-E671-4F3B-98AD-E2C88835CD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densidad del aire en voltaje de ruptur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Frecuenci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altitud en aumento de temperatura del equipo y efecto de temperatura ambiente en carga permisi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CEE846-B5CD-42BB-9697-87962A0C89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7:03:35Z</dcterms:created>
  <dc:creator>Lorena Mella</dc:creator>
  <dc:description/>
  <dc:language>en-US</dc:language>
  <cp:lastModifiedBy>ABOTTESELLE</cp:lastModifiedBy>
  <dcterms:modified xsi:type="dcterms:W3CDTF">2007-11-27T17:35:54Z</dcterms:modified>
  <cp:revision>5</cp:revision>
  <dc:subject/>
  <dc:title>Norma Técnica Transformadores Potencial</dc:title>
</cp:coreProperties>
</file>