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10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8A68-0891-4849-9A78-4C6F4F6D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3618-9DC5-4938-9E97-F50419EA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581F-440B-415A-B2CC-49A9B4446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8CC6-562F-4833-8A3B-DD43B4208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D013-2757-48D9-8828-3770F3610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3F8E-33F7-493D-AD58-0A3C5621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A8DF-8392-4D03-B7B7-3BB12167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84B7-3643-4AB6-B240-CE132FC2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53F3-DD82-4A57-A75F-D2BE6361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07FE-34E3-4A92-9A71-65F9ED57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6ABA-D799-4AAE-9EA5-5F3DF3E4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E425-779E-43FB-A16C-6E3A2EE2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72D9-7297-439E-A1EB-69BCBD95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D521-763F-4DEE-97C8-9D4412AD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8029-9935-4592-BCDD-EA954FD5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4003-FCB2-4B94-A8F8-EC70FF7E0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358D-3B6A-4868-9578-DC4481F41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FDD1-FBE1-4CC4-81AA-D48676A6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D14E-ACD9-4C0B-9468-975BA0BB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65EB-7655-42A9-8164-94A8F709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02E8-5F20-4CB7-8FF3-42B2293D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ED49-7805-418C-968C-BC1F7F50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80FA-DC9A-46E6-95EB-CFC0F372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11BF-BC28-419D-8297-B734B66B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95B8-C71D-4B18-B45E-FE66473FE08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03B5-FA88-43AB-9CC3-2919684E610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google.com/" TargetMode="External"/><Relationship Id="rId4" Type="http://schemas.openxmlformats.org/officeDocument/2006/relationships/hyperlink" Target="http://www.yahoo.com/" TargetMode="External"/><Relationship Id="rId5" Type="http://schemas.openxmlformats.org/officeDocument/2006/relationships/hyperlink" Target="http://www.live.com/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996840" y="749160"/>
            <a:ext cx="6959880" cy="5216760"/>
            <a:chOff x="996840" y="749160"/>
            <a:chExt cx="6959880" cy="5216760"/>
          </a:xfrm>
        </p:grpSpPr>
        <p:pic>
          <p:nvPicPr>
            <p:cNvPr id="163" name="" descr=""/>
            <p:cNvPicPr/>
            <p:nvPr/>
          </p:nvPicPr>
          <p:blipFill>
            <a:blip r:embed="rId1">
              <a:lum bright="-42000"/>
            </a:blip>
            <a:stretch/>
          </p:blipFill>
          <p:spPr>
            <a:xfrm>
              <a:off x="996840" y="749160"/>
              <a:ext cx="6959880" cy="521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Internet</a:t>
            </a:r>
            <a:br>
              <a:rPr sz="4400"/>
            </a:b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Publicaciones Transformadores de Potenc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57C. Taller de Diseño Potencia 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ilko Padilla 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German Concha V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Transformador de Potenc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rgas normalizadas según A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xactitud depende de la carga y por ello, las normas (ASA, VDE) especifican éstas. Ellas se han elegido para incluir el rango normal de servici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14280" y="4221000"/>
            <a:ext cx="882972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Transformador de Potencial Capacitiv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s normas ASA (C 57.13), clasifican a los TT/PP en 3 clases designadas como 0,3; 0,6 y 1,2. Estas cifras indican el porcentaje de error máximo que puede tener la razón del transformador al tener conectada una carga secundaria normalizada para cualquier voltaje comprendido entre el 90 y el 110% de la tensión nominal, a la frecuencia nominal y desde funcionamiento en vacío hasta el correspondiente a plena carg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Transformador de Potencial Capacitiv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muy elevadas tensiones, el tamaño de un T/P tiende a crecer enormemente, como también su cost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na alternativa más económica son los “transformadores de potencial” de tipo capaci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Transformador de Potencial Capacitiv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dispositivo es básicamente un divisor de voltaje capacitiv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547640" y="2852640"/>
            <a:ext cx="5870880" cy="36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Transformador de Potencial Capacitiv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57200" y="1895400"/>
            <a:ext cx="822960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Análisis Documento “Guía para el comprador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l documento guía para el comprador obtenido de Internet, contiene Productos disponibles en ABB, Datos técnicos de los equipos, materiales usados en diferentes productos, control de calidad y prueb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Especificaciones técnicas generales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ens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Nivel de aislamiento general (soportar cargas dieléctrica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ueba de impulso de descarga (forma de onda estándar, 1.2/5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µ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ecuencia industrial seco/humedo (sobretensiones a frecuencia industrial, aislamiento interno, aislamiento externo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emperatura ambiente, influye en el diseño térm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Especificaciones técnicas generales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ltitud de instalación, rigidez dieléctr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istancia de fuga (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istancia más corta a lo largo de la superficie de un aislador entre dos piezas conductoras. Mm, mm/KV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Nivel de Contaminación (norma IEC60815, influye en la distancia de fug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rga del viento (basados en una velocidad de 34m/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Especificaciones Técnicas transformador de tensión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362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Factor de Tensión (Vf): Norma IE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conex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rg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otencia límite de calentami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ída de tensión en el secundario, influye en la relación de medi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tr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Datos para especificar el pedid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atos con que el cliente especifica el equipo que necesita. La empresa como datos mínimos pide lo siguien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formación mínim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nt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ándar/Especificaciones del cli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recu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ensión más elevada de la 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Nivel de aislamiento nomi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Conteni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Búsqueda en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nálisis de Docum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Datos para especificar el pedid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62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ensiones de prueba (impulso 1.2/5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µ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lación de tensiones primaria/secunda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úmero de devanados secundarios y conexion de es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quisitos especia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islador de caucho de silicona (gri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tancia de fug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lor de la porcel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Datos para especificar el pedid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quisitos adicion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emperatura ambie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ltura con respecto al nivel del m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n el documento también se hace un completo y detallado análisis sobre las ventajas y desventajas de distintos tipos de diseñ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Ejemplo Tipos de diseñ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M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03848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M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84360" y="1268280"/>
            <a:ext cx="3456000" cy="52293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4643280" y="1268280"/>
            <a:ext cx="3600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ueba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353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EC 60044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) Verificación de la polaridad y de la designación de bor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) Prueba de soporte de frecuencia industrial sobre el devanado primario (Prueba aplicada, 75 Hz durante un minut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) Medición de descarga pa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) Prueba de soporte de frecuencia industrial en devanados secundarios (Prueba aplicada: 4 kV, 50 Hz durante un minut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) Determinación de err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uebas específicas de AB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) Prueba de sell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) Medición de intensidad en vací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as nor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pruebas descritas más arriba cumplen íntegramente otras normas, entre ellas la IEE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6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cado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encontrar información en Internet sobre transformadores de potencial es necesario recurrir a un buscado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buscadores de Internet más populares 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Google (</a:t>
            </a:r>
            <a:r>
              <a:rPr b="0" lang="en-GB" sz="28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www.google.co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Yahoo! (</a:t>
            </a:r>
            <a:r>
              <a:rPr b="0" lang="en-GB" sz="28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www.yahoo.co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Live search de Microsoft(</a:t>
            </a:r>
            <a:r>
              <a:rPr b="0" lang="en-GB" sz="2800" spc="-1" strike="noStrike" u="sng">
                <a:solidFill>
                  <a:srgbClr val="86d1ec"/>
                </a:solidFill>
                <a:uFillTx/>
                <a:latin typeface="Arial"/>
                <a:hlinkClick r:id="rId5"/>
              </a:rPr>
              <a:t>www.live.co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6">
            <a:lum contrast="36000"/>
          </a:blip>
          <a:stretch/>
        </p:blipFill>
        <p:spPr>
          <a:xfrm>
            <a:off x="3809880" y="5638680"/>
            <a:ext cx="2286000" cy="8701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914400" y="5715000"/>
            <a:ext cx="2212920" cy="5191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8"/>
          <a:stretch/>
        </p:blipFill>
        <p:spPr>
          <a:xfrm>
            <a:off x="6705720" y="5867280"/>
            <a:ext cx="182880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cado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úsqueda Avanz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5800" y="2590920"/>
            <a:ext cx="778176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cadores especializa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EEE XPL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http://ieeexplore.ieee.org/Xplore/guesthome.j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09480" y="3276720"/>
            <a:ext cx="72280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cumentos Analiza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analizaron dos documentos encontrados con GOOG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primero se titula como “COMPONENTES DE UN SISTEMA DE PROTECCIONES “, de allí se estudia la información sobre el transformador de poten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segundo documento se titula “Transformadores de medida exteriores, guía para el comprador”, el cual es un documento de ABB, en donde se muestran los tipos de productos ofrecidos, materiales, normas y prueb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Análisis Documento “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Componentes de un sistema de protección </a:t>
            </a: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e incluye información sob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racterísticas de un T/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/P capac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Transformador de Potenc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 un transformador de medida utilizado para reducir las tensiones primarias del SEP (normalmente del orden de los kV) a tensiones secundarias de rangos normalizados (115-120 volt), en forma directamente proporcion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transformador de potencial es muy similar a un transformador de poder ya que ambos tienen la finalidad de cambiar el nivel de la tensió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transformador de potencial se define, en cambio, en términos de la máxima carga (o burden) que es capaz de entregar sin exceder los límites de error de razón y de ángulo especificad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Transformador de Potenc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229600" cy="27957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971640" y="4437000"/>
            <a:ext cx="73105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4:08:18Z</dcterms:created>
  <dc:creator>Laboratorio de Telecomunicaciones</dc:creator>
  <dc:description/>
  <dc:language>en-US</dc:language>
  <cp:lastModifiedBy>ABOTTESELLE</cp:lastModifiedBy>
  <dcterms:modified xsi:type="dcterms:W3CDTF">2007-11-26T18:37:14Z</dcterms:modified>
  <cp:revision>10</cp:revision>
  <dc:subject/>
  <dc:title>Internet Publicaciones Transformadores de Potencial</dc:title>
</cp:coreProperties>
</file>