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CFB-A6FF-41FD-895A-5AB02E4E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EB3-3873-4E1A-8714-699BB54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EA9-81A6-40F1-AB39-EBDD2331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28B-09C4-43B6-A64F-87AEEB62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7ED1-B686-4BFA-8358-A04CB9BA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7A3A-1FF2-49CD-8976-D2BC90D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906-CC8C-4122-A906-6DEC76BE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949A-E7A7-4829-92B4-74B07C57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3ECC-5870-49BE-8806-3503698E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C23A-F5D8-477D-9EC3-135933BE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231-19C3-4CDF-A384-C0AE297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F26-A8CE-438A-8C0C-3FEFD646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CD3-0F63-47ED-8152-CD637D3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3AA-9A7A-4906-81FD-4099DA2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305-7C1C-4F43-A7D2-F730264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C99D-CCB1-4837-8A67-267EE222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4CC-F997-4182-9618-F532890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F98-E58A-4A16-8798-1ED7D01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932-C13F-436F-B6D1-48B4E75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4E7-AE26-43AF-ABF1-EA68ED9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0FF-3875-416E-8AE1-13A198B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49B-6421-4EE6-9348-C7B8375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88F-1EFD-426D-8F27-09548839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7B3-04C8-4E36-91A1-00952B3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D1E0-30B0-4936-8ACC-1A59D9B5EDD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5ABA-8500-4A94-B829-046119F9512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live.com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96840" y="749160"/>
            <a:ext cx="6959880" cy="5216760"/>
            <a:chOff x="996840" y="749160"/>
            <a:chExt cx="6959880" cy="521676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lum bright="-42000"/>
            </a:blip>
            <a:stretch/>
          </p:blipFill>
          <p:spPr>
            <a:xfrm>
              <a:off x="996840" y="749160"/>
              <a:ext cx="6959880" cy="521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ublicaciones Transformadores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57C. Taller de Diseño Potenci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ilko Padilla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rman Concha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s normalizadas según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actitud depende de la carga y por ello, las normas (ASA, VDE) especifican éstas. Ellas se han elegido para incluir el rango normal de servic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4280" y="4221000"/>
            <a:ext cx="88297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normas ASA (C 57.13), clasifican a los TT/PP en 3 clases designadas como 0,3; 0,6 y 1,2. Estas cifras indican el porcentaje de error máximo que puede tener la razón del transformador al tener conectada una carga secundaria normalizada para cualquier voltaje comprendido entre el 90 y el 110% de la tensión nominal, a la frecuencia nominal y desde funcionamiento en vacío hasta el correspondiente a plena carg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muy elevadas tensiones, el tamaño de un T/P tiende a crecer enormemente, como también su cos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alternativa más económica son los “transformadores de potencial” de tipo capac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ispositivo es básicamente un divisor de voltaje capaci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708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895400"/>
            <a:ext cx="8229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Guía para el comprado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ocumento guía para el comprador obtenido de Internet, contiene Productos disponibles en ABB, Datos técnicos de los equipos, materiales usados en diferentes productos, control de calidad y prueb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general (soportar cargas dieléctri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ueba de impulso de descarga (forma de onda estándar, 1.2/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cuencia industrial seco/humedo (sobretensiones a frecuencia industrial, aislamiento interno, aislamiento ext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mperatura ambiente, influye en el diseño térm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itud de instalación, rigidez di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tancia de fuga 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ancia más corta a lo largo de la superficie de un aislador entre dos piezas conductoras. Mm, mm/K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ivel de Contaminación (norma IEC60815, influye en la distancia de f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 del viento (basados en una velocidad de 34m/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transformador de tens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ctor de Tensión (Vf): Norma I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nex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tencia límite de calen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ída de tensión en el secundario, influye en la relación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tos con que el cliente especifica el equipo que necesita. La empresa como datos mínimos pide lo sigu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formación míni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ándar/Especificaciones del cl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ón más elevada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e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de Doc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nsiones de prueba (impulso 1.2/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de tensiones primaria/secund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úmero de devanados secundarios y conexion de es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sitos espec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slador de caucho de silicona (gr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or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sitos adi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mperatura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ura con respecto al nivel del 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el documento también se hace un completo y detallado análisis sobre las ventajas y desventajas de distintos tipos de dis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jemplo Tipos de diseñ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456000" cy="522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6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ueb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EC 60044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Verificación de la polaridad y de la designación de bor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Prueba de soporte de frecuencia industrial sobre el devanado primario (Prueba aplicada, 75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Medición de descarga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Prueba de soporte de frecuencia industrial en devanados secundarios (Prueba aplicada: 4 kV, 50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) Determinación de err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específicas de A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Prueba de sell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Medición de intensidad en vac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nor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uebas descritas más arriba cumplen íntegramente otras normas, entre ellas la IE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ncontrar información en Internet sobre transformadores de potencial es necesario recurrir a un busc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uscadores de Internet más populares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Google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googl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Yahoo!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yahoo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Live search de Microsoft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liv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3809880" y="5638680"/>
            <a:ext cx="228600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914400" y="5715000"/>
            <a:ext cx="2212920" cy="5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705720" y="5867280"/>
            <a:ext cx="18288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úsqueda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781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 especi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EEE 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ttp://ieeexplore.ieee.org/Xplore/guesthome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28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os An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nalizaron dos documentos encontrados c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o se titula como “COMPONENTES DE UN SISTEMA DE PROTECCIONES “, de allí se estudia la información sobre el transformador de po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gundo documento se titula “Transformadores de medida exteriores, guía para el comprador”, el cual es un documento de ABB, en donde se muestran los tipos de productos ofrecidos, materiales, normas y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onentes de un sistema de protección 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incluye información sob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un T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/P capac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transformador de medida utilizado para reducir las tensiones primarias del SEP (normalmente del orden de los kV) a tensiones secundarias de rangos normalizados (115-120 volt), en forma directamente proporcio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es muy similar a un transformador de poder ya que ambos tienen la finalidad de cambiar el nivel de la ten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se define, en cambio, en términos de la máxima carga (o burden) que es capaz de entregar sin exceder los límites de error de razón y de ángulo especifica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279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7310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08:18Z</dcterms:created>
  <dc:creator>Laboratorio de Telecomunicaciones</dc:creator>
  <dc:description/>
  <dc:language>en-US</dc:language>
  <cp:lastModifiedBy>ABOTTESELLE</cp:lastModifiedBy>
  <dcterms:modified xsi:type="dcterms:W3CDTF">2007-11-26T18:37:14Z</dcterms:modified>
  <cp:revision>10</cp:revision>
  <dc:subject/>
  <dc:title>Internet Publicaciones Transformadores de Potencial</dc:title>
</cp:coreProperties>
</file>