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CBBA-6372-4A58-BF4B-4C7C4BA3B1F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1D34-9C13-44CF-AB79-67557A098B1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7F81-323C-44B2-968E-81ABBB9248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4B39-E415-42DF-8762-5F13A27C997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EC32-08C2-49D0-9908-8EA1965DE8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6F9A-F1CC-4166-8D40-2C1DA88E17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20C7-D32E-4B70-BB4F-F2D83A9F32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F68E-F066-4D3B-A8ED-706A52A6E77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D554-526C-4590-90AC-12CF0E079F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07F1-4305-4B16-A3DF-55E11CC9AC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4D68-2F01-450A-96AE-698AB35DDF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4615-3CCC-4839-A68D-9BACB81AC2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B0EE-543A-411C-88AC-49702EFC55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4953-79AA-4992-866E-424406CE96A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21C7-1E21-4975-B3B4-8816379AF6D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08F1-CF51-44AE-AB66-D96AF88AD5D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A132-5D62-4FEB-9693-C9E790E3C9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04CD-E2D2-4DDC-8B81-FC92FB6080F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04C8-60C1-4C63-9DD7-E57DEA1A917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C459-54EB-4AAE-B0A6-4064DD5C280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718-C1DF-4613-A392-7FD2E7DE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D0A-74D6-4BC8-86C4-6076D3B2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415-D166-4202-A109-1BE75D6A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1A6-B365-4D21-AD70-78310FBC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B23A-8E9A-4623-A47E-DAFD9A58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A9C0-6621-4791-AC43-4CE089F0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117B-2A69-423A-AA00-9D5BCED5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1E48-FAAF-4A55-95BA-BE102DB3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04AA-5B76-42F0-8226-4AC4F816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C53D-F077-46F6-A5AA-770CE777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6326-8AC1-4357-BDB7-798BEE35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A1D-4B49-4901-8530-D6973B1F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5981-B097-4E53-AFB6-5FD2B396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5BD0-B6C5-4214-8B54-CF7F3D4C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061E-003F-46A6-AE37-85A0BA66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1D91-516F-41B0-9C3C-216E1621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5588-72BE-4482-ABAC-FC9FF54B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CC7F1-C0DA-479B-9C7C-904E9CBB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222C9-0769-4AB1-B434-150F8E5F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D9876-CAD6-4083-89DD-8BADEDC3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24BC9-BC61-4C52-A0F3-6912B225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883B3-5554-4C10-9D38-5A9135C2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FFF-A45E-4314-91E8-C8B314A7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E5CC3-E100-41D0-B862-E3378C41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C174D-0DBA-492C-95D4-BC30A002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FAD9C-04AA-4ACA-AED4-B9AF97F4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878B5-3106-445E-B228-62151ECE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4E17F-CFD2-41C1-9800-ABD49C58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79128-5ED6-43CE-90B3-D8680646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12EB1-8808-4E7D-B77A-192E11C0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C1F7D-562B-45DD-B3A4-57BA44D3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C07B5-8FDB-4777-A70B-BC5A77B2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061A3-8467-421D-8CE0-CB402A34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136-444E-409C-8F9A-9C20AC70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03E7C-4830-4CE4-BD03-18B96B95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B6264-1C60-4F1D-921C-86C03A43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62FEE-3668-413D-BA04-1B4B0D86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6EF18-9D21-4307-96AF-3409CC3E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0EB0-6A0C-41CC-A532-68245015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4B195-264C-46D1-9EF1-8AF71F91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75341-07FF-43BE-A255-01703D6F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02B49-986A-48B3-A5CB-3A891CEA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EB97-A966-4357-B3AD-7A46EE08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94ECC-CC19-45C9-8671-1F50ECA1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801-F955-4522-B05C-C316CC33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EBAFA-C2DF-45E5-A951-4EC28CF8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C2747-1BFA-448C-A0EA-C8FFD7C1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0CEAA-4DB0-4373-A4DE-2F09F876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1E383-856D-4500-88FB-B96C16CA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C7537-1001-46A0-A022-83DEC0C3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6AF77-15A6-4DFA-A70D-E3572AE4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1D631-998B-4BE2-BCEF-A22822BF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41A86-0600-46F3-BEF9-910D431B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5281D-D380-4A4E-9F26-6EE03673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D9F05-37B4-40CA-B73D-A3DBF899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867-506B-46F6-AB90-3556C9CE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C6FBF-81AA-4AED-8740-EBB1B0F4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DD6AD-C8D5-4283-9CBA-F2847D6F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F1F12-C83C-418C-8C94-E749E13C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07034-CFE2-43B1-8C00-C92E875B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B099C-8011-4992-886E-F9FE906B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F51EA-0202-4A10-BAF1-370D2877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545F82-5D63-4018-90B9-F1CFD6CE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014C3-580B-499D-9170-6EF1C860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C112BD-76E0-457A-ABCA-947C11CB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27C1D-929C-41A1-887F-77F984D2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C4C-122E-442A-A5FD-A6FA508F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4444E1-1D32-46C0-9C85-317A599A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736D89-6C60-4DE3-A5DB-9012D449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A1B82-DD5A-4F65-A5CA-A924A2E4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C553DC-DC30-4D81-856D-649A4D91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B2D87B-7310-4D58-A6F5-A8569404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DCECB-F32B-4768-AEB2-95B12985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6EEBD-A48E-4415-83C7-95795897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E5156-A27B-49AC-A4C3-B013E566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3EE90-47EA-4DFF-8A73-4671633D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6BEE5-6A7E-48D4-9387-2D73CB42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D47-6252-41FE-8CFD-17BC3642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4616E6-A344-4739-922E-6D170523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BBE58-9F11-48DB-8DE6-32E14972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09A03-2D38-4A00-AD92-64C3A6B6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BB4A6-C2B3-4FD2-A2E9-F271D242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84300-D99C-4E3B-A5F9-20701A3E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AF7-EB12-4B17-8886-1FAAC015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0664-2905-4CB4-824D-42627EDB477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DF3C-8E8B-4226-9066-66EF5F70816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EA17-096A-4CB5-B296-6D7008CD9C8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E1A6-851A-43A4-BEB8-172BDC749A3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598E-83EA-4772-9B29-DE7B901A1CA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AFC2-15B3-4C48-8052-60FC2A38337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02DC-38B4-4568-A406-20A9D3A4308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USQUEDAS EN INTERNE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Alvaro Jesa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Nicolás Montecin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Mayusculas en nombres propios o marcas comerc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stercar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stercar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comillas  cuando se desea encontrar una frase exac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 perro de Claud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 perro de Claudia”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Picture 2" descr="C:\Documents and Settings\Moe\Desktop\inter2\sin comilla.JPG"/>
          <p:cNvPicPr/>
          <p:nvPr/>
        </p:nvPicPr>
        <p:blipFill>
          <a:blip r:embed="rId1"/>
          <a:stretch/>
        </p:blipFill>
        <p:spPr>
          <a:xfrm>
            <a:off x="0" y="0"/>
            <a:ext cx="87152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2" descr="C:\Documents and Settings\Moe\Desktop\inter2\con comilla.JPG"/>
          <p:cNvPicPr/>
          <p:nvPr/>
        </p:nvPicPr>
        <p:blipFill>
          <a:blip r:embed="rId1"/>
          <a:stretch/>
        </p:blipFill>
        <p:spPr>
          <a:xfrm>
            <a:off x="0" y="0"/>
            <a:ext cx="811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Comas para separar nombres prop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ara buscar los autores del Libro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vanced Programing with C++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 busca de la Siguiente maner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chi Henning,Steve Vinosk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los simbolos + o – para agregar  o quitar importancia a las palab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2" descr="F:\inter2\merme manza.JPG"/>
          <p:cNvPicPr/>
          <p:nvPr/>
        </p:nvPicPr>
        <p:blipFill>
          <a:blip r:embed="rId1"/>
          <a:stretch/>
        </p:blipFill>
        <p:spPr>
          <a:xfrm>
            <a:off x="214200" y="101520"/>
            <a:ext cx="857268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9" name="Picture 2" descr="F:\inter2\merme sin manza.JPG"/>
          <p:cNvPicPr/>
          <p:nvPr/>
        </p:nvPicPr>
        <p:blipFill>
          <a:blip r:embed="rId1"/>
          <a:stretch/>
        </p:blipFill>
        <p:spPr>
          <a:xfrm>
            <a:off x="214200" y="0"/>
            <a:ext cx="85726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los simbolos + o – dependiendo del peso que se le quiera dar en la busque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2" descr="F:\inter2\tabla1a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2" descr="F:\inter2\tabla1b.JPG"/>
          <p:cNvPicPr/>
          <p:nvPr/>
        </p:nvPicPr>
        <p:blipFill>
          <a:blip r:embed="rId1"/>
          <a:stretch/>
        </p:blipFill>
        <p:spPr>
          <a:xfrm>
            <a:off x="-3240" y="142920"/>
            <a:ext cx="9147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bus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C:\Documents and Settings\Moe\Desktop\Internet\image009.gif"/>
          <p:cNvPicPr/>
          <p:nvPr/>
        </p:nvPicPr>
        <p:blipFill>
          <a:blip r:embed="rId1"/>
          <a:stretch/>
        </p:blipFill>
        <p:spPr>
          <a:xfrm>
            <a:off x="428760" y="928800"/>
            <a:ext cx="3384360" cy="857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Documents and Settings\Moe\Desktop\Internet\Hotelbook.gif"/>
          <p:cNvPicPr/>
          <p:nvPr/>
        </p:nvPicPr>
        <p:blipFill>
          <a:blip r:embed="rId2"/>
          <a:stretch/>
        </p:blipFill>
        <p:spPr>
          <a:xfrm rot="1209000">
            <a:off x="850680" y="3649680"/>
            <a:ext cx="5675040" cy="1387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Moe\Desktop\Internet\Buscacine.gif"/>
          <p:cNvPicPr/>
          <p:nvPr/>
        </p:nvPicPr>
        <p:blipFill>
          <a:blip r:embed="rId3"/>
          <a:stretch/>
        </p:blipFill>
        <p:spPr>
          <a:xfrm rot="20380200">
            <a:off x="3395160" y="892080"/>
            <a:ext cx="5535720" cy="22147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ormacion Limita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ormacion Precis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Buscacine.com (cin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InfoAgro.com  (Agricultura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GunHoo.com (arma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mazon.com (comprar discos , libros, pelicula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ndinia.com (deportes de monta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ña=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www.HotelBook.com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Hoteles en todo el Mund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C:\Documents and Settings\Moe\Desktop\Internet\amazon.jpg"/>
          <p:cNvPicPr/>
          <p:nvPr/>
        </p:nvPicPr>
        <p:blipFill>
          <a:blip r:embed="rId4"/>
          <a:stretch/>
        </p:blipFill>
        <p:spPr>
          <a:xfrm>
            <a:off x="6215040" y="2928960"/>
            <a:ext cx="20923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C:\Documents and Settings\Moe\Desktop\Internet\scitopia.org-what-is-scitopia.jpg"/>
          <p:cNvPicPr/>
          <p:nvPr/>
        </p:nvPicPr>
        <p:blipFill>
          <a:blip r:embed="rId1"/>
          <a:stretch/>
        </p:blipFill>
        <p:spPr>
          <a:xfrm>
            <a:off x="3933720" y="2000160"/>
            <a:ext cx="3832200" cy="10209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oe\Desktop\Internet\scholar_logo.gif"/>
          <p:cNvPicPr/>
          <p:nvPr/>
        </p:nvPicPr>
        <p:blipFill>
          <a:blip r:embed="rId2"/>
          <a:stretch/>
        </p:blipFill>
        <p:spPr>
          <a:xfrm>
            <a:off x="4857840" y="5072040"/>
            <a:ext cx="2628720" cy="1047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oe\Desktop\Internet\ieee_logo.gif"/>
          <p:cNvPicPr/>
          <p:nvPr/>
        </p:nvPicPr>
        <p:blipFill>
          <a:blip r:embed="rId3"/>
          <a:stretch/>
        </p:blipFill>
        <p:spPr>
          <a:xfrm>
            <a:off x="4929120" y="3714840"/>
            <a:ext cx="2428920" cy="12524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USCADORES TEMATICOS CIENTIFICO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Scitopi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bliotecas digitales de sociedades cientificas y tecnolog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emas busca patentes y documentos gubernament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IEEE.or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cador de las mas recientes publicaciones tecnolog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scholar.google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C:\Documents and Settings\Moe\Desktop\Internet\5857713.jpg"/>
          <p:cNvPicPr/>
          <p:nvPr/>
        </p:nvPicPr>
        <p:blipFill>
          <a:blip r:embed="rId1"/>
          <a:stretch/>
        </p:blipFill>
        <p:spPr>
          <a:xfrm rot="1936800">
            <a:off x="4128840" y="3346560"/>
            <a:ext cx="3360600" cy="2520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Documents and Settings\Moe\Desktop\Internet\infoseekw_.jpg"/>
          <p:cNvPicPr/>
          <p:nvPr/>
        </p:nvPicPr>
        <p:blipFill>
          <a:blip r:embed="rId2"/>
          <a:stretch/>
        </p:blipFill>
        <p:spPr>
          <a:xfrm rot="18942000">
            <a:off x="4763880" y="776160"/>
            <a:ext cx="2253960" cy="2082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Documents and Settings\Moe\Desktop\Internet\google_logo1.jpg"/>
          <p:cNvPicPr/>
          <p:nvPr/>
        </p:nvPicPr>
        <p:blipFill>
          <a:blip r:embed="rId3"/>
          <a:stretch/>
        </p:blipFill>
        <p:spPr>
          <a:xfrm rot="1708800">
            <a:off x="367920" y="1271160"/>
            <a:ext cx="3956040" cy="1649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C:\Documents and Settings\Moe\Desktop\Internet\yahoo.jpg"/>
          <p:cNvPicPr/>
          <p:nvPr/>
        </p:nvPicPr>
        <p:blipFill>
          <a:blip r:embed="rId4"/>
          <a:stretch/>
        </p:blipFill>
        <p:spPr>
          <a:xfrm rot="19287600">
            <a:off x="934560" y="3927240"/>
            <a:ext cx="3333960" cy="2333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cha Informac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spuestas mas gener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iste Redundancia de informac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Google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Lycos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Yahoo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ltavista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Infoseek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bus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acilitan aun mas la busque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queda en multiples sitios y Buscado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trega resumen de los articulos relevan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btiene el m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á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ximo recurso disponible de la re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Metacrawler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Dogpile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Mamma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Search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Documents and Settings\Moe\Desktop\Internet\METACRAWLER2.gif"/>
          <p:cNvPicPr/>
          <p:nvPr/>
        </p:nvPicPr>
        <p:blipFill>
          <a:blip r:embed="rId1"/>
          <a:stretch/>
        </p:blipFill>
        <p:spPr>
          <a:xfrm>
            <a:off x="4929120" y="3857760"/>
            <a:ext cx="246708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Documents and Settings\Moe\Desktop\Internet\dogpile_logo.gif"/>
          <p:cNvPicPr/>
          <p:nvPr/>
        </p:nvPicPr>
        <p:blipFill>
          <a:blip r:embed="rId2"/>
          <a:stretch/>
        </p:blipFill>
        <p:spPr>
          <a:xfrm>
            <a:off x="5286240" y="4714920"/>
            <a:ext cx="2424240" cy="9874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Documents and Settings\Moe\Desktop\Internet\mamma_logo_v2.gif"/>
          <p:cNvPicPr/>
          <p:nvPr/>
        </p:nvPicPr>
        <p:blipFill>
          <a:blip r:embed="rId3"/>
          <a:stretch/>
        </p:blipFill>
        <p:spPr>
          <a:xfrm>
            <a:off x="5143680" y="5643720"/>
            <a:ext cx="26953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USQUEDAS MAS EFICIENT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palabras multi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ne Santiago La Rei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F:\inter2\cine.JPG"/>
          <p:cNvPicPr/>
          <p:nvPr/>
        </p:nvPicPr>
        <p:blipFill>
          <a:blip r:embed="rId1"/>
          <a:stretch/>
        </p:blipFill>
        <p:spPr>
          <a:xfrm>
            <a:off x="0" y="357120"/>
            <a:ext cx="87678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F:\inter2\cine exacto.JPG"/>
          <p:cNvPicPr/>
          <p:nvPr/>
        </p:nvPicPr>
        <p:blipFill>
          <a:blip r:embed="rId1"/>
          <a:stretch/>
        </p:blipFill>
        <p:spPr>
          <a:xfrm>
            <a:off x="0" y="285840"/>
            <a:ext cx="8791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53:38Z</dcterms:created>
  <dc:creator>Alvaro Jesam</dc:creator>
  <dc:description/>
  <dc:language>en-US</dc:language>
  <cp:lastModifiedBy>ABOTTESELLE</cp:lastModifiedBy>
  <dcterms:modified xsi:type="dcterms:W3CDTF">2007-11-26T15:59:57Z</dcterms:modified>
  <cp:revision>6</cp:revision>
  <dc:subject/>
  <dc:title>Busquedas en Internet</dc:title>
</cp:coreProperties>
</file>