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4FB0-04B6-47D4-A4DE-C4A181688E8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99EA-FB3B-4A47-967B-9AF77788361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8F82-B8D1-4E6C-BAC7-53E4D0635E4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6A0D-64F7-4BE3-8A4D-99E52F9229E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61FB-D7BB-46FA-A309-6685B8956DA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A0B7-9976-492F-BFB3-6E3E84B688A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0EBD-2C46-4027-B575-7D9288E7439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B184-BFFE-4319-A871-8D181B6E742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317E-70C0-4939-A3B1-33E2A112C4F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0A0B-BF0D-4EBD-BE97-2C8DC024A69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5B09-2FAD-4079-A73E-9142BAE4449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BEAA-B6AD-4B6A-A007-56B19F93306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C54C-040B-46D5-85B2-91690115C20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4184-770E-42A5-8C6A-C4B23706D26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2B41-A4A7-4342-BD4B-D1255E9EB52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81BC-628B-4118-8201-7B023157003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F6F5-4FCC-4386-A430-CA0521F93EF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8C99-2774-4D92-B51B-01450106EAE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402D-583B-42F3-86B4-56A77FFBB59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6DA3-AF30-438E-9228-8D51B35058A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473C-496C-4788-AB8C-40552D3D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8396-D100-45BF-A4E7-12B3D5CB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22E9-311B-42E7-B5E6-F1E6042E6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963B-7985-427D-8523-C5304F44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D428-BFA5-4B3B-BD2F-88646D15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958A-F82C-4476-B98F-96CF9DA5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79E1-48D4-4D54-9773-B5389A6F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8C4F-5FD2-4B70-BEAB-CE9F8F31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4E4E-C1EC-488F-9B44-15ADD523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52F7-D0F3-4AA4-9093-20C72E34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77FE-3C55-4BAF-A84C-939AEFA4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A400-12BB-4A08-9769-9D68AB45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E693-20D7-431F-BF74-E4F9782B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1CF0-9B3F-4D9A-A0BC-BE0F5CF6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B7D7-42BE-48CA-A6E4-CA858C8E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4B8D-3C72-4CEE-9789-B661DA1D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BE17-19FC-4B69-B758-CF8D31CB0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057E72-6B74-4278-AAC3-6D1DFBD3E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55DC79-46EF-41DB-BA21-106E5D29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04B493-0B14-481F-BE90-D03C50CE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299E19-885E-4746-B1DA-1B58F2DD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0A885F-6321-472E-A351-95B61BBF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DBBA-6EEB-4B0A-8FC8-709A338A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9EFDAA-044E-4858-AD77-FA347915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EF0FBB-BC6C-4506-B9DE-43729FCA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CD92C8-CFC4-4212-806C-A188DDCE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1DDFA8-3C83-4550-8853-50CABFE0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F3409A-A7B0-4B7B-840E-C6D21945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F63F17-89B9-47BC-BBED-4ED3FD5C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2F486B-8A58-4CA1-A1BA-A7F997A8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8FEF1-5392-4E43-9754-495F2ADAD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C5CF9-5F8C-4184-8ADB-20FD7C88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10B00-F220-4CC9-91F4-C263D49B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5FFC-B902-4F4C-B645-FD723DB4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C6B45-109C-4A5B-AC3D-91C63C27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339AF-45F8-4E8A-AEB8-DB66AC16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FCB9F-59FE-4BC1-820C-9EAEAC97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3C0C6-B68A-4977-A624-6BD85C52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BE471-F0FD-4B1F-A328-7504679F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4F22B-3465-49C3-B893-5EFEF601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960A8-2B48-4C9B-8D5A-163244F4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7E7B7-52DA-4AE5-8BF1-587F7D3BB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BCA60-5085-4F4C-AD2B-96C3AB1FB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83AEF2-6901-4DCE-8564-B27FE5BB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E01F-AC0C-4644-B983-97BF97B5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319BDC-3E8D-4EEB-BA58-8266E1B9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537F5F-E309-459D-BDE9-FC8D9F3D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D7AAE8-0B04-4882-A8EF-4B8D45FB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6DE414-BC4B-4170-8410-CAF7FB4E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54B1B1-4B19-49D1-BC25-E31CBA70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C39933-173F-42DA-B7F7-1B467E92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6AADFE-3E48-4E1A-907B-E0B1584A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7DDA39-B5D2-4231-8690-0CEFFC5A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A4877F-FCEE-41F8-A175-41EB3BB6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3C8AD7-790F-408B-9243-06C0CF0E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6313-0142-455A-8831-634A6192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F78CEA-511B-41A3-BDB0-A5CC91B0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DF95B6-C2A0-4FA1-A01D-6145D31FE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9AAEE3-ABAB-4E2F-BF35-522A6D50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D710E8-43D9-4C0D-9EB1-E8C47FDF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29D6CF-319E-4DBC-A34D-C3779CEF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C742A3-BE45-4DB7-BA61-E9E80CC9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125718-86A8-4EA5-86EE-76E8381B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FB8EC4-A98E-4808-9429-93A2AF09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B18B63-A750-40F6-9226-0D4D1AFE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059CCC-FD0D-44CF-B849-D85C3077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F244-2FF5-4DB3-80CA-B4B2A264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4B77F2-C10C-4C43-BBA6-8A0A0EA1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E5FC8B-7BA6-4455-8DF4-3F34F0AC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677FB3-E89C-46AD-9B02-F8568C23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C50E89-C4BC-48A5-859B-AACCA4B1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CBC569-EAC8-4E83-A22B-EE28F765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97AF95-9737-4674-8F64-3F18D4D8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DD6178-6ABB-458A-9AA6-980CF09F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9C3C35-B179-4B45-AD40-B9B3BD2B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C5ACA1-F7A2-4723-A499-6F26E503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2A4112-C986-4752-BF76-EDD69E48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4C15-5945-42FB-B339-EEDC459A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35088C-64E4-45F8-8A43-2B65EA5D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728DF4-AECD-4A14-8FE6-009802F3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4D2330-EF85-4627-82A2-ADF4D07A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E36B9D-4C62-407E-B481-A28783A25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5591BB-85D8-415D-81F7-134919723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8FF1-343D-4E54-884C-B7A7BB84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ADE7-D944-4270-8111-E6A7BB72369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7221-54FB-4C04-AF9B-0838FB957BA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E95E-CCD9-4B63-876D-AD3F6398219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C2D0-CF2A-4623-86A2-94DD205C962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4C5B-6A8C-471A-9779-0409768758B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DF94-5212-48A1-AA59-E8A83B739BC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FC78-94ED-42C4-A7C3-0EBD3B9773C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BUSQUEDAS EN INTERNE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ES" sz="1800" spc="-1" strike="noStrike">
                <a:solidFill>
                  <a:srgbClr val="575f6d"/>
                </a:solidFill>
                <a:latin typeface="Century Schoolbook"/>
              </a:rPr>
              <a:t>Alvaro Jesam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ES" sz="1800" spc="-1" strike="noStrike">
                <a:solidFill>
                  <a:srgbClr val="575f6d"/>
                </a:solidFill>
                <a:latin typeface="Century Schoolbook"/>
              </a:rPr>
              <a:t>Nicolás Montecino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tilizar Mayusculas en nombres propios o marcas comercia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stercar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stercar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tilizar comillas  cuando se desea encontrar una frase exact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l perro de Claudi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l perro de Claudia”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7" name="Picture 2" descr="C:\Documents and Settings\Moe\Desktop\inter2\sin comilla.JPG"/>
          <p:cNvPicPr/>
          <p:nvPr/>
        </p:nvPicPr>
        <p:blipFill>
          <a:blip r:embed="rId1"/>
          <a:stretch/>
        </p:blipFill>
        <p:spPr>
          <a:xfrm>
            <a:off x="0" y="0"/>
            <a:ext cx="871524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0" name="Picture 2" descr="C:\Documents and Settings\Moe\Desktop\inter2\con comilla.JPG"/>
          <p:cNvPicPr/>
          <p:nvPr/>
        </p:nvPicPr>
        <p:blipFill>
          <a:blip r:embed="rId1"/>
          <a:stretch/>
        </p:blipFill>
        <p:spPr>
          <a:xfrm>
            <a:off x="0" y="0"/>
            <a:ext cx="811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o de Comas para separar nombres propi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ara buscar los autores del Libro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dvanced Programing with C++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 busca de la Siguiente maner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ichi Henning,Steve Vinoski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o de los simbolos + o – para agregar  o quitar importancia a las palabr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7" name="Picture 2" descr="F:\inter2\merme manza.JPG"/>
          <p:cNvPicPr/>
          <p:nvPr/>
        </p:nvPicPr>
        <p:blipFill>
          <a:blip r:embed="rId1"/>
          <a:stretch/>
        </p:blipFill>
        <p:spPr>
          <a:xfrm>
            <a:off x="214200" y="101520"/>
            <a:ext cx="8572680" cy="654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9" name="Picture 2" descr="F:\inter2\merme sin manza.JPG"/>
          <p:cNvPicPr/>
          <p:nvPr/>
        </p:nvPicPr>
        <p:blipFill>
          <a:blip r:embed="rId1"/>
          <a:stretch/>
        </p:blipFill>
        <p:spPr>
          <a:xfrm>
            <a:off x="214200" y="0"/>
            <a:ext cx="857268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o de los simbolos + o – dependiendo del peso que se le quiera dar en la busque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2" name="Picture 2" descr="F:\inter2\tabla1a.JPG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5" name="Picture 2" descr="F:\inter2\tabla1b.JPG"/>
          <p:cNvPicPr/>
          <p:nvPr/>
        </p:nvPicPr>
        <p:blipFill>
          <a:blip r:embed="rId1"/>
          <a:stretch/>
        </p:blipFill>
        <p:spPr>
          <a:xfrm>
            <a:off x="-3240" y="142920"/>
            <a:ext cx="91472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IPOS DE BUSCADORE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emat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 Temat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etabuscado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5" descr="C:\Documents and Settings\Moe\Desktop\Internet\image009.gif"/>
          <p:cNvPicPr/>
          <p:nvPr/>
        </p:nvPicPr>
        <p:blipFill>
          <a:blip r:embed="rId1"/>
          <a:stretch/>
        </p:blipFill>
        <p:spPr>
          <a:xfrm>
            <a:off x="428760" y="928800"/>
            <a:ext cx="3384360" cy="8571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C:\Documents and Settings\Moe\Desktop\Internet\Hotelbook.gif"/>
          <p:cNvPicPr/>
          <p:nvPr/>
        </p:nvPicPr>
        <p:blipFill>
          <a:blip r:embed="rId2"/>
          <a:stretch/>
        </p:blipFill>
        <p:spPr>
          <a:xfrm rot="1209000">
            <a:off x="850680" y="3649680"/>
            <a:ext cx="5675040" cy="13874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C:\Documents and Settings\Moe\Desktop\Internet\Buscacine.gif"/>
          <p:cNvPicPr/>
          <p:nvPr/>
        </p:nvPicPr>
        <p:blipFill>
          <a:blip r:embed="rId3"/>
          <a:stretch/>
        </p:blipFill>
        <p:spPr>
          <a:xfrm rot="20380200">
            <a:off x="3395160" y="892080"/>
            <a:ext cx="5535720" cy="22147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IPOS DE BUSCADORE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5712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emat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formacion Limitad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formacion Precis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Buscacine.com (cine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InfoAgro.com  (Agricultura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GunHoo.com (arma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Amazon.com (comprar discos , libros, pelicula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Andinia.com (deportes de monta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ña=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www.HotelBook.com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(Hoteles en todo el Mundo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Picture 4" descr="C:\Documents and Settings\Moe\Desktop\Internet\amazon.jpg"/>
          <p:cNvPicPr/>
          <p:nvPr/>
        </p:nvPicPr>
        <p:blipFill>
          <a:blip r:embed="rId4"/>
          <a:stretch/>
        </p:blipFill>
        <p:spPr>
          <a:xfrm>
            <a:off x="6215040" y="2928960"/>
            <a:ext cx="20923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4" descr="C:\Documents and Settings\Moe\Desktop\Internet\scitopia.org-what-is-scitopia.jpg"/>
          <p:cNvPicPr/>
          <p:nvPr/>
        </p:nvPicPr>
        <p:blipFill>
          <a:blip r:embed="rId1"/>
          <a:stretch/>
        </p:blipFill>
        <p:spPr>
          <a:xfrm>
            <a:off x="3933720" y="2000160"/>
            <a:ext cx="3832200" cy="10209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oe\Desktop\Internet\scholar_logo.gif"/>
          <p:cNvPicPr/>
          <p:nvPr/>
        </p:nvPicPr>
        <p:blipFill>
          <a:blip r:embed="rId2"/>
          <a:stretch/>
        </p:blipFill>
        <p:spPr>
          <a:xfrm>
            <a:off x="4857840" y="5072040"/>
            <a:ext cx="2628720" cy="10476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C:\Documents and Settings\Moe\Desktop\Internet\ieee_logo.gif"/>
          <p:cNvPicPr/>
          <p:nvPr/>
        </p:nvPicPr>
        <p:blipFill>
          <a:blip r:embed="rId3"/>
          <a:stretch/>
        </p:blipFill>
        <p:spPr>
          <a:xfrm>
            <a:off x="4929120" y="3714840"/>
            <a:ext cx="2428920" cy="12524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USCADORES TEMATICOS CIENTIFICO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ww.Scitopia.or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ibliotecas digitales de sociedades cientificas y tecnologic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demas busca patentes y documentos gubernamenta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ww.IEEE.org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uscador de las mas recientes publicaciones tecnologic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scholar.google.co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3" descr="C:\Documents and Settings\Moe\Desktop\Internet\5857713.jpg"/>
          <p:cNvPicPr/>
          <p:nvPr/>
        </p:nvPicPr>
        <p:blipFill>
          <a:blip r:embed="rId1"/>
          <a:stretch/>
        </p:blipFill>
        <p:spPr>
          <a:xfrm rot="1936800">
            <a:off x="4128840" y="3346560"/>
            <a:ext cx="3360600" cy="25207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C:\Documents and Settings\Moe\Desktop\Internet\infoseekw_.jpg"/>
          <p:cNvPicPr/>
          <p:nvPr/>
        </p:nvPicPr>
        <p:blipFill>
          <a:blip r:embed="rId2"/>
          <a:stretch/>
        </p:blipFill>
        <p:spPr>
          <a:xfrm rot="18942000">
            <a:off x="4763880" y="776160"/>
            <a:ext cx="2253960" cy="20829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C:\Documents and Settings\Moe\Desktop\Internet\google_logo1.jpg"/>
          <p:cNvPicPr/>
          <p:nvPr/>
        </p:nvPicPr>
        <p:blipFill>
          <a:blip r:embed="rId3"/>
          <a:stretch/>
        </p:blipFill>
        <p:spPr>
          <a:xfrm rot="1708800">
            <a:off x="367920" y="1271160"/>
            <a:ext cx="3956040" cy="16495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C:\Documents and Settings\Moe\Desktop\Internet\yahoo.jpg"/>
          <p:cNvPicPr/>
          <p:nvPr/>
        </p:nvPicPr>
        <p:blipFill>
          <a:blip r:embed="rId4"/>
          <a:stretch/>
        </p:blipFill>
        <p:spPr>
          <a:xfrm rot="19287600">
            <a:off x="934560" y="3927240"/>
            <a:ext cx="3333960" cy="23335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IPOS DE BUSCADORE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 Temat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ucha Informac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spuestas mas genera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xiste Redundancia de informac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Google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Lycos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Yahoo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Altavista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Infoseek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IPOS DE BUSCADORE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etabuscado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acilitan aun mas la busqued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usqueda en multiples sitios y Buscador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ntrega resumen de los articulos relevant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btiene el m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á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ximo recurso disponible de la red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Metacrawler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Dogpile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Mamma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Search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2" descr="C:\Documents and Settings\Moe\Desktop\Internet\METACRAWLER2.gif"/>
          <p:cNvPicPr/>
          <p:nvPr/>
        </p:nvPicPr>
        <p:blipFill>
          <a:blip r:embed="rId1"/>
          <a:stretch/>
        </p:blipFill>
        <p:spPr>
          <a:xfrm>
            <a:off x="4929120" y="3857760"/>
            <a:ext cx="2467080" cy="8571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C:\Documents and Settings\Moe\Desktop\Internet\dogpile_logo.gif"/>
          <p:cNvPicPr/>
          <p:nvPr/>
        </p:nvPicPr>
        <p:blipFill>
          <a:blip r:embed="rId2"/>
          <a:stretch/>
        </p:blipFill>
        <p:spPr>
          <a:xfrm>
            <a:off x="5286240" y="4714920"/>
            <a:ext cx="2424240" cy="9874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C:\Documents and Settings\Moe\Desktop\Internet\mamma_logo_v2.gif"/>
          <p:cNvPicPr/>
          <p:nvPr/>
        </p:nvPicPr>
        <p:blipFill>
          <a:blip r:embed="rId3"/>
          <a:stretch/>
        </p:blipFill>
        <p:spPr>
          <a:xfrm>
            <a:off x="5143680" y="5643720"/>
            <a:ext cx="269532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USQUEDAS MAS EFICIENTE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tilizar palabras multip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in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ine Santiago La Rein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8" name="Picture 2" descr="F:\inter2\cine.JPG"/>
          <p:cNvPicPr/>
          <p:nvPr/>
        </p:nvPicPr>
        <p:blipFill>
          <a:blip r:embed="rId1"/>
          <a:stretch/>
        </p:blipFill>
        <p:spPr>
          <a:xfrm>
            <a:off x="0" y="357120"/>
            <a:ext cx="8767800" cy="59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1" name="Picture 2" descr="F:\inter2\cine exacto.JPG"/>
          <p:cNvPicPr/>
          <p:nvPr/>
        </p:nvPicPr>
        <p:blipFill>
          <a:blip r:embed="rId1"/>
          <a:stretch/>
        </p:blipFill>
        <p:spPr>
          <a:xfrm>
            <a:off x="0" y="285840"/>
            <a:ext cx="87915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4:53:38Z</dcterms:created>
  <dc:creator>Alvaro Jesam</dc:creator>
  <dc:description/>
  <dc:language>en-US</dc:language>
  <cp:lastModifiedBy>ABOTTESELLE</cp:lastModifiedBy>
  <dcterms:modified xsi:type="dcterms:W3CDTF">2007-11-26T15:59:57Z</dcterms:modified>
  <cp:revision>6</cp:revision>
  <dc:subject/>
  <dc:title>Busquedas en Internet</dc:title>
</cp:coreProperties>
</file>