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E59B-13E7-4567-ACAC-7CF1A1803DB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FFB7-73BB-459E-B20A-48DB625C3C0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2BEE-FFA6-422E-AE4E-33EBF4377C2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1DC6-07EA-4F2E-B12D-A368FC7DDBB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20E8-4185-4F86-8E74-5EE45BAE595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9A9A-2166-4094-948E-87EF673C98F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B9F7-4444-4B1F-BF3D-352D6503306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6B77-4462-44E9-8589-1EBE1556303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5422-3A02-436D-9A89-8A12C7F8084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2303-8DD6-426D-B041-D7B291575A3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4692-78EE-4E41-9CE2-16A090338E1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06BE-25F7-4D58-93E9-AEB4FDDC9EC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BA3A-7926-4BBE-9B54-3C4F77F0DFC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54B4-8B9A-4E5C-B4B5-880011E4E8D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EB0F-5167-4C09-AA97-65341E8907C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34C7-8880-41C8-93B6-FDB436D07A3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5FBE-ED88-437B-9E0C-5E3CD3D16D0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5404-7D0F-49B4-A90C-D6B123AE9F2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BB10-5410-49CE-B043-D753F8C61D0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6882-B733-4888-991A-6FF72F56DFB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1272-B68F-4185-B2E3-06E078F64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6488-9C00-4357-B260-CBE84D55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CF24-DCA5-4BB8-8463-82DC5323C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CE71-7639-456D-9542-71D293C75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C299-5050-46A3-9A7C-6B74DF934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524C-7DFE-4ADC-AA90-89D33B63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2BFD-A66F-40F7-A05F-59A97DBC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E190-A00F-4AF8-AD38-B61953B4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F0B3-D80D-4685-ACC5-52A73DEF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22E9-A65F-4D51-B6AF-76CF23B3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A3B7-97A7-4F16-9704-7407C085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D506-4108-44BE-9AEB-EAFD413C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2A25-5CF9-441D-8D0C-9A120B12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A9BD-E36D-47B6-A39A-C4FD949B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2610-AC32-4164-A253-EBA818E9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0F40-144F-442F-B89D-FCE845EE7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5818-3420-4DCB-B1A2-642E0EAA7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38CEF8-6207-40B1-B128-29C6F93B0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006D69-5918-462D-ABA1-D5683979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48B836-6C8B-4137-A5E8-DD886915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B6331F-8269-4916-A581-0E4E4CD1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BF7C96-30F1-4ABB-83EE-0C93B7F9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DDB9-3897-4A89-9F5C-3C3085F3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FD19A3-ED9B-432C-A9C1-3194BDD2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AF7CB6-0E48-434D-82D9-44B962FE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DB68DD-28D5-463F-8E26-F1C3201D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DF22B5-CB84-4BFA-8AA1-B6770083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18F27F-6EB5-4AF9-98C4-2C1F0A56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E74E92-8EB1-4CED-9EDB-FD05FBC44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0590BF-7481-44A5-B5BA-0D28DC3B3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26BBC-B0FD-4D2C-A7DD-09007D6F1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B6301-E3F3-4A60-961B-B4FFD2AD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EBD35-8CF8-4F7F-ACA9-6400890F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2626-648C-4CB9-9CE1-2D5D64A2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5E071-5345-4189-A82B-0343FAFD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013E7-CF4C-425D-A376-57C3D2E3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7DDB8-D199-4FBE-83E3-D97E65AA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C0D81-5CB7-4D53-951A-6B9E8265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251A4-AD94-4D4A-B8A3-056E5C6D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83024-7C0D-47E6-AD75-E0E7CC9F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71760-DE1F-403A-BA1B-B9976A67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83C95-E089-4AA8-B5BA-5DD05111A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883BF-7681-4C74-AC48-5CCC20BA2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5AA07B-02AD-4034-A4A2-639DD75C5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5BBD-2D29-4F1F-87D4-A945A358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9E88E1-EE6C-480E-AAC8-8AACC58C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B74CDF-1189-486F-BCD8-80C91B1C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E5AE0D-4A8A-4E37-BDA2-B93EA639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126A56-B443-420C-8D5D-5303F4DB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852DF3-0FF9-435C-97E6-5C003E26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4B9E4A-84CF-4C6C-B08F-305BD91A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CDD2F5-17A0-45A2-B5DE-A12EC206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0BF76C-0A40-48B2-A025-2517DF88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39ADB5-EA79-454A-B09A-6DA403C8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DF60AB-65CE-4688-BBD1-68370FA9E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75CD-FB62-4096-8A1D-270ADB4A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80C9BF-B87A-4132-B563-69B6F4592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C5A952-BBA5-4FFD-87A3-A1E447022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F7F731-D617-438F-B7E5-35341FED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504FFF-FC35-4E41-8F88-38CD0D9C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3B73A0-E096-42A5-AB01-1D5ECB78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F586F2-947F-4231-B9E6-545B5301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2BDFFA-FF4C-48D9-A6A7-509E458E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4E5DBD-B062-46B2-8620-D3F0CF09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1FDB9F-7AE5-4557-9B06-131AB64B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B30DEB-32CA-4786-89EA-217211D5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2BB8-1589-46E7-B94E-5F8960CE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763868-7354-4163-B391-962CFE18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640772-4147-424D-8B4F-9F2FB549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153362-3859-4977-831E-0EC44E9E5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3DD207-D0D6-4FB0-A2EA-22B95D17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796066-DC5C-4223-842B-40630A22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CD8D9D-CFE5-4E8E-8DA8-B6D17055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FED212-687C-4292-82BF-3B77143B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54E77C-9F9A-4BF5-A4C9-F8A80531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DF3933-229B-42F5-B77C-8446EF7E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B073E0-7B15-4346-859B-E6944026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5A6D-8390-4B17-BCE7-106FDE3B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8B301A-6092-436C-8EF9-774A209E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8A9D45-2A08-43A2-B7CB-2C0177F3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77EA23-C0A1-44AE-AD2A-FDB0676B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98A863-FE26-4157-8D5F-42165ABA3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41710B-941A-46CB-8C58-21F40643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FBA7-8067-4828-AFBF-D4E3A5ED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202F-0B44-462E-94CA-0F3F61C452F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C748-10D9-4499-87D4-3C89CB34594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6568-0AFB-4529-AACF-48CB8D194A8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8CD9-97BD-48EB-A1F7-CE2AA9B35DF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A376-9909-4338-961B-4A473D97435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EEC6-BF1F-4C7B-9D0A-6AC0894A575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78C9-AAAD-482A-B229-41B187D10BA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BUSQUEDAS EN INTERNE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ES" sz="1800" spc="-1" strike="noStrike">
                <a:solidFill>
                  <a:srgbClr val="575f6d"/>
                </a:solidFill>
                <a:latin typeface="Century Schoolbook"/>
              </a:rPr>
              <a:t>Alvaro Jesam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ES" sz="1800" spc="-1" strike="noStrike">
                <a:solidFill>
                  <a:srgbClr val="575f6d"/>
                </a:solidFill>
                <a:latin typeface="Century Schoolbook"/>
              </a:rPr>
              <a:t>Nicolás Montecino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tilizar Mayusculas en nombres propios o marcas comercia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stercar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stercar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tilizar comillas  cuando se desea encontrar una frase exact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l perro de Claudi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l perro de Claudia”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7" name="Picture 2" descr="C:\Documents and Settings\Moe\Desktop\inter2\sin comilla.JPG"/>
          <p:cNvPicPr/>
          <p:nvPr/>
        </p:nvPicPr>
        <p:blipFill>
          <a:blip r:embed="rId1"/>
          <a:stretch/>
        </p:blipFill>
        <p:spPr>
          <a:xfrm>
            <a:off x="0" y="0"/>
            <a:ext cx="871524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0" name="Picture 2" descr="C:\Documents and Settings\Moe\Desktop\inter2\con comilla.JPG"/>
          <p:cNvPicPr/>
          <p:nvPr/>
        </p:nvPicPr>
        <p:blipFill>
          <a:blip r:embed="rId1"/>
          <a:stretch/>
        </p:blipFill>
        <p:spPr>
          <a:xfrm>
            <a:off x="0" y="0"/>
            <a:ext cx="811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o de Comas para separar nombres propi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ara buscar los autores del Libro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dvanced Programing with C++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e busca de la Siguiente maner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ichi Henning,Steve Vinoski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o de los simbolos + o – para agregar  o quitar importancia a las palabr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7" name="Picture 2" descr="F:\inter2\merme manza.JPG"/>
          <p:cNvPicPr/>
          <p:nvPr/>
        </p:nvPicPr>
        <p:blipFill>
          <a:blip r:embed="rId1"/>
          <a:stretch/>
        </p:blipFill>
        <p:spPr>
          <a:xfrm>
            <a:off x="214200" y="101520"/>
            <a:ext cx="8572680" cy="654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9" name="Picture 2" descr="F:\inter2\merme sin manza.JPG"/>
          <p:cNvPicPr/>
          <p:nvPr/>
        </p:nvPicPr>
        <p:blipFill>
          <a:blip r:embed="rId1"/>
          <a:stretch/>
        </p:blipFill>
        <p:spPr>
          <a:xfrm>
            <a:off x="214200" y="0"/>
            <a:ext cx="857268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o de los simbolos + o – dependiendo del peso que se le quiera dar en la busqued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2" name="Picture 2" descr="F:\inter2\tabla1a.JPG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5" name="Picture 2" descr="F:\inter2\tabla1b.JPG"/>
          <p:cNvPicPr/>
          <p:nvPr/>
        </p:nvPicPr>
        <p:blipFill>
          <a:blip r:embed="rId1"/>
          <a:stretch/>
        </p:blipFill>
        <p:spPr>
          <a:xfrm>
            <a:off x="-3240" y="142920"/>
            <a:ext cx="91472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IPOS DE BUSCADORE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emat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 Temat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etabuscado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5" descr="C:\Documents and Settings\Moe\Desktop\Internet\image009.gif"/>
          <p:cNvPicPr/>
          <p:nvPr/>
        </p:nvPicPr>
        <p:blipFill>
          <a:blip r:embed="rId1"/>
          <a:stretch/>
        </p:blipFill>
        <p:spPr>
          <a:xfrm>
            <a:off x="428760" y="928800"/>
            <a:ext cx="3384360" cy="8571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C:\Documents and Settings\Moe\Desktop\Internet\Hotelbook.gif"/>
          <p:cNvPicPr/>
          <p:nvPr/>
        </p:nvPicPr>
        <p:blipFill>
          <a:blip r:embed="rId2"/>
          <a:stretch/>
        </p:blipFill>
        <p:spPr>
          <a:xfrm rot="1209000">
            <a:off x="850680" y="3649680"/>
            <a:ext cx="5675040" cy="13874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" descr="C:\Documents and Settings\Moe\Desktop\Internet\Buscacine.gif"/>
          <p:cNvPicPr/>
          <p:nvPr/>
        </p:nvPicPr>
        <p:blipFill>
          <a:blip r:embed="rId3"/>
          <a:stretch/>
        </p:blipFill>
        <p:spPr>
          <a:xfrm rot="20380200">
            <a:off x="3395160" y="892080"/>
            <a:ext cx="5535720" cy="22147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IPOS DE BUSCADORE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5712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emat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formacion Limitad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formacion Precis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jempl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Buscacine.com (cine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InfoAgro.com  (Agricultura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GunHoo.com (arma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Amazon.com (comprar discos , libros, pelicula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Andinia.com (deportes de monta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ña=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www.HotelBook.com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(Hoteles en todo el Mundo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Picture 4" descr="C:\Documents and Settings\Moe\Desktop\Internet\amazon.jpg"/>
          <p:cNvPicPr/>
          <p:nvPr/>
        </p:nvPicPr>
        <p:blipFill>
          <a:blip r:embed="rId4"/>
          <a:stretch/>
        </p:blipFill>
        <p:spPr>
          <a:xfrm>
            <a:off x="6215040" y="2928960"/>
            <a:ext cx="20923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4" descr="C:\Documents and Settings\Moe\Desktop\Internet\scitopia.org-what-is-scitopia.jpg"/>
          <p:cNvPicPr/>
          <p:nvPr/>
        </p:nvPicPr>
        <p:blipFill>
          <a:blip r:embed="rId1"/>
          <a:stretch/>
        </p:blipFill>
        <p:spPr>
          <a:xfrm>
            <a:off x="3933720" y="2000160"/>
            <a:ext cx="3832200" cy="10209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oe\Desktop\Internet\scholar_logo.gif"/>
          <p:cNvPicPr/>
          <p:nvPr/>
        </p:nvPicPr>
        <p:blipFill>
          <a:blip r:embed="rId2"/>
          <a:stretch/>
        </p:blipFill>
        <p:spPr>
          <a:xfrm>
            <a:off x="4857840" y="5072040"/>
            <a:ext cx="2628720" cy="10476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C:\Documents and Settings\Moe\Desktop\Internet\ieee_logo.gif"/>
          <p:cNvPicPr/>
          <p:nvPr/>
        </p:nvPicPr>
        <p:blipFill>
          <a:blip r:embed="rId3"/>
          <a:stretch/>
        </p:blipFill>
        <p:spPr>
          <a:xfrm>
            <a:off x="4929120" y="3714840"/>
            <a:ext cx="2428920" cy="125244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USCADORES TEMATICOS CIENTIFICO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ww.Scitopia.or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ibliotecas digitales de sociedades cientificas y tecnologic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demas busca patentes y documentos gubernamenta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ww.IEEE.org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uscador de las mas recientes publicaciones tecnologic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scholar.google.co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3" descr="C:\Documents and Settings\Moe\Desktop\Internet\5857713.jpg"/>
          <p:cNvPicPr/>
          <p:nvPr/>
        </p:nvPicPr>
        <p:blipFill>
          <a:blip r:embed="rId1"/>
          <a:stretch/>
        </p:blipFill>
        <p:spPr>
          <a:xfrm rot="1936800">
            <a:off x="4128840" y="3346560"/>
            <a:ext cx="3360600" cy="25207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C:\Documents and Settings\Moe\Desktop\Internet\infoseekw_.jpg"/>
          <p:cNvPicPr/>
          <p:nvPr/>
        </p:nvPicPr>
        <p:blipFill>
          <a:blip r:embed="rId2"/>
          <a:stretch/>
        </p:blipFill>
        <p:spPr>
          <a:xfrm rot="18942000">
            <a:off x="4763880" y="776160"/>
            <a:ext cx="2253960" cy="20829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C:\Documents and Settings\Moe\Desktop\Internet\google_logo1.jpg"/>
          <p:cNvPicPr/>
          <p:nvPr/>
        </p:nvPicPr>
        <p:blipFill>
          <a:blip r:embed="rId3"/>
          <a:stretch/>
        </p:blipFill>
        <p:spPr>
          <a:xfrm rot="1708800">
            <a:off x="367920" y="1271160"/>
            <a:ext cx="3956040" cy="16495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C:\Documents and Settings\Moe\Desktop\Internet\yahoo.jpg"/>
          <p:cNvPicPr/>
          <p:nvPr/>
        </p:nvPicPr>
        <p:blipFill>
          <a:blip r:embed="rId4"/>
          <a:stretch/>
        </p:blipFill>
        <p:spPr>
          <a:xfrm rot="19287600">
            <a:off x="934560" y="3927240"/>
            <a:ext cx="3333960" cy="23335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IPOS DE BUSCADORE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 Temat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ucha Informac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spuestas mas genera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xiste Redundancia de informac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jempl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Google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Lycos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Yahoo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Altavista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Infoseek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IPOS DE BUSCADORE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etabuscado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acilitan aun mas la busqued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usqueda en multiples sitios y Buscador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ntrega resumen de los articulos relevant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btiene el m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á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ximo recurso disponible de la red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Metacrawler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Dogpile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Mamma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ww.Search.c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Picture 2" descr="C:\Documents and Settings\Moe\Desktop\Internet\METACRAWLER2.gif"/>
          <p:cNvPicPr/>
          <p:nvPr/>
        </p:nvPicPr>
        <p:blipFill>
          <a:blip r:embed="rId1"/>
          <a:stretch/>
        </p:blipFill>
        <p:spPr>
          <a:xfrm>
            <a:off x="4929120" y="3857760"/>
            <a:ext cx="2467080" cy="8571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C:\Documents and Settings\Moe\Desktop\Internet\dogpile_logo.gif"/>
          <p:cNvPicPr/>
          <p:nvPr/>
        </p:nvPicPr>
        <p:blipFill>
          <a:blip r:embed="rId2"/>
          <a:stretch/>
        </p:blipFill>
        <p:spPr>
          <a:xfrm>
            <a:off x="5286240" y="4714920"/>
            <a:ext cx="2424240" cy="9874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C:\Documents and Settings\Moe\Desktop\Internet\mamma_logo_v2.gif"/>
          <p:cNvPicPr/>
          <p:nvPr/>
        </p:nvPicPr>
        <p:blipFill>
          <a:blip r:embed="rId3"/>
          <a:stretch/>
        </p:blipFill>
        <p:spPr>
          <a:xfrm>
            <a:off x="5143680" y="5643720"/>
            <a:ext cx="269532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USQUEDAS MAS EFICIENTES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tilizar palabras multip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in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ine Santiago La Rein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8" name="Picture 2" descr="F:\inter2\cine.JPG"/>
          <p:cNvPicPr/>
          <p:nvPr/>
        </p:nvPicPr>
        <p:blipFill>
          <a:blip r:embed="rId1"/>
          <a:stretch/>
        </p:blipFill>
        <p:spPr>
          <a:xfrm>
            <a:off x="0" y="357120"/>
            <a:ext cx="8767800" cy="59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1" name="Picture 2" descr="F:\inter2\cine exacto.JPG"/>
          <p:cNvPicPr/>
          <p:nvPr/>
        </p:nvPicPr>
        <p:blipFill>
          <a:blip r:embed="rId1"/>
          <a:stretch/>
        </p:blipFill>
        <p:spPr>
          <a:xfrm>
            <a:off x="0" y="285840"/>
            <a:ext cx="87915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14:53:38Z</dcterms:created>
  <dc:creator>Alvaro Jesam</dc:creator>
  <dc:description/>
  <dc:language>en-US</dc:language>
  <cp:lastModifiedBy>ABOTTESELLE</cp:lastModifiedBy>
  <dcterms:modified xsi:type="dcterms:W3CDTF">2007-11-26T15:59:57Z</dcterms:modified>
  <cp:revision>6</cp:revision>
  <dc:subject/>
  <dc:title>Busquedas en Internet</dc:title>
</cp:coreProperties>
</file>