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132F-B77D-41DF-8800-C41BA8A07F4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B798-C32A-438D-B813-710D5D56205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7322-1EA1-46FB-9E55-66F90D85721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393F-44E5-4470-9D49-EDE90F39A0A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148E-3004-49C0-BDF6-DA907475A1A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3D66-12C4-4906-884A-BF354E74FFE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5BB0-1B0D-4EEE-86E3-4C2C99DA0E2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FA4B-E8F1-425F-A8F6-13B246AA527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7C4E-429C-4095-B18B-0C1CB90BF3F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219D-BA3F-4FB1-8C8D-093715F392F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6755-23B0-40C0-96A8-929E62A0EB8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AB1E-334B-4508-89C8-20A903F0BD6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C0E2-7693-40B2-967C-D3FD1C2FA6D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AD39-5FC2-41D5-B5C7-B9CC79C190A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128C-E6C5-4C6E-B746-807BD672E7F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0D09-6F65-4CEE-B968-835DEAD1D47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424A-5FF6-4BD4-86B5-A34C02B7D81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16B9-EBFB-414A-9ABE-BFB7FF4765E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13D3-51C9-4CDA-881C-1A64B2E7A96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6D73-6C69-4A94-84F2-996FF58ADFA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5251-5EE4-4D39-8618-539CD9E6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3BD-FA78-4A0A-B260-22C35B25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49B1-E89A-46F0-9BF1-B4263B15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9959-38F1-47F9-B02F-5FED781B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6384-1303-4FF3-AB98-093FCC3B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9D4D-3462-4129-AA76-A42E8E20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FBDF-214A-4206-B50D-7B3A2495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BE00-5120-49F5-B2AB-585AD42C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2048-CAF4-486A-8873-91F2A8F2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0FE7-CA84-4EF7-92A2-E844D5E5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9BAC-DF5D-40B0-A832-A5A787D9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7BF-C972-4308-B61C-F3D738C4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94B0-1190-43FF-8C9E-3C40FB96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34DB-5EB0-480F-9BA1-12F4B483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D4A1-290E-4155-ABA5-9C6ED230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9FBE-C916-4D14-963C-A22BD2A3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A8BB-F5AB-4792-88CD-7B3028B1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36075-3770-4F02-B8A0-3FB431EB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BE91E-AD89-452A-B49D-6EAA25E9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D0EA40-DDFC-4BC3-B4BA-FA88D283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CEF2A-449A-4697-9D60-C78D89B3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3D0CA-CFBA-4BEA-924C-0B178815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B03-C841-44CF-987A-9694468C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3D9C7-7938-43FD-820D-7CFF3C42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09F83-1B00-4641-B059-2FA9F1A8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A4DA5-1382-4196-BE15-D906AF6E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03A09-8E27-4DF8-82C1-1CB8EE98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088E8-A665-4052-92F6-719E4E33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DF9F3-0258-4708-8993-D1A43CB7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FD074-D78D-4AC1-B4D6-E554E856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2FD06-6786-45DF-A509-FECD0A51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562E3-FC1D-421C-AF77-B3B292E5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86BF4-89A0-41CD-A90A-9BD25136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AB0-57AA-496C-9CD9-8623F562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9B4B2-BE3B-4098-A149-CF9A6A69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C6B02-8D8F-4172-BEA5-87289A0E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3DD61-A7D5-4C6E-AE60-D3638C30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43F53-C022-4267-B1BC-5BA2EA29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F2B77-79D1-4879-9EA4-C5741199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70D3A-9652-43E9-A61A-65C3AB4F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2420F-0C33-4581-831C-D12172DA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92DDD-FE5F-4E1E-A1FF-21170B28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1737E-FA56-474D-A458-DB58DE09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E62165-E32E-4CCB-9A63-6D34A40E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B2B-82C8-4CA0-A6C9-166B8297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6E20C-0B58-4D5D-BF90-28691EAD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BC9076-2874-489B-B36C-A9B2E4C8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069A4A-D9D0-4189-8189-1512FD5C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F95F6F-41D3-4F6C-AF89-D20F186E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079D5-86FF-450E-8058-A2F4BB59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7045D6-8C16-4035-A0A7-679B3A0A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41EDE-B8D8-4A7C-B8A4-E7B6106C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B972A3-4720-408F-96F1-13366032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0990E-743E-4258-A173-C81FAC7C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AD61CF-E83A-45EE-94AD-2EBF3AD0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C184-3DAB-4B6B-A1CD-64749559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D6D3B-D11F-41C3-9A2B-6F7D59AB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9A8D2-B27F-4933-9C3B-E79AA546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81BB77-0EB6-4906-8E51-75730668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C810C1-B3CC-4D64-8D8D-7D9A68C1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FD762B-B50C-4A93-999D-2C023AB7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31713-9CB7-4C58-9402-D016DAD6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B2280-37B3-499C-9B34-95F2E913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18F85E-9FB7-4FCF-8296-E309B087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941254-1A8F-4ED6-904B-4B0EDE08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388A0-DD0F-45DE-B224-8B015B19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CA4-15ED-4A90-BD5E-F4FCEB97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0828DA-2ED5-4E11-B7FB-56F03514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8506A4-D51B-4D66-9970-1D56DE40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EBE872-0266-43FA-AB36-9E6E54E0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927537-2CE7-4645-87F9-CD7DDF96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BD0D91-A5EA-423B-80E1-4CEAFF28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D396F5-72C4-430D-8A5F-28CD9BC0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66DEEE-545C-456F-94E2-90050866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20D986-9498-405F-9D63-3EAFABCF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006133-4FC4-4F5D-86F6-31F23A0D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656D09-7FCC-4370-B9AE-B08B0E92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6CD-6F1A-4A1E-8DFA-DDC1E67E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48BD67-AA2D-49D0-9589-B5E3754C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9ABF8-A3C3-4C83-AB77-E3AE3662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247966-8774-4BB1-9C9B-976BF670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4D35E7-4CEF-4EED-AA40-2405B9B7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34074B-815E-44A8-BE72-F3F39BF9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52A-2978-4F35-9EAE-31000553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4EF3-D8AC-4AAB-A4D0-3D237C1C84A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DBA0-4169-4323-8925-C477F6DD1F5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A404-352D-42D7-8D16-5EC44FA3EF0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C92C-B8EB-41D6-8AA9-31AC833D999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CCDF-7653-40B5-9CA8-79F4E988C68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2EA3-F734-4869-902A-BAC7F68CCB4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34D3-0873-4F63-8973-7F3BACF38F5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USQUEDAS EN INTERNE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Alvaro Jesa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Nicolás Montecin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ar Mayusculas en nombres propios o marcas comerci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stercar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stercar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ar comillas  cuando se desea encontrar una frase exact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l perro de Claudi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l perro de Claudia”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Picture 2" descr="C:\Documents and Settings\Moe\Desktop\inter2\sin comilla.JPG"/>
          <p:cNvPicPr/>
          <p:nvPr/>
        </p:nvPicPr>
        <p:blipFill>
          <a:blip r:embed="rId1"/>
          <a:stretch/>
        </p:blipFill>
        <p:spPr>
          <a:xfrm>
            <a:off x="0" y="0"/>
            <a:ext cx="87152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2" descr="C:\Documents and Settings\Moe\Desktop\inter2\con comilla.JPG"/>
          <p:cNvPicPr/>
          <p:nvPr/>
        </p:nvPicPr>
        <p:blipFill>
          <a:blip r:embed="rId1"/>
          <a:stretch/>
        </p:blipFill>
        <p:spPr>
          <a:xfrm>
            <a:off x="0" y="0"/>
            <a:ext cx="811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o de Comas para separar nombres propi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ara buscar los autores del Libro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vanced Programing with C++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 busca de la Siguiente maner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chi Henning,Steve Vinoski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o de los simbolos + o – para agregar  o quitar importancia a las palabr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2" descr="F:\inter2\merme manza.JPG"/>
          <p:cNvPicPr/>
          <p:nvPr/>
        </p:nvPicPr>
        <p:blipFill>
          <a:blip r:embed="rId1"/>
          <a:stretch/>
        </p:blipFill>
        <p:spPr>
          <a:xfrm>
            <a:off x="214200" y="101520"/>
            <a:ext cx="8572680" cy="654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9" name="Picture 2" descr="F:\inter2\merme sin manza.JPG"/>
          <p:cNvPicPr/>
          <p:nvPr/>
        </p:nvPicPr>
        <p:blipFill>
          <a:blip r:embed="rId1"/>
          <a:stretch/>
        </p:blipFill>
        <p:spPr>
          <a:xfrm>
            <a:off x="214200" y="0"/>
            <a:ext cx="85726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o de los simbolos + o – dependiendo del peso que se le quiera dar en la busque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2" descr="F:\inter2\tabla1a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2" descr="F:\inter2\tabla1b.JPG"/>
          <p:cNvPicPr/>
          <p:nvPr/>
        </p:nvPicPr>
        <p:blipFill>
          <a:blip r:embed="rId1"/>
          <a:stretch/>
        </p:blipFill>
        <p:spPr>
          <a:xfrm>
            <a:off x="-3240" y="142920"/>
            <a:ext cx="9147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tabuscad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C:\Documents and Settings\Moe\Desktop\Internet\image009.gif"/>
          <p:cNvPicPr/>
          <p:nvPr/>
        </p:nvPicPr>
        <p:blipFill>
          <a:blip r:embed="rId1"/>
          <a:stretch/>
        </p:blipFill>
        <p:spPr>
          <a:xfrm>
            <a:off x="428760" y="928800"/>
            <a:ext cx="3384360" cy="857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C:\Documents and Settings\Moe\Desktop\Internet\Hotelbook.gif"/>
          <p:cNvPicPr/>
          <p:nvPr/>
        </p:nvPicPr>
        <p:blipFill>
          <a:blip r:embed="rId2"/>
          <a:stretch/>
        </p:blipFill>
        <p:spPr>
          <a:xfrm rot="1209000">
            <a:off x="850680" y="3649680"/>
            <a:ext cx="5675040" cy="13874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C:\Documents and Settings\Moe\Desktop\Internet\Buscacine.gif"/>
          <p:cNvPicPr/>
          <p:nvPr/>
        </p:nvPicPr>
        <p:blipFill>
          <a:blip r:embed="rId3"/>
          <a:stretch/>
        </p:blipFill>
        <p:spPr>
          <a:xfrm rot="20380200">
            <a:off x="3395160" y="892080"/>
            <a:ext cx="5535720" cy="22147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formacion Limitad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formacion Precis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Buscacine.com (cin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InfoAgro.com  (Agricultura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GunHoo.com (arma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Amazon.com (comprar discos , libros, pelicula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Andinia.com (deportes de monta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ña=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www.HotelBook.com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(Hoteles en todo el Mundo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4" descr="C:\Documents and Settings\Moe\Desktop\Internet\amazon.jpg"/>
          <p:cNvPicPr/>
          <p:nvPr/>
        </p:nvPicPr>
        <p:blipFill>
          <a:blip r:embed="rId4"/>
          <a:stretch/>
        </p:blipFill>
        <p:spPr>
          <a:xfrm>
            <a:off x="6215040" y="2928960"/>
            <a:ext cx="20923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C:\Documents and Settings\Moe\Desktop\Internet\scitopia.org-what-is-scitopia.jpg"/>
          <p:cNvPicPr/>
          <p:nvPr/>
        </p:nvPicPr>
        <p:blipFill>
          <a:blip r:embed="rId1"/>
          <a:stretch/>
        </p:blipFill>
        <p:spPr>
          <a:xfrm>
            <a:off x="3933720" y="2000160"/>
            <a:ext cx="3832200" cy="10209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oe\Desktop\Internet\scholar_logo.gif"/>
          <p:cNvPicPr/>
          <p:nvPr/>
        </p:nvPicPr>
        <p:blipFill>
          <a:blip r:embed="rId2"/>
          <a:stretch/>
        </p:blipFill>
        <p:spPr>
          <a:xfrm>
            <a:off x="4857840" y="5072040"/>
            <a:ext cx="2628720" cy="1047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oe\Desktop\Internet\ieee_logo.gif"/>
          <p:cNvPicPr/>
          <p:nvPr/>
        </p:nvPicPr>
        <p:blipFill>
          <a:blip r:embed="rId3"/>
          <a:stretch/>
        </p:blipFill>
        <p:spPr>
          <a:xfrm>
            <a:off x="4929120" y="3714840"/>
            <a:ext cx="2428920" cy="12524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USCADORES TEMATICOS CIENTIFICO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Scitopia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ibliotecas digitales de sociedades cientificas y tecnologic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emas busca patentes y documentos gubernamenta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IEEE.or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cador de las mas recientes publicaciones tecnologic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scholar.google.c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C:\Documents and Settings\Moe\Desktop\Internet\5857713.jpg"/>
          <p:cNvPicPr/>
          <p:nvPr/>
        </p:nvPicPr>
        <p:blipFill>
          <a:blip r:embed="rId1"/>
          <a:stretch/>
        </p:blipFill>
        <p:spPr>
          <a:xfrm rot="1936800">
            <a:off x="4128840" y="3346560"/>
            <a:ext cx="3360600" cy="2520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Documents and Settings\Moe\Desktop\Internet\infoseekw_.jpg"/>
          <p:cNvPicPr/>
          <p:nvPr/>
        </p:nvPicPr>
        <p:blipFill>
          <a:blip r:embed="rId2"/>
          <a:stretch/>
        </p:blipFill>
        <p:spPr>
          <a:xfrm rot="18942000">
            <a:off x="4763880" y="776160"/>
            <a:ext cx="2253960" cy="2082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C:\Documents and Settings\Moe\Desktop\Internet\google_logo1.jpg"/>
          <p:cNvPicPr/>
          <p:nvPr/>
        </p:nvPicPr>
        <p:blipFill>
          <a:blip r:embed="rId3"/>
          <a:stretch/>
        </p:blipFill>
        <p:spPr>
          <a:xfrm rot="1708800">
            <a:off x="367920" y="1271160"/>
            <a:ext cx="3956040" cy="16495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C:\Documents and Settings\Moe\Desktop\Internet\yahoo.jpg"/>
          <p:cNvPicPr/>
          <p:nvPr/>
        </p:nvPicPr>
        <p:blipFill>
          <a:blip r:embed="rId4"/>
          <a:stretch/>
        </p:blipFill>
        <p:spPr>
          <a:xfrm rot="19287600">
            <a:off x="934560" y="3927240"/>
            <a:ext cx="3333960" cy="23335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ucha Informac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spuestas mas genera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iste Redundancia de informac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Google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Lycos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Yahoo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Altavista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Infoseek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tabuscad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acilitan aun mas la busqued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queda en multiples sitios y Buscador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trega resumen de los articulos relevan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btiene el m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á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ximo recurso disponible de la re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Metacrawler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Dogpile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Mamma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Search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C:\Documents and Settings\Moe\Desktop\Internet\METACRAWLER2.gif"/>
          <p:cNvPicPr/>
          <p:nvPr/>
        </p:nvPicPr>
        <p:blipFill>
          <a:blip r:embed="rId1"/>
          <a:stretch/>
        </p:blipFill>
        <p:spPr>
          <a:xfrm>
            <a:off x="4929120" y="3857760"/>
            <a:ext cx="2467080" cy="857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C:\Documents and Settings\Moe\Desktop\Internet\dogpile_logo.gif"/>
          <p:cNvPicPr/>
          <p:nvPr/>
        </p:nvPicPr>
        <p:blipFill>
          <a:blip r:embed="rId2"/>
          <a:stretch/>
        </p:blipFill>
        <p:spPr>
          <a:xfrm>
            <a:off x="5286240" y="4714920"/>
            <a:ext cx="2424240" cy="9874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Documents and Settings\Moe\Desktop\Internet\mamma_logo_v2.gif"/>
          <p:cNvPicPr/>
          <p:nvPr/>
        </p:nvPicPr>
        <p:blipFill>
          <a:blip r:embed="rId3"/>
          <a:stretch/>
        </p:blipFill>
        <p:spPr>
          <a:xfrm>
            <a:off x="5143680" y="5643720"/>
            <a:ext cx="26953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USQUEDAS MAS EFICIENT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ar palabras multi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in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ine Santiago La Rein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2" descr="F:\inter2\cine.JPG"/>
          <p:cNvPicPr/>
          <p:nvPr/>
        </p:nvPicPr>
        <p:blipFill>
          <a:blip r:embed="rId1"/>
          <a:stretch/>
        </p:blipFill>
        <p:spPr>
          <a:xfrm>
            <a:off x="0" y="357120"/>
            <a:ext cx="876780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2" descr="F:\inter2\cine exacto.JPG"/>
          <p:cNvPicPr/>
          <p:nvPr/>
        </p:nvPicPr>
        <p:blipFill>
          <a:blip r:embed="rId1"/>
          <a:stretch/>
        </p:blipFill>
        <p:spPr>
          <a:xfrm>
            <a:off x="0" y="285840"/>
            <a:ext cx="87915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53:38Z</dcterms:created>
  <dc:creator>Alvaro Jesam</dc:creator>
  <dc:description/>
  <dc:language>en-US</dc:language>
  <cp:lastModifiedBy>ABOTTESELLE</cp:lastModifiedBy>
  <dcterms:modified xsi:type="dcterms:W3CDTF">2007-11-26T15:59:57Z</dcterms:modified>
  <cp:revision>6</cp:revision>
  <dc:subject/>
  <dc:title>Busquedas en Internet</dc:title>
</cp:coreProperties>
</file>