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1A4B-BCA0-4DD7-8C4D-1A4B5AEE673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CE41-1C79-49F7-BF10-953DC3DDCBB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02E6-E46B-42A1-B9DE-32CEEA63EE4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7531-0328-46B9-BB0D-D71F904C538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92D9-8024-4F9A-92D9-91B128D8285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6451-A708-4B4D-B8BB-A0F2B231A32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691B-B245-4A7E-9A33-C4F933E823B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7187-D97C-4F27-AD2B-4577E0B3D56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54E9-5626-446D-996C-0196A71F926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AAC0-98CA-4AC5-ACBD-9DFC88A6A29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01D9-3C88-4B25-B2D9-E0E4F053171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9123-B888-41F1-B2B9-22E437EE2F4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7AC1-42BF-4FF2-8B07-E286BD9C484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A5D9-1B3C-411E-BA29-F82B7D2B718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D23E-D33E-47FD-85AE-C9468A05424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FEA5-DAF2-4855-83C5-E00225757DF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8454-2A00-4943-81E2-69146A2E9B6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62BE-B03C-48CA-86B8-2F8CCDABE95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E4E6-94EA-411A-81CA-9F7286DDA3F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9C01-9B35-41E9-BE61-D80AA8C1DB4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EFD-B1F3-48AE-8833-0EC5BAA2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CF1-96E9-4780-A3B4-1017986A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708-1216-465B-9C38-2C38F338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BD4A-1636-4375-AC7A-99EDFE36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CDE3-F6CA-49D3-94D9-CD2B4769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7918-D789-44F9-82A4-E525039F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DCCF-47EE-447B-9A63-EFF97A7D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ABEB-1663-46C0-B46B-6F9D7F81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58A3-1333-4BDB-BB2E-1B2DC6C9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4016-2490-43E6-94A0-4960230B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3865-4AEC-4AC4-8E0C-1A9EBA83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0117-DC20-4059-A977-9D720518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30C2-34C5-483E-830E-58BDE4AF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9F8C-4132-4E66-B9B3-372838B0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0047-BE02-49F0-B2B7-AEE5B08E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FF8A-2F1A-4CC8-A857-8E3E4FE4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D160-E2A1-44D2-84B9-9EC97200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F3738-0039-4F98-A496-B8F39D3D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5EA610-E5D1-4BF3-8A99-93E684AF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0BDE03-2EBA-41D9-A178-65F31467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EC1A2-84CB-4B56-AFDF-1DEEDDEA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2C9EE-3241-4D20-BEB2-15217B12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E73-C28C-4F2C-8A99-E57811EA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369FB-FA2C-49C0-913C-F606400B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3B661-25A7-4BC8-A8C3-E19D4DD1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A065E-2BF5-41CD-8486-53945E0D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B16CE-3CFC-4503-A223-B88963D1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96ADD-0D82-4D9E-AABB-9D2F69C8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810BF-9B6F-4A7E-9BF7-9ABDE0B2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F4B9D-B3AE-4A82-B4AE-FA4E4871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1604D-620D-4073-9CC1-C521A440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15B87-D95E-4EF2-B81B-51443271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EEAB2-BA30-4104-BEB7-826F708F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7001-640A-456B-B8EA-79766FA2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08C0B-3397-4A4F-8193-916A3380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AA748-7AA5-4D29-B9F6-242970E8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E57DD-0C4F-4AF0-BFEE-0F166FAD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1B861-AE03-4D42-9C34-A068F84A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BFE3C-1270-4715-8A31-408EDCD9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E2C42-925D-41D1-B858-D9E959CA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D79D3-94D5-4192-95C0-332EF807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7A854-4A6E-415F-A2F8-5B9BC465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D8C5D-6277-4961-81D2-75053543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CAFEB1-3C1D-49A5-BC97-BBD7B7BA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ADD-1860-4A65-B8B0-81D09DB7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975478-39A8-435A-98C8-A32079BF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6AE46B-020F-40B2-A160-3DEACEE9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4C651F-E69B-41A5-94C7-247E9A74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6C021-0CCF-45C3-8117-319D4B51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07430-170B-4E19-B2E9-944AA35A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C459F-553B-4510-9E9D-67C8627E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22C9C-3C0D-472F-90CA-0BC60291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312D74-F348-4C2C-AC91-51C3D2EE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239EA7-45FC-49F3-8779-14F649A8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F5741E-0EBA-4047-8C74-1203BA51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61D-39A2-49AA-8FC1-E55286A0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CD45EA-CEEE-4560-B8E8-50947954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C05729-32D6-4571-B1BF-34C26063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B991C1-12BD-4D6F-960B-7A0C8E27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1400A4-70F1-4017-9260-6176D2B1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5345E5-A33E-4194-A994-8B8C7E7C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C2F3B7-1CD2-42EF-A85D-75ACFF7F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BC0D5B-7F76-46A4-B4D6-59D63D47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0AFCD-C610-4C33-8DD3-4D9454F6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CB1970-2411-465C-B6B1-9B3D3FBE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BDA02C-00DE-4095-9086-B44155AC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6B8-7C19-4325-A2FA-1D1703C5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CBF075-5876-49BB-BDC9-B20CC3DF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07CB23-6A56-44FF-975D-D1DB1CF7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1E865D-E27F-4D7F-BF8E-8607C18F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BDB06F-85E0-4424-9FA6-62CA4B19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65750C-30E3-4AC8-BB92-2FDF4536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35F238-DD20-4CE9-8A6A-8DDBABE6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C018A3-C26D-4390-A8E2-9B8E7AFF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8245D6-333C-4A4D-AA02-C85953C1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CE932-5AE7-4D66-91FD-DB39CC2A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37437D-6539-4C1D-8A6F-1B62B8F6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69F0-2860-4886-AD8F-F3E2DF2C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F543B6-3F5F-4D92-9EE9-C350F067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2388C4-3DAD-4F19-A63A-CA9D8B54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8BB22B-B8F4-4457-8F3C-E4063250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7C58D3-EED0-49CB-A3F9-03D11177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1A3D79-F4FE-4749-BA10-885752B2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DFEC-84F8-4F0B-B282-6C6006FF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F575-E42E-4A09-BAC0-518BFDF6193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9CA3-AF0A-4D99-988C-31D8535E725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BEE7-78E9-4530-A789-9D0AED2FE11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8825-17E3-4AF7-8013-D55F7B2C236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B3A3-7F12-4D03-AD4E-40E4672A056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33A0-2CB2-4C54-8673-67B2A7E15CD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EA0A-0FA3-4A0B-B2E1-51841AFCEDA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USQUEDAS EN INTERNE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Alvaro Jesa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Nicolás Montecin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ar Mayusculas en nombres propios o marcas comerci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stercar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stercar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ar comillas  cuando se desea encontrar una frase exact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l perro de Claudi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l perro de Claudia”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Picture 2" descr="C:\Documents and Settings\Moe\Desktop\inter2\sin comilla.JPG"/>
          <p:cNvPicPr/>
          <p:nvPr/>
        </p:nvPicPr>
        <p:blipFill>
          <a:blip r:embed="rId1"/>
          <a:stretch/>
        </p:blipFill>
        <p:spPr>
          <a:xfrm>
            <a:off x="0" y="0"/>
            <a:ext cx="87152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2" descr="C:\Documents and Settings\Moe\Desktop\inter2\con comilla.JPG"/>
          <p:cNvPicPr/>
          <p:nvPr/>
        </p:nvPicPr>
        <p:blipFill>
          <a:blip r:embed="rId1"/>
          <a:stretch/>
        </p:blipFill>
        <p:spPr>
          <a:xfrm>
            <a:off x="0" y="0"/>
            <a:ext cx="811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o de Comas para separar nombres propi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ara buscar los autores del Libro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dvanced Programing with C++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 busca de la Siguiente maner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ichi Henning,Steve Vinoski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o de los simbolos + o – para agregar  o quitar importancia a las palabr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2" descr="F:\inter2\merme manza.JPG"/>
          <p:cNvPicPr/>
          <p:nvPr/>
        </p:nvPicPr>
        <p:blipFill>
          <a:blip r:embed="rId1"/>
          <a:stretch/>
        </p:blipFill>
        <p:spPr>
          <a:xfrm>
            <a:off x="214200" y="101520"/>
            <a:ext cx="8572680" cy="654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9" name="Picture 2" descr="F:\inter2\merme sin manza.JPG"/>
          <p:cNvPicPr/>
          <p:nvPr/>
        </p:nvPicPr>
        <p:blipFill>
          <a:blip r:embed="rId1"/>
          <a:stretch/>
        </p:blipFill>
        <p:spPr>
          <a:xfrm>
            <a:off x="214200" y="0"/>
            <a:ext cx="85726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o de los simbolos + o – dependiendo del peso que se le quiera dar en la busque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2" descr="F:\inter2\tabla1a.JP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2" descr="F:\inter2\tabla1b.JPG"/>
          <p:cNvPicPr/>
          <p:nvPr/>
        </p:nvPicPr>
        <p:blipFill>
          <a:blip r:embed="rId1"/>
          <a:stretch/>
        </p:blipFill>
        <p:spPr>
          <a:xfrm>
            <a:off x="-3240" y="142920"/>
            <a:ext cx="91472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 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tabuscad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C:\Documents and Settings\Moe\Desktop\Internet\image009.gif"/>
          <p:cNvPicPr/>
          <p:nvPr/>
        </p:nvPicPr>
        <p:blipFill>
          <a:blip r:embed="rId1"/>
          <a:stretch/>
        </p:blipFill>
        <p:spPr>
          <a:xfrm>
            <a:off x="428760" y="928800"/>
            <a:ext cx="3384360" cy="8571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C:\Documents and Settings\Moe\Desktop\Internet\Hotelbook.gif"/>
          <p:cNvPicPr/>
          <p:nvPr/>
        </p:nvPicPr>
        <p:blipFill>
          <a:blip r:embed="rId2"/>
          <a:stretch/>
        </p:blipFill>
        <p:spPr>
          <a:xfrm rot="1209000">
            <a:off x="850680" y="3649680"/>
            <a:ext cx="5675040" cy="13874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C:\Documents and Settings\Moe\Desktop\Internet\Buscacine.gif"/>
          <p:cNvPicPr/>
          <p:nvPr/>
        </p:nvPicPr>
        <p:blipFill>
          <a:blip r:embed="rId3"/>
          <a:stretch/>
        </p:blipFill>
        <p:spPr>
          <a:xfrm rot="20380200">
            <a:off x="3395160" y="892080"/>
            <a:ext cx="5535720" cy="22147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formacion Limitad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formacion Precis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Buscacine.com (cin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InfoAgro.com  (Agricultura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GunHoo.com (arma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Amazon.com (comprar discos , libros, pelicula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Andinia.com (deportes de monta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ña=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www.HotelBook.com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(Hoteles en todo el Mundo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4" descr="C:\Documents and Settings\Moe\Desktop\Internet\amazon.jpg"/>
          <p:cNvPicPr/>
          <p:nvPr/>
        </p:nvPicPr>
        <p:blipFill>
          <a:blip r:embed="rId4"/>
          <a:stretch/>
        </p:blipFill>
        <p:spPr>
          <a:xfrm>
            <a:off x="6215040" y="2928960"/>
            <a:ext cx="20923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C:\Documents and Settings\Moe\Desktop\Internet\scitopia.org-what-is-scitopia.jpg"/>
          <p:cNvPicPr/>
          <p:nvPr/>
        </p:nvPicPr>
        <p:blipFill>
          <a:blip r:embed="rId1"/>
          <a:stretch/>
        </p:blipFill>
        <p:spPr>
          <a:xfrm>
            <a:off x="3933720" y="2000160"/>
            <a:ext cx="3832200" cy="10209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oe\Desktop\Internet\scholar_logo.gif"/>
          <p:cNvPicPr/>
          <p:nvPr/>
        </p:nvPicPr>
        <p:blipFill>
          <a:blip r:embed="rId2"/>
          <a:stretch/>
        </p:blipFill>
        <p:spPr>
          <a:xfrm>
            <a:off x="4857840" y="5072040"/>
            <a:ext cx="2628720" cy="10476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oe\Desktop\Internet\ieee_logo.gif"/>
          <p:cNvPicPr/>
          <p:nvPr/>
        </p:nvPicPr>
        <p:blipFill>
          <a:blip r:embed="rId3"/>
          <a:stretch/>
        </p:blipFill>
        <p:spPr>
          <a:xfrm>
            <a:off x="4929120" y="3714840"/>
            <a:ext cx="2428920" cy="12524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USCADORES TEMATICOS CIENTIFICO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Scitopia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ibliotecas digitales de sociedades cientificas y tecnologic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demas busca patentes y documentos gubernamenta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IEEE.or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cador de las mas recientes publicaciones tecnologic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scholar.google.c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C:\Documents and Settings\Moe\Desktop\Internet\5857713.jpg"/>
          <p:cNvPicPr/>
          <p:nvPr/>
        </p:nvPicPr>
        <p:blipFill>
          <a:blip r:embed="rId1"/>
          <a:stretch/>
        </p:blipFill>
        <p:spPr>
          <a:xfrm rot="1936800">
            <a:off x="4128840" y="3346560"/>
            <a:ext cx="3360600" cy="2520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Documents and Settings\Moe\Desktop\Internet\infoseekw_.jpg"/>
          <p:cNvPicPr/>
          <p:nvPr/>
        </p:nvPicPr>
        <p:blipFill>
          <a:blip r:embed="rId2"/>
          <a:stretch/>
        </p:blipFill>
        <p:spPr>
          <a:xfrm rot="18942000">
            <a:off x="4763880" y="776160"/>
            <a:ext cx="2253960" cy="2082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C:\Documents and Settings\Moe\Desktop\Internet\google_logo1.jpg"/>
          <p:cNvPicPr/>
          <p:nvPr/>
        </p:nvPicPr>
        <p:blipFill>
          <a:blip r:embed="rId3"/>
          <a:stretch/>
        </p:blipFill>
        <p:spPr>
          <a:xfrm rot="1708800">
            <a:off x="367920" y="1271160"/>
            <a:ext cx="3956040" cy="16495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C:\Documents and Settings\Moe\Desktop\Internet\yahoo.jpg"/>
          <p:cNvPicPr/>
          <p:nvPr/>
        </p:nvPicPr>
        <p:blipFill>
          <a:blip r:embed="rId4"/>
          <a:stretch/>
        </p:blipFill>
        <p:spPr>
          <a:xfrm rot="19287600">
            <a:off x="934560" y="3927240"/>
            <a:ext cx="3333960" cy="23335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 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ucha Informac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spuestas mas genera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iste Redundancia de informac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Google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Lycos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Yahoo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Altavista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Infoseek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tabuscad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acilitan aun mas la busqued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queda en multiples sitios y Buscador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trega resumen de los articulos relevant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btiene el m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á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ximo recurso disponible de la red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Metacrawler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Dogpile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Mamma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Search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C:\Documents and Settings\Moe\Desktop\Internet\METACRAWLER2.gif"/>
          <p:cNvPicPr/>
          <p:nvPr/>
        </p:nvPicPr>
        <p:blipFill>
          <a:blip r:embed="rId1"/>
          <a:stretch/>
        </p:blipFill>
        <p:spPr>
          <a:xfrm>
            <a:off x="4929120" y="3857760"/>
            <a:ext cx="2467080" cy="857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C:\Documents and Settings\Moe\Desktop\Internet\dogpile_logo.gif"/>
          <p:cNvPicPr/>
          <p:nvPr/>
        </p:nvPicPr>
        <p:blipFill>
          <a:blip r:embed="rId2"/>
          <a:stretch/>
        </p:blipFill>
        <p:spPr>
          <a:xfrm>
            <a:off x="5286240" y="4714920"/>
            <a:ext cx="2424240" cy="9874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Documents and Settings\Moe\Desktop\Internet\mamma_logo_v2.gif"/>
          <p:cNvPicPr/>
          <p:nvPr/>
        </p:nvPicPr>
        <p:blipFill>
          <a:blip r:embed="rId3"/>
          <a:stretch/>
        </p:blipFill>
        <p:spPr>
          <a:xfrm>
            <a:off x="5143680" y="5643720"/>
            <a:ext cx="26953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USQUEDAS MAS EFICIENT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ar palabras multi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in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ine Santiago La Rein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2" descr="F:\inter2\cine.JPG"/>
          <p:cNvPicPr/>
          <p:nvPr/>
        </p:nvPicPr>
        <p:blipFill>
          <a:blip r:embed="rId1"/>
          <a:stretch/>
        </p:blipFill>
        <p:spPr>
          <a:xfrm>
            <a:off x="0" y="357120"/>
            <a:ext cx="876780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2" descr="F:\inter2\cine exacto.JPG"/>
          <p:cNvPicPr/>
          <p:nvPr/>
        </p:nvPicPr>
        <p:blipFill>
          <a:blip r:embed="rId1"/>
          <a:stretch/>
        </p:blipFill>
        <p:spPr>
          <a:xfrm>
            <a:off x="0" y="285840"/>
            <a:ext cx="87915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53:38Z</dcterms:created>
  <dc:creator>Alvaro Jesam</dc:creator>
  <dc:description/>
  <dc:language>en-US</dc:language>
  <cp:lastModifiedBy>ABOTTESELLE</cp:lastModifiedBy>
  <dcterms:modified xsi:type="dcterms:W3CDTF">2007-11-26T15:59:57Z</dcterms:modified>
  <cp:revision>6</cp:revision>
  <dc:subject/>
  <dc:title>Busquedas en Internet</dc:title>
</cp:coreProperties>
</file>