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41645A-7A22-40D8-BF24-88A227149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F51667-F577-4BDC-9D7C-A1806FD7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EE895E-CDBA-4576-8CC0-3DCBBDEA1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A530F39-C4BD-4001-A617-4BFCA7193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38B9C-08E4-4AAB-AC56-6821BC4D1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8F1E0-0BE0-4B30-B71B-462179C51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F3D89-60C9-4D9D-9BCB-5A6F7BF5D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3CF7D-847C-4B61-B9D7-798662502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4BF5E-7AF7-4458-8A10-34811E8A0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C9068-E6DB-477E-9BF3-FBC4AAA03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6613C-5DAD-4419-A9D3-4131EAF92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DF9830-AE0E-45CA-AFB7-5484ABDF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C53E0-7F7B-4EEF-A04E-23B49746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EBD46-007F-40C2-9436-19135C9E8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7C266-5D9C-4BEF-A3F6-BA945112F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07554-E36B-45C4-BE11-8E6BB6521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CC6F4-78D7-49BC-B0F3-A24CA2ED4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3806C3-059F-4FAD-9E72-276D5B135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24BB3F-CD57-4E90-91E8-286F4423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5B2854-C947-4725-A2DB-3698FA66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98971A-2175-4E6F-BA7E-AAD584D1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1C5AA8-E8C0-4986-8AE8-07DC1D7E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246F94-30F6-4EFD-B61B-73496F0C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41D5E5-F335-4E60-AC2A-2A523D4A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16E8-7609-42F1-AC69-CCD1C585F8B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9B58-0A95-4D5C-BD02-48348F537B2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060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Normas de Transformadores de Corriente</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4643280" y="5805360"/>
            <a:ext cx="4248360" cy="10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ea typeface="Arial"/>
              </a:rPr>
              <a:t>Leopoldo Benavides – Christian Díaz</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Garamond"/>
                <a:ea typeface="Arial"/>
              </a:rPr>
              <a:t>EL 57C – Taller de Diseño en Potencia 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lificaciones de un TC</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nivel de aislamiento de impulso básico en términos del voltaje de la prueba de Onda complet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voltaje Nominal de sistema, o el voltaje máximo de sistem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Frecuenci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orrientes medidas en primario y secundari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lases de precisión en cargas uniform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factor que evalúa la corriente térmica continua en base a 30°C</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alificación mecánica de tiempo reducido de la corriente y la calificación térmica de tiempo reducido de la corrient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s uniformes o Standard</a:t>
            </a:r>
            <a:endParaRPr b="1" lang="en-US" sz="4400" spc="-1" strike="noStrike">
              <a:solidFill>
                <a:srgbClr val="e5e5ff"/>
              </a:solidFill>
              <a:latin typeface="Garamond"/>
            </a:endParaRPr>
          </a:p>
        </p:txBody>
      </p:sp>
      <p:sp>
        <p:nvSpPr>
          <p:cNvPr id="1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 Standard de cargas para transformadores de corriente con 5A corriente secundaria tendrán la resistencia y la inductancia según tabl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3" name="" descr=""/>
          <p:cNvPicPr/>
          <p:nvPr/>
        </p:nvPicPr>
        <p:blipFill>
          <a:blip r:embed="rId1"/>
          <a:stretch/>
        </p:blipFill>
        <p:spPr>
          <a:xfrm>
            <a:off x="1547640" y="2997360"/>
            <a:ext cx="5616720" cy="34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ones de la certeza para medir </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transformador de corriente para medición tendrá una certeza de medición para cada carga uniforme para la cual es medido. Por ejemplo, B-0.1.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ormador de corriente con secundario con “taps” o múltiple-razón. La calificación de la certeza de la medición aplica al enrollado secundario completo, a menos que se especifique de otra manera.</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ón de la certeza para retransmitir </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 clasificar la certeza de la retransmisión, la razón de corrección no excederá 10%. </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lasificación C, K, o T. La clasificación C o K cubre transformadores de corriente en los que el flujo remanente en el núcleo del transformador no tiene un efecto apreciable en la razón o razones dentro de los límites de la corriente y la carga. La clasificación T cubre los transformadores de corriente en los que el flujo de remanente en el núcleo del transformador tiene un efecto apreciable en la razón dentro de los límites especificados en el artículo B. Un efecto apreciable es definido como un 1% de diferencia entre los valores de la corrección actual de la razón y la corrección de razón calculada.</a:t>
            </a:r>
            <a:endParaRPr b="0" lang="en-US" sz="2400" spc="-1" strike="noStrike">
              <a:solidFill>
                <a:srgbClr val="ffffff"/>
              </a:solidFill>
              <a:latin typeface="Garamond"/>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Calificación del voltaje secundario. Este es el voltaje que el transformador entregará a una carga Standard siendo la corriente 20 veces el valor de la corriente secundaria sin exceder 10% de la razón de corrección. Además, la corrección de proporción será limitada a 10% para cualquier corriente desde 1 a 20 veces el valor de la corriente secundaria en la carga Standard o cualquier carga pequeña Standard utilizada para calificaciones de voltaje en secundario.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r ejemplo, en un transformador de corriente de 5A  secundario, la certeza de la retransmisión C100 dice que la proporción puede ser calculada y que la corrección de proporción no excederá 10% con ninguna corriente desde 1 a 20 veces la corriente secundaria medida con una carga estándar de 1,0 Ω (1,0Ω x 5A x 20 x corriente secundaria = 100 V)</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alificaciones del voltaje secundarios son basadas en una corriente secundaria de 5A (100A, 20 veces su valor) y cargas estándar. Las calificaciones del voltaje y sus cargas asociados son las siguient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2700360" y="4005360"/>
            <a:ext cx="326700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el enrollado secundario de un transformador de corriente es calificado en otro valor distinto de 5A, el voltaje apropiado de la calificación del voltaje será derivado de la multiplicación del voltaje uniforme por 5A /(corriente valor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99972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6" name=""/>
          <p:cNvSpPr txBox="1"/>
          <p:nvPr/>
        </p:nvSpPr>
        <p:spPr>
          <a:xfrm>
            <a:off x="500040" y="2071440"/>
            <a:ext cx="8229600" cy="4389480"/>
          </a:xfrm>
          <a:prstGeom prst="rect">
            <a:avLst/>
          </a:prstGeom>
          <a:noFill/>
          <a:ln w="0">
            <a:noFill/>
          </a:ln>
        </p:spPr>
        <p:txBody>
          <a:bodyPr anchor="t">
            <a:normAutofit/>
          </a:bodyPr>
          <a:p>
            <a:pPr marL="272880" indent="-272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ruebas Sísmicas</a:t>
            </a:r>
            <a:endParaRPr b="0" lang="en-US" sz="32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laboratorio aprobado por el dueño.</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pués de la prueba, el TC no debe mostrar daños, deformación ni fugas</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nguna parte interna debe quedar dañada</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8" name=""/>
          <p:cNvSpPr txBox="1"/>
          <p:nvPr/>
        </p:nvSpPr>
        <p:spPr>
          <a:xfrm>
            <a:off x="500040" y="2214720"/>
            <a:ext cx="8229600" cy="4389120"/>
          </a:xfrm>
          <a:prstGeom prst="rect">
            <a:avLst/>
          </a:prstGeom>
          <a:noFill/>
          <a:ln w="0">
            <a:noFill/>
          </a:ln>
        </p:spPr>
        <p:txBody>
          <a:bodyPr anchor="t">
            <a:normAutofit fontScale="99000"/>
          </a:bodyPr>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ruebas de Cortocircuito</a:t>
            </a:r>
            <a:endParaRPr b="0" lang="en-US" sz="3200" spc="-1" strike="noStrike">
              <a:solidFill>
                <a:srgbClr val="ffffff"/>
              </a:solidFill>
              <a:latin typeface="Garamond"/>
            </a:endParaRPr>
          </a:p>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s de Descargas Parciales</a:t>
            </a:r>
            <a:endParaRPr b="0" lang="en-US" sz="32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das como función de la tensión de prueba</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n antes de las pruebas de impulso, y después deben ser repetidas</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fectúa para tensiones crecientes entre 0.5 y 1.5 veces la tensión nominal, y luego en forma decreciente </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928800"/>
            <a:ext cx="8229600" cy="847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40" name=""/>
          <p:cNvSpPr txBox="1"/>
          <p:nvPr/>
        </p:nvSpPr>
        <p:spPr>
          <a:xfrm>
            <a:off x="428760" y="2214360"/>
            <a:ext cx="8215200" cy="3500280"/>
          </a:xfrm>
          <a:prstGeom prst="rect">
            <a:avLst/>
          </a:prstGeom>
          <a:noFill/>
          <a:ln w="0">
            <a:noFill/>
          </a:ln>
        </p:spPr>
        <p:txBody>
          <a:bodyPr anchor="t">
            <a:normAutofit fontScale="95000"/>
          </a:bodyPr>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 de Descargas Parciales</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DP no deben ser mayores a 10pC a 1.1Vn ni mayores a 2pC a 0.7Vn.</a:t>
            </a:r>
            <a:endParaRPr b="0" lang="en-US" sz="2800" spc="-1" strike="noStrike">
              <a:solidFill>
                <a:srgbClr val="ffffff"/>
              </a:solidFill>
              <a:latin typeface="Garamond"/>
            </a:endParaRPr>
          </a:p>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Prueba de Impulso</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el enrollado de AT</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 excitación del transformador</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usan ondas de polaridad negativa</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 un documento de conocimiento y uso público, aprobado por consenso y por un organismo reconoci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enen especificaciones técnicas de aplicación voluntari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án basados en los resultados de la experiencia y el desarrollo tecnológic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85680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Tipo</a:t>
            </a:r>
            <a:endParaRPr b="1" lang="en-US" sz="4400" spc="-1" strike="noStrike">
              <a:solidFill>
                <a:srgbClr val="e5e5ff"/>
              </a:solidFill>
              <a:latin typeface="Garamond"/>
            </a:endParaRPr>
          </a:p>
        </p:txBody>
      </p:sp>
      <p:sp>
        <p:nvSpPr>
          <p:cNvPr id="142" name=""/>
          <p:cNvSpPr txBox="1"/>
          <p:nvPr/>
        </p:nvSpPr>
        <p:spPr>
          <a:xfrm>
            <a:off x="428760" y="1999800"/>
            <a:ext cx="8229600" cy="4389480"/>
          </a:xfrm>
          <a:prstGeom prst="rect">
            <a:avLst/>
          </a:prstGeom>
          <a:noFill/>
          <a:ln w="0">
            <a:noFill/>
          </a:ln>
        </p:spPr>
        <p:txBody>
          <a:bodyPr anchor="t">
            <a:normAutofit fontScale="95000"/>
          </a:bodyPr>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5.- Prueba de Elevación de Temperatura.</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istencia Aislamiento Enrollados V/S Temperatura aceite.</a:t>
            </a:r>
            <a:endParaRPr b="0" lang="en-US" sz="2800" spc="-1" strike="noStrike">
              <a:solidFill>
                <a:srgbClr val="ffffff"/>
              </a:solidFill>
              <a:latin typeface="Garamond"/>
            </a:endParaRPr>
          </a:p>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6.- Prueba Curvas de Excitación.</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ción Curva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ión de Tensión de excitación para distintas corrientes de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go de corrientes tal de determinar zonas bajo y sobre punto de inflexión.</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de Rutina</a:t>
            </a:r>
            <a:endParaRPr b="1" lang="en-US" sz="4400" spc="-1" strike="noStrike">
              <a:solidFill>
                <a:srgbClr val="e5e5ff"/>
              </a:solidFill>
              <a:latin typeface="Garamond"/>
            </a:endParaRPr>
          </a:p>
        </p:txBody>
      </p:sp>
      <p:sp>
        <p:nvSpPr>
          <p:cNvPr id="144" name=""/>
          <p:cNvSpPr txBox="1"/>
          <p:nvPr/>
        </p:nvSpPr>
        <p:spPr>
          <a:xfrm>
            <a:off x="428760" y="2285640"/>
            <a:ext cx="8229600" cy="4389480"/>
          </a:xfrm>
          <a:prstGeom prst="rect">
            <a:avLst/>
          </a:prstGeom>
          <a:noFill/>
          <a:ln w="0">
            <a:noFill/>
          </a:ln>
        </p:spPr>
        <p:txBody>
          <a:bodyPr anchor="t">
            <a:normAutofit fontScale="97000"/>
          </a:bodyPr>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ciones Previas</a:t>
            </a:r>
            <a:endParaRPr b="0" lang="en-US" sz="3200" spc="-1" strike="noStrike">
              <a:solidFill>
                <a:srgbClr val="ffffff"/>
              </a:solidFill>
              <a:latin typeface="Garamond"/>
            </a:endParaRPr>
          </a:p>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uebas a Realizar en Todos los Equipos y se Incluyen en Costo de Suministro.</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ados Adjuntos con Protocolo de Pruebas.</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inspecciones a Costo y Cargo de Fabricante*.</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cia de Inspector Licitador.</a:t>
            </a:r>
            <a:endParaRPr b="0" lang="en-US" sz="2800" spc="-1" strike="noStrike">
              <a:solidFill>
                <a:srgbClr val="ffffff"/>
              </a:solidFill>
              <a:latin typeface="Garamond"/>
            </a:endParaRPr>
          </a:p>
          <a:p>
            <a:pPr lvl="2" marL="886680" indent="-2386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a de Pruebas.</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s Normas aseguran que los productos cumplan determinados estándares de ca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pecifican las características constructiv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rma es una sugerencia (no una obligación) la que puede hacerse obligatoria (Le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n elaborados por consenso de las partes interesadas: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bricant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nistracion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rios y consumidor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os de investigación y laboratorio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ociaciones y Colegios Profesional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ntes Sociales,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tenidos de una Norma</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ámbul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contenid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figur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tabla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eni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ances y Campo de Aplicación</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encias normativ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érminos y definicion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cedentes técnicos y teóric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uebas de ensay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x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da </a:t>
            </a:r>
            <a:r>
              <a:rPr b="0" lang="es-ES" sz="3200" spc="-1" strike="noStrike">
                <a:solidFill>
                  <a:srgbClr val="ffffff"/>
                </a:solidFill>
                <a:latin typeface="Garamond"/>
              </a:rPr>
              <a:t>país posee sus organizaciones normativas que trabajan solas o en conjunto con las Normas Internacional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stitutos y organizaciones normativas</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undo: ISO – IEEE – UE – ANSI-NEMA</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hile: INN (Instituto nacional de Normalización)</a:t>
            </a:r>
            <a:endParaRPr b="0" lang="en-US" sz="28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ternet</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ceso restringido (pagado)</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iversidad:</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boratorio de Alta Tens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 través del convenio de la U con IEEE</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ormas pagada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stituto Nacional de Normalizac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HS </a:t>
            </a:r>
            <a:r>
              <a:rPr b="0" lang="es-ES" sz="2800" spc="-1" strike="noStrike">
                <a:solidFill>
                  <a:srgbClr val="ffffff"/>
                </a:solidFill>
                <a:latin typeface="Garamond"/>
              </a:rPr>
              <a:t>Standard Store (http://store.ihs.com)</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SI Standards Store (http://webstore.ansi.org/)</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Normas para T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ternational Electrotechnical Commiss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IEC 60044-1 </a:t>
            </a:r>
            <a:r>
              <a:rPr b="0" lang="es-ES" sz="2400" spc="-1" strike="noStrike">
                <a:solidFill>
                  <a:srgbClr val="ffffff"/>
                </a:solidFill>
                <a:latin typeface="Garamond"/>
              </a:rPr>
              <a:t>Instrument Transform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stitute of Electrical and Electronics Engine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EEE C57.13 Standard Requirements for Instrument Transformers 1993-JUN-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Ingendesa</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TGI-102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 descr=""/>
          <p:cNvPicPr/>
          <p:nvPr/>
        </p:nvPicPr>
        <p:blipFill>
          <a:blip r:embed="rId1"/>
          <a:srcRect l="42076" t="15755" r="21747" b="25895"/>
          <a:stretch/>
        </p:blipFill>
        <p:spPr>
          <a:xfrm>
            <a:off x="5796000" y="3860640"/>
            <a:ext cx="2143080" cy="25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ferencias </a:t>
            </a:r>
            <a:r>
              <a:rPr b="0" lang="es-ES" sz="4400" spc="-1" strike="noStrike">
                <a:solidFill>
                  <a:srgbClr val="e5e5ff"/>
                </a:solidFill>
                <a:latin typeface="Garamond"/>
              </a:rPr>
              <a:t>IEEE C57.13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I C37.06-1987, Preferred Ratings and Related Required Capabilities for AC High-Voltage Circu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EE Std 4-1978, IEEE Standard Techniques for High Voltage Testing (ANS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MA SG 4-1975 (R 1980), Alternating-Current High-Voltage Circuit Breake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4:24Z</dcterms:created>
  <dc:creator>Laboratorio de Telecomunicaciones</dc:creator>
  <dc:description/>
  <dc:language>en-US</dc:language>
  <cp:lastModifiedBy>ABOTTESELLE</cp:lastModifiedBy>
  <dcterms:modified xsi:type="dcterms:W3CDTF">2007-11-26T15:20:05Z</dcterms:modified>
  <cp:revision>8</cp:revision>
  <dc:subject/>
  <dc:title>Diapositiva 1</dc:title>
</cp:coreProperties>
</file>