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0D7AFE6-2DC3-46F4-BF4B-EE8840259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B073E02-07B3-4458-B709-4A0849FE8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5A7C16B-DE63-4A7F-B138-95CBA6740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4E8FAC6-107E-4CA4-95A7-842F3F6E1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202C3-512C-4072-8EBC-73F1A7376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45F91-FC2E-44FC-9638-0A6E3B0EB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3127C-0546-4A41-A52F-F42D8BE83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246AA-4F79-46EE-AEA9-3E6234295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4DB76-DA55-4BCE-8A65-ECFA541B3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A37F0-6105-4989-8178-EEC6C541B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27F7E-FCD5-4F10-BB3E-E170633D5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230B11-EE74-4353-AC5B-78A352B40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940DA-E0A2-432E-ABD1-92B1046B1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E08D5-73BC-49E4-9E59-54882A4D2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A5B43-DBD1-459E-A8C9-EB00A3A0A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CF521-2204-4008-A7DB-B1A8E753A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CE126-E389-47AA-8BC3-19C95DE87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78CBBF5-F0A3-45BB-8D0A-FE69A3CFC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0F326C3-20C6-462D-B356-BC6665805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4958B84-705F-49FC-B5DE-485A546B5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B460FB9-D34E-4504-8F22-C2A56F6A9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9DF26A-CB74-4277-B27B-E7D7808C2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7767B7-6158-4635-ADD2-5659C250B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82DB3B-B875-4C5F-9F92-05A6173E0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9EFE-1277-4D5A-84B3-79D43306453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32F6-8B0F-4033-8265-DCC6023AB0A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2060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Normas de Transformadores de Corriente</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
          <p:cNvSpPr/>
          <p:nvPr/>
        </p:nvSpPr>
        <p:spPr>
          <a:xfrm>
            <a:off x="4643280" y="5805360"/>
            <a:ext cx="4248360" cy="107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ea typeface="Arial"/>
              </a:rPr>
              <a:t>Leopoldo Benavides – Christian Díaz</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Garamond"/>
                <a:ea typeface="Arial"/>
              </a:rPr>
              <a:t>EL 57C – Taller de Diseño en Potencia 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lificaciones de un TC</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nivel de aislamiento de impulso básico en términos del voltaje de la prueba de Onda complet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voltaje Nominal de sistema, o el voltaje máximo de sistema.</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Frecuencia.</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 corrientes medidas en primario y secundario.</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 clases de precisión en cargas uniform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factor que evalúa la corriente térmica continua en base a 30°C</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calificación mecánica de tiempo reducido de la corriente y la calificación térmica de tiempo reducido de la corrient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s uniformes o Standard</a:t>
            </a:r>
            <a:endParaRPr b="1" lang="en-US" sz="4400" spc="-1" strike="noStrike">
              <a:solidFill>
                <a:srgbClr val="e5e5ff"/>
              </a:solidFill>
              <a:latin typeface="Garamond"/>
            </a:endParaRPr>
          </a:p>
        </p:txBody>
      </p:sp>
      <p:sp>
        <p:nvSpPr>
          <p:cNvPr id="122" name="PlaceHolder 2"/>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 Standard de cargas para transformadores de corriente con 5A corriente secundaria tendrán la resistencia y la inductancia según tabl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3" name="" descr=""/>
          <p:cNvPicPr/>
          <p:nvPr/>
        </p:nvPicPr>
        <p:blipFill>
          <a:blip r:embed="rId1"/>
          <a:stretch/>
        </p:blipFill>
        <p:spPr>
          <a:xfrm>
            <a:off x="1547640" y="2997360"/>
            <a:ext cx="5616720" cy="346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lificaciones de la certeza para medir </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 transformador de corriente para medición tendrá una certeza de medición para cada carga uniforme para la cual es medido. Por ejemplo, B-0.1. </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nsformador de corriente con secundario con “taps” o múltiple-razón. La calificación de la certeza de la medición aplica al enrollado secundario completo, a menos que se especifique de otra manera.</a:t>
            </a:r>
            <a:endParaRPr b="0" lang="en-US" sz="2800" spc="-1" strike="noStrike">
              <a:solidFill>
                <a:srgbClr val="ffffff"/>
              </a:solidFill>
              <a:latin typeface="Garamon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lificación de la certeza para retransmitir </a:t>
            </a:r>
            <a:endParaRPr b="1" lang="en-US" sz="40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a clasificar la certeza de la retransmisión, la razón de corrección no excederá 10%. </a:t>
            </a:r>
            <a:endParaRPr b="0" lang="en-US" sz="2800" spc="-1" strike="noStrike">
              <a:solidFill>
                <a:srgbClr val="ffffff"/>
              </a:solidFill>
              <a:latin typeface="Garamond"/>
            </a:endParaRPr>
          </a:p>
          <a:p>
            <a:pPr lvl="1" marL="720720" indent="-2772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Clasificación C, K, o T. La clasificación C o K cubre transformadores de corriente en los que el flujo remanente en el núcleo del transformador no tiene un efecto apreciable en la razón o razones dentro de los límites de la corriente y la carga. La clasificación T cubre los transformadores de corriente en los que el flujo de remanente en el núcleo del transformador tiene un efecto apreciable en la razón dentro de los límites especificados en el artículo B. Un efecto apreciable es definido como un 1% de diferencia entre los valores de la corrección actual de la razón y la corrección de razón calculada.</a:t>
            </a:r>
            <a:endParaRPr b="0" lang="en-US" sz="2400" spc="-1" strike="noStrike">
              <a:solidFill>
                <a:srgbClr val="ffffff"/>
              </a:solidFill>
              <a:latin typeface="Garamond"/>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Calificación del voltaje secundario. Este es el voltaje que el transformador entregará a una carga Standard siendo la corriente 20 veces el valor de la corriente secundaria sin exceder 10% de la razón de corrección. Además, la corrección de proporción será limitada a 10% para cualquier corriente desde 1 a 20 veces el valor de la corriente secundaria en la carga Standard o cualquier carga pequeña Standard utilizada para calificaciones de voltaje en secundario. </a:t>
            </a:r>
            <a:endParaRPr b="0" lang="en-US" sz="2000" spc="-1" strike="noStrike">
              <a:solidFill>
                <a:srgbClr val="ffffff"/>
              </a:solidFill>
              <a:latin typeface="Garamond"/>
            </a:endParaRPr>
          </a:p>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r ejemplo, en un transformador de corriente de 5A  secundario, la certeza de la retransmisión C100 dice que la proporción puede ser calculada y que la corrección de proporción no excederá 10% con ninguna corriente desde 1 a 20 veces la corriente secundaria medida con una carga estándar de 1,0 Ω (1,0Ω x 5A x 20 x corriente secundaria = 100 V)</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s calificaciones del voltaje secundarios son basadas en una corriente secundaria de 5A (100A, 20 veces su valor) y cargas estándar. Las calificaciones del voltaje y sus cargas asociados son las siguiente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2" name="" descr=""/>
          <p:cNvPicPr/>
          <p:nvPr/>
        </p:nvPicPr>
        <p:blipFill>
          <a:blip r:embed="rId1"/>
          <a:stretch/>
        </p:blipFill>
        <p:spPr>
          <a:xfrm>
            <a:off x="2700360" y="4005360"/>
            <a:ext cx="3267000" cy="217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 el enrollado secundario de un transformador de corriente es calificado en otro valor distinto de 5A, el voltaje apropiado de la calificación del voltaje será derivado de la multiplicación del voltaje uniforme por 5A /(corriente valora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999720"/>
            <a:ext cx="8229600" cy="847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36" name=""/>
          <p:cNvSpPr txBox="1"/>
          <p:nvPr/>
        </p:nvSpPr>
        <p:spPr>
          <a:xfrm>
            <a:off x="500040" y="2071440"/>
            <a:ext cx="8229600" cy="4389480"/>
          </a:xfrm>
          <a:prstGeom prst="rect">
            <a:avLst/>
          </a:prstGeom>
          <a:noFill/>
          <a:ln w="0">
            <a:noFill/>
          </a:ln>
        </p:spPr>
        <p:txBody>
          <a:bodyPr anchor="t">
            <a:normAutofit/>
          </a:bodyPr>
          <a:p>
            <a:pPr marL="272880" indent="-272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Pruebas Sísmicas</a:t>
            </a:r>
            <a:endParaRPr b="0" lang="en-US" sz="32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 en laboratorio aprobado por el dueño.</a:t>
            </a:r>
            <a:endParaRPr b="0" lang="en-US" sz="28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pués de la prueba, el TC no debe mostrar daños, deformación ni fugas</a:t>
            </a:r>
            <a:endParaRPr b="0" lang="en-US" sz="28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inguna parte interna debe quedar dañada</a:t>
            </a:r>
            <a:endParaRPr b="0" lang="en-US" sz="28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38" name=""/>
          <p:cNvSpPr txBox="1"/>
          <p:nvPr/>
        </p:nvSpPr>
        <p:spPr>
          <a:xfrm>
            <a:off x="500040" y="2214720"/>
            <a:ext cx="8229600" cy="4389120"/>
          </a:xfrm>
          <a:prstGeom prst="rect">
            <a:avLst/>
          </a:prstGeom>
          <a:noFill/>
          <a:ln w="0">
            <a:noFill/>
          </a:ln>
        </p:spPr>
        <p:txBody>
          <a:bodyPr anchor="t">
            <a:normAutofit fontScale="99000"/>
          </a:bodyPr>
          <a:p>
            <a:pPr marL="270000" indent="-270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ruebas de Cortocircuito</a:t>
            </a:r>
            <a:endParaRPr b="0" lang="en-US" sz="3200" spc="-1" strike="noStrike">
              <a:solidFill>
                <a:srgbClr val="ffffff"/>
              </a:solidFill>
              <a:latin typeface="Garamond"/>
            </a:endParaRPr>
          </a:p>
          <a:p>
            <a:pPr marL="270000" indent="-270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Pruebas de Descargas Parciales</a:t>
            </a:r>
            <a:endParaRPr b="0" lang="en-US" sz="32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erminadas como función de la tensión de prueba</a:t>
            </a:r>
            <a:endParaRPr b="0" lang="en-US" sz="28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n antes de las pruebas de impulso, y después deben ser repetidas</a:t>
            </a:r>
            <a:endParaRPr b="0" lang="en-US" sz="28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efectúa para tensiones crecientes entre 0.5 y 1.5 veces la tensión nominal, y luego en forma decreciente </a:t>
            </a:r>
            <a:endParaRPr b="0" lang="en-US" sz="28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928800"/>
            <a:ext cx="8229600" cy="847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40" name=""/>
          <p:cNvSpPr txBox="1"/>
          <p:nvPr/>
        </p:nvSpPr>
        <p:spPr>
          <a:xfrm>
            <a:off x="428760" y="2214360"/>
            <a:ext cx="8215200" cy="3500280"/>
          </a:xfrm>
          <a:prstGeom prst="rect">
            <a:avLst/>
          </a:prstGeom>
          <a:noFill/>
          <a:ln w="0">
            <a:noFill/>
          </a:ln>
        </p:spPr>
        <p:txBody>
          <a:bodyPr anchor="t">
            <a:normAutofit fontScale="95000"/>
          </a:bodyPr>
          <a:p>
            <a:pPr marL="259200" indent="-259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Prueba de Descargas Parciales</a:t>
            </a:r>
            <a:endParaRPr b="0" lang="en-US" sz="32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s DP no deben ser mayores a 10pC a 1.1Vn ni mayores a 2pC a 0.7Vn.</a:t>
            </a:r>
            <a:endParaRPr b="0" lang="en-US" sz="2800" spc="-1" strike="noStrike">
              <a:solidFill>
                <a:srgbClr val="ffffff"/>
              </a:solidFill>
              <a:latin typeface="Garamond"/>
            </a:endParaRPr>
          </a:p>
          <a:p>
            <a:pPr marL="259200" indent="-259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Prueba de Impulso</a:t>
            </a:r>
            <a:endParaRPr b="0" lang="en-US" sz="32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 en el enrollado de AT</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n excitación del transformador</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usan ondas de polaridad negativa</a:t>
            </a:r>
            <a:endParaRPr b="0" lang="en-US" sz="28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Qué es una norm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 un documento de conocimiento y uso público, aprobado por consenso y por un organismo reconoci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ienen especificaciones técnicas de aplicación voluntari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án basados en los resultados de la experiencia y el desarrollo tecnológic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856800"/>
            <a:ext cx="8229600" cy="847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uebas Tipo</a:t>
            </a:r>
            <a:endParaRPr b="1" lang="en-US" sz="4400" spc="-1" strike="noStrike">
              <a:solidFill>
                <a:srgbClr val="e5e5ff"/>
              </a:solidFill>
              <a:latin typeface="Garamond"/>
            </a:endParaRPr>
          </a:p>
        </p:txBody>
      </p:sp>
      <p:sp>
        <p:nvSpPr>
          <p:cNvPr id="142" name=""/>
          <p:cNvSpPr txBox="1"/>
          <p:nvPr/>
        </p:nvSpPr>
        <p:spPr>
          <a:xfrm>
            <a:off x="428760" y="1999800"/>
            <a:ext cx="8229600" cy="4389480"/>
          </a:xfrm>
          <a:prstGeom prst="rect">
            <a:avLst/>
          </a:prstGeom>
          <a:noFill/>
          <a:ln w="0">
            <a:noFill/>
          </a:ln>
        </p:spPr>
        <p:txBody>
          <a:bodyPr anchor="t">
            <a:normAutofit fontScale="95000"/>
          </a:bodyPr>
          <a:p>
            <a:pPr marL="259200" indent="-25920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5.- Prueba de Elevación de Temperatura.</a:t>
            </a:r>
            <a:endParaRPr b="0" lang="en-US" sz="33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istencia Aislamiento Enrollados V/S Temperatura aceite.</a:t>
            </a:r>
            <a:endParaRPr b="0" lang="en-US" sz="2800" spc="-1" strike="noStrike">
              <a:solidFill>
                <a:srgbClr val="ffffff"/>
              </a:solidFill>
              <a:latin typeface="Garamond"/>
            </a:endParaRPr>
          </a:p>
          <a:p>
            <a:pPr marL="259200" indent="-25920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6.- Prueba Curvas de Excitación.</a:t>
            </a:r>
            <a:endParaRPr b="0" lang="en-US" sz="33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erminación Curva Excitación.</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ción de Tensión de excitación para distintas corrientes de excitación.</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ango de corrientes tal de determinar zonas bajo y sobre punto de inflexión.</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uebas de Rutina</a:t>
            </a:r>
            <a:endParaRPr b="1" lang="en-US" sz="4400" spc="-1" strike="noStrike">
              <a:solidFill>
                <a:srgbClr val="e5e5ff"/>
              </a:solidFill>
              <a:latin typeface="Garamond"/>
            </a:endParaRPr>
          </a:p>
        </p:txBody>
      </p:sp>
      <p:sp>
        <p:nvSpPr>
          <p:cNvPr id="144" name=""/>
          <p:cNvSpPr txBox="1"/>
          <p:nvPr/>
        </p:nvSpPr>
        <p:spPr>
          <a:xfrm>
            <a:off x="428760" y="2285640"/>
            <a:ext cx="8229600" cy="4389480"/>
          </a:xfrm>
          <a:prstGeom prst="rect">
            <a:avLst/>
          </a:prstGeom>
          <a:noFill/>
          <a:ln w="0">
            <a:noFill/>
          </a:ln>
        </p:spPr>
        <p:txBody>
          <a:bodyPr anchor="t">
            <a:normAutofit fontScale="97000"/>
          </a:bodyPr>
          <a:p>
            <a:pPr marL="264600" indent="-264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icaciones Previas</a:t>
            </a:r>
            <a:endParaRPr b="0" lang="en-US" sz="3200" spc="-1" strike="noStrike">
              <a:solidFill>
                <a:srgbClr val="ffffff"/>
              </a:solidFill>
              <a:latin typeface="Garamond"/>
            </a:endParaRPr>
          </a:p>
          <a:p>
            <a:pPr marL="264600" indent="-264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uebas a Realizar en Todos los Equipos y se Incluyen en Costo de Suministro.</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ultados Adjuntos con Protocolo de Pruebas.</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inspecciones a Costo y Cargo de Fabricante*.</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encia de Inspector Licitador.</a:t>
            </a:r>
            <a:endParaRPr b="0" lang="en-US" sz="2800" spc="-1" strike="noStrike">
              <a:solidFill>
                <a:srgbClr val="ffffff"/>
              </a:solidFill>
              <a:latin typeface="Garamond"/>
            </a:endParaRPr>
          </a:p>
          <a:p>
            <a:pPr lvl="2" marL="886680" indent="-2386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ama de Pruebas.</a:t>
            </a:r>
            <a:endParaRPr b="0" lang="en-US" sz="24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Qué es una norma?</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s Normas aseguran que los productos cumplan determinados estándares de calid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pecifican las características constructiv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rma es una sugerencia (no una obligación) la que puede hacerse obligatoria (Le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836640"/>
            <a:ext cx="8229600" cy="4525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n elaborados por consenso de las partes interesadas: </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bricant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ministracion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uarios y consumidor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ntros de investigación y laboratorio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ociaciones y Colegios Profesional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entes Sociales, et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Contenidos de una Norma</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ámbul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contenid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figura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tabla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teni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cances y Campo de Aplicación</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erencias normativa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érminos y definicione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tecedentes técnicos y teóric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uebas de ensayo</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ex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Donde Buscar una Norm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da </a:t>
            </a:r>
            <a:r>
              <a:rPr b="0" lang="es-ES" sz="3200" spc="-1" strike="noStrike">
                <a:solidFill>
                  <a:srgbClr val="ffffff"/>
                </a:solidFill>
                <a:latin typeface="Garamond"/>
              </a:rPr>
              <a:t>país posee sus organizaciones normativas que trabajan solas o en conjunto con las Normas Internacionale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nstitutos y organizaciones normativas</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undo: ISO – IEEE – UE – ANSI-NEMA</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hile: INN (Instituto nacional de Normalización)</a:t>
            </a:r>
            <a:endParaRPr b="0" lang="en-US" sz="28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nternet</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ceso restringido (pagado)</a:t>
            </a:r>
            <a:endParaRPr b="0" lang="en-US" sz="28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Donde Buscar una Norma</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iversidad:</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boratorio de Alta Tensión</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 través del convenio de la U con IEEE</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Normas pagadas:</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stituto Nacional de Normalización</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HS </a:t>
            </a:r>
            <a:r>
              <a:rPr b="0" lang="es-ES" sz="2800" spc="-1" strike="noStrike">
                <a:solidFill>
                  <a:srgbClr val="ffffff"/>
                </a:solidFill>
                <a:latin typeface="Garamond"/>
              </a:rPr>
              <a:t>Standard Store (http://store.ihs.com)</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SI Standards Store (http://webstore.ansi.org/)</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Normas para TC</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nternational Electrotechnical Commission</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IEC 60044-1 </a:t>
            </a:r>
            <a:r>
              <a:rPr b="0" lang="es-ES" sz="2400" spc="-1" strike="noStrike">
                <a:solidFill>
                  <a:srgbClr val="ffffff"/>
                </a:solidFill>
                <a:latin typeface="Garamond"/>
              </a:rPr>
              <a:t>Instrument Transformers</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nstitute of Electrical and Electronics Engineers</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EEE C57.13 Standard Requirements for Instrument Transformers 1993-JUN-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Ingendesa</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ETGI-1020</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6" name="" descr=""/>
          <p:cNvPicPr/>
          <p:nvPr/>
        </p:nvPicPr>
        <p:blipFill>
          <a:blip r:embed="rId1"/>
          <a:srcRect l="42076" t="15755" r="21747" b="25895"/>
          <a:stretch/>
        </p:blipFill>
        <p:spPr>
          <a:xfrm>
            <a:off x="5796000" y="3860640"/>
            <a:ext cx="2143080" cy="25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ferencias </a:t>
            </a:r>
            <a:r>
              <a:rPr b="0" lang="es-ES" sz="4400" spc="-1" strike="noStrike">
                <a:solidFill>
                  <a:srgbClr val="e5e5ff"/>
                </a:solidFill>
                <a:latin typeface="Garamond"/>
              </a:rPr>
              <a:t>IEEE C57.13 </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SI C37.06-1987, Preferred Ratings and Related Required Capabilities for AC High-Voltage Circui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EEE Std 4-1978, IEEE Standard Techniques for High Voltage Testing (ANSI).</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MA SG 4-1975 (R 1980), Alternating-Current High-Voltage Circuit Breaker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4:24Z</dcterms:created>
  <dc:creator>Laboratorio de Telecomunicaciones</dc:creator>
  <dc:description/>
  <dc:language>en-US</dc:language>
  <cp:lastModifiedBy>ABOTTESELLE</cp:lastModifiedBy>
  <dcterms:modified xsi:type="dcterms:W3CDTF">2007-11-26T15:20:05Z</dcterms:modified>
  <cp:revision>8</cp:revision>
  <dc:subject/>
  <dc:title>Diapositiva 1</dc:title>
</cp:coreProperties>
</file>