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D10AE-076D-47B1-A3C5-9254F57B1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AB0FA-BC74-45C4-8877-7DB761343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D7E13-3D2A-4A5A-BD92-D9DB15EEF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B395C-9C9A-4C2E-87AE-FD4F5B75D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CA0C0B-21B1-4CCA-911B-F6815D10A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2325B-32E6-4909-B08C-C111B9A00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98823-91B3-4C57-9CFD-7D8BE35A7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68576-2893-4E98-BDEB-66659FBE2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AB89C-A8A0-496A-AA7A-7806F8EA5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C04A4-ED1D-454E-954A-1438C03F3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09534-A74E-4DE5-A32A-9486CBB5D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12608-B6E5-4990-A470-C7E5E9DCD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CD27F-FE71-43EB-B37D-CC2BE14A0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2D610-B2A9-4B07-A650-3DCF89233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309F7-36FF-4B0A-956C-A25DFA2F8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DA4463-7D74-4586-A937-5E1E16A12A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54E6CA-7FF3-4E3F-9574-9F9BE3A520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0BEE4-A62E-4448-A783-2CCB79B74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F0522-FC96-403A-BF0C-782157711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04FD7-5F3F-44DF-9245-BA4DF56B3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F943B-91EB-4904-AE43-54E5D35DE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44B03-46AD-4801-AF67-60B133BD9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003CA-2D20-4C40-8F3D-9B2C1D2EE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568D3-27D4-4833-B204-A02DBD1CC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D8608-82E7-4FEC-9F2A-BA5C475F3436}" type="slidenum">
              <a:rPr b="0" lang="es-E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48B8-CC44-4DA2-8E03-6872C8031441}" type="slidenum">
              <a:rPr b="0" lang="es-E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78920" y="112500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specificaciones Técnicas Transformador de Potencial</a:t>
            </a:r>
            <a:endParaRPr b="0" lang="en-US" sz="4400" spc="-1" strike="noStrike">
              <a:solidFill>
                <a:srgbClr val="ffffcc"/>
              </a:solidFill>
              <a:latin typeface="Tahoma"/>
            </a:endParaRPr>
          </a:p>
        </p:txBody>
      </p:sp>
      <p:sp>
        <p:nvSpPr>
          <p:cNvPr id="384" name="PlaceHolder 2"/>
          <p:cNvSpPr>
            <a:spLocks noGrp="1"/>
          </p:cNvSpPr>
          <p:nvPr>
            <p:ph type="subTitle"/>
          </p:nvPr>
        </p:nvSpPr>
        <p:spPr>
          <a:xfrm>
            <a:off x="4287600" y="5586480"/>
            <a:ext cx="4856040" cy="12715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rlos Mendoza</a:t>
            </a:r>
            <a:endParaRPr b="0" lang="en-US" sz="20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gnacio Vargas</a:t>
            </a:r>
            <a:endParaRPr b="0" lang="en-US" sz="2000" spc="-1" strike="noStrike">
              <a:solidFill>
                <a:srgbClr val="ffffff"/>
              </a:solidFill>
              <a:latin typeface="Tahoma"/>
            </a:endParaRPr>
          </a:p>
        </p:txBody>
      </p:sp>
      <p:pic>
        <p:nvPicPr>
          <p:cNvPr id="385" name="" descr=""/>
          <p:cNvPicPr/>
          <p:nvPr/>
        </p:nvPicPr>
        <p:blipFill>
          <a:blip r:embed="rId1"/>
          <a:stretch/>
        </p:blipFill>
        <p:spPr>
          <a:xfrm>
            <a:off x="2987640" y="2637000"/>
            <a:ext cx="3036960" cy="233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404" name="PlaceHolder 2"/>
          <p:cNvSpPr>
            <a:spLocks noGrp="1"/>
          </p:cNvSpPr>
          <p:nvPr>
            <p:ph/>
          </p:nvPr>
        </p:nvSpPr>
        <p:spPr>
          <a:xfrm>
            <a:off x="755640" y="1125000"/>
            <a:ext cx="7942320" cy="28764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efinición de capacidades nominales</a:t>
            </a:r>
            <a:r>
              <a:rPr b="0" lang="en-US" sz="1600" spc="-1" strike="noStrike">
                <a:solidFill>
                  <a:srgbClr val="ffffff"/>
                </a:solidFill>
                <a:latin typeface="Tahoma"/>
              </a:rPr>
              <a:t>.</a:t>
            </a:r>
            <a:endParaRPr b="0" lang="en-US" sz="16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405" name="" descr=""/>
          <p:cNvPicPr/>
          <p:nvPr/>
        </p:nvPicPr>
        <p:blipFill>
          <a:blip r:embed="rId1"/>
          <a:stretch/>
        </p:blipFill>
        <p:spPr>
          <a:xfrm>
            <a:off x="539640" y="1413000"/>
            <a:ext cx="7993080" cy="525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pic>
        <p:nvPicPr>
          <p:cNvPr id="407" name="" descr=""/>
          <p:cNvPicPr/>
          <p:nvPr/>
        </p:nvPicPr>
        <p:blipFill>
          <a:blip r:embed="rId1"/>
          <a:stretch/>
        </p:blipFill>
        <p:spPr>
          <a:xfrm>
            <a:off x="324000" y="1268280"/>
            <a:ext cx="8351640" cy="558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409" name="PlaceHolder 2"/>
          <p:cNvSpPr>
            <a:spLocks noGrp="1"/>
          </p:cNvSpPr>
          <p:nvPr>
            <p:ph/>
          </p:nvPr>
        </p:nvSpPr>
        <p:spPr>
          <a:xfrm>
            <a:off x="250920" y="1267920"/>
            <a:ext cx="8540640" cy="217188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 transformadores de tensión se conectan con el primario en paralelo con el circuito por controlar y el secundario en paralelo con las bobinas de tensión de los aparatos de medición y de protección que requieran ser energizados</a:t>
            </a:r>
            <a:endParaRPr b="0" lang="en-US" sz="1800" spc="-1" strike="noStrike">
              <a:solidFill>
                <a:srgbClr val="ffffff"/>
              </a:solidFill>
              <a:latin typeface="Tahoma"/>
            </a:endParaRPr>
          </a:p>
          <a:p>
            <a:pPr marL="325800" indent="-32580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nsformadores con dos núcleos uno para protecciones y otro para medición.</a:t>
            </a:r>
            <a:endParaRPr b="0" lang="en-US" sz="1800" spc="-1" strike="noStrike">
              <a:solidFill>
                <a:srgbClr val="ffffff"/>
              </a:solidFill>
              <a:latin typeface="Tahoma"/>
            </a:endParaRPr>
          </a:p>
          <a:p>
            <a:pPr marL="325800" indent="-32580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 transformadores exteriores necesitan una línea de fuga que evite contorneos en condiciones de lluvia, niebla o depósitos superficiales debido a la polución, esto explica la diferencia en el aislamiento de los transformadores exteriores respecto de los interiores.</a:t>
            </a:r>
            <a:endParaRPr b="0" lang="en-US" sz="1800" spc="-1" strike="noStrike">
              <a:solidFill>
                <a:srgbClr val="ffffff"/>
              </a:solidFill>
              <a:latin typeface="Tahoma"/>
            </a:endParaRPr>
          </a:p>
        </p:txBody>
      </p:sp>
      <p:pic>
        <p:nvPicPr>
          <p:cNvPr id="410" name="" descr=""/>
          <p:cNvPicPr/>
          <p:nvPr/>
        </p:nvPicPr>
        <p:blipFill>
          <a:blip r:embed="rId1"/>
          <a:stretch/>
        </p:blipFill>
        <p:spPr>
          <a:xfrm>
            <a:off x="1058760" y="3417840"/>
            <a:ext cx="6801120" cy="268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4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uebas</a:t>
            </a:r>
            <a:endParaRPr b="0" lang="en-US" sz="32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po: </a:t>
            </a:r>
            <a:r>
              <a:rPr b="0" lang="en-US" sz="2000" spc="-1" strike="noStrike">
                <a:solidFill>
                  <a:srgbClr val="ffffff"/>
                </a:solidFill>
                <a:latin typeface="Tahoma"/>
              </a:rPr>
              <a:t>Al recibir la orden de proceder, el Fabricante remitirá los certificados de prueba Tipo, emitidos por una entidad independiente, que certifiquen la conformidad de las exigencias técnicas de los transformadores de tensión.</a:t>
            </a:r>
            <a:endParaRPr b="0" lang="en-US" sz="20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elevación de Temperatura</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Impulso atmosférico en el primario del transformador</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Determinación de error</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resistencia de cortocircuito</a:t>
            </a:r>
            <a:endParaRPr b="0" lang="en-US" sz="2400" spc="-1" strike="noStrike">
              <a:solidFill>
                <a:srgbClr val="ffffff"/>
              </a:solidFill>
              <a:latin typeface="Tahoma"/>
            </a:endParaRPr>
          </a:p>
          <a:p>
            <a:pPr lvl="2" marL="1143000" indent="-22860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ueba de tensión de sostenimiento a la frecuencia industrial bajo lluvia.</a:t>
            </a:r>
            <a:endParaRPr b="0" lang="en-US" sz="2400" spc="-1" strike="noStrike">
              <a:solidFill>
                <a:srgbClr val="ffffff"/>
              </a:solidFill>
              <a:latin typeface="Tahom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4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uebas</a:t>
            </a:r>
            <a:endParaRPr b="0" lang="en-US" sz="28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tina: </a:t>
            </a:r>
            <a:r>
              <a:rPr b="0" lang="en-US" sz="2000" spc="-1" strike="noStrike">
                <a:solidFill>
                  <a:srgbClr val="ffffff"/>
                </a:solidFill>
                <a:latin typeface="Tahoma"/>
              </a:rPr>
              <a:t>Las Pruebas de Rutina efectuadas en los laboratorios y talleres del Fabricante servirán para el control final de los transformadores de tensión y serán:</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verificación de la marcación de bornes</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tensión de sostenimiento a la frecuencia industrial en el arrollamiento secundario.</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tensión de sostenimiento a la frecuencia industrial en el  arrollamiento primario.</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tensión de sostenimiento a la frecuencia industrial entre secciones.</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medición de descargas parciales</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determinación del margen de error</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ueba de la relación de transformación</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4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eño y datos a suministrars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ia de las Normas aplicables en versión oficial en español o ingl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squemas que muestren las principales dimensiones de los equipos y la localización general de sus componente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letín descriptivo y catálogos de los equipo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ista en corte que muestre los principales detalles de diseño de los equipos y sus elementos constructivo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sta de referencias de suministros similares a los que se ofrecen en la propues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sta de repuestos incluyendo su cotización.</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418" name="PlaceHolder 2"/>
          <p:cNvSpPr>
            <a:spLocks noGrp="1"/>
          </p:cNvSpPr>
          <p:nvPr>
            <p:ph/>
          </p:nvPr>
        </p:nvSpPr>
        <p:spPr>
          <a:xfrm>
            <a:off x="301680" y="1599840"/>
            <a:ext cx="8540640" cy="217188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chile?</a:t>
            </a:r>
            <a:endParaRPr b="0" lang="en-US" sz="2800" spc="-1" strike="noStrike">
              <a:solidFill>
                <a:srgbClr val="ffffff"/>
              </a:solidFill>
              <a:latin typeface="Tahoma"/>
            </a:endParaRPr>
          </a:p>
          <a:p>
            <a:pPr lvl="1" marL="743040" indent="-285840">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Transformadores schaffner.</a:t>
            </a:r>
            <a:endParaRPr b="0" lang="en-US" sz="1600" spc="-1" strike="noStrike">
              <a:solidFill>
                <a:srgbClr val="ffffff"/>
              </a:solidFill>
              <a:latin typeface="Tahoma"/>
            </a:endParaRPr>
          </a:p>
          <a:p>
            <a:pPr lvl="1" marL="743040" indent="-285840">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dre Vicente Irarrázaval 899 , Estación Central - Santiago - Chile / fono : (56 2 ) 560 2600 / fax : ( 56 2 ) 779 5233 .</a:t>
            </a:r>
            <a:endParaRPr b="0" lang="en-US" sz="1600" spc="-1" strike="noStrike">
              <a:solidFill>
                <a:srgbClr val="ffffff"/>
              </a:solidFill>
              <a:latin typeface="Tahoma"/>
            </a:endParaRPr>
          </a:p>
        </p:txBody>
      </p:sp>
      <p:pic>
        <p:nvPicPr>
          <p:cNvPr id="419" name="" descr=""/>
          <p:cNvPicPr/>
          <p:nvPr/>
        </p:nvPicPr>
        <p:blipFill>
          <a:blip r:embed="rId1"/>
          <a:stretch/>
        </p:blipFill>
        <p:spPr>
          <a:xfrm>
            <a:off x="1763640" y="3068640"/>
            <a:ext cx="597708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Tahoma"/>
              </a:rPr>
              <a:t>Referencias</a:t>
            </a:r>
            <a:endParaRPr b="0" lang="en-US" sz="44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pecificaciones Técnicas Transformadores, Modernización S/E La Esmeralda, Transelectric S.A..</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iseño de Subestaciones Autor Joan Francesc Moreno Molina </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Norma DGE “Especificaciones Técnicas para el Suministro de Materiales y Equipos de 39 de 145</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Subestaciones para Electrificación Rur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50920" y="2707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Tahoma"/>
              </a:rPr>
              <a:t>FIN</a:t>
            </a:r>
            <a:endParaRPr b="0" lang="en-US" sz="8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Tahoma"/>
              </a:rPr>
              <a:t>SUMARIO</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texto de la Presentación</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é es una especificación Técnica?</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é es un Transformador de Potencia?</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aracterísticas y especificaciones de un Transformador de Potencial</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uebas comúnmente realizadas al TTPP</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Fabricantes en Chil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ferencia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ontexto</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iseño de una subestación transformador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Que es una especificación técnic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ffffff"/>
              </a:solidFill>
              <a:latin typeface="Tahoma"/>
            </a:endParaRPr>
          </a:p>
          <a:p>
            <a:pPr marL="343080" indent="-343080">
              <a:lnSpc>
                <a:spcPct val="80000"/>
              </a:lnSpc>
              <a:spcBef>
                <a:spcPts val="451"/>
              </a:spcBef>
              <a:spcAft>
                <a:spcPts val="451"/>
              </a:spcAft>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Índice de una Especificación Técnica:</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bjetivo de la Especificación Técnica.</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cance de la Especificación Técnica.</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Normas aplicables.</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finición de las capacidades nominales.</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diciones de satisfacción (Pruebas de Recepción).</a:t>
            </a:r>
            <a:endParaRPr b="0" lang="en-US" sz="1800" spc="-1" strike="noStrike">
              <a:solidFill>
                <a:srgbClr val="ffffff"/>
              </a:solidFill>
              <a:latin typeface="Tahoma"/>
            </a:endParaRPr>
          </a:p>
          <a:p>
            <a:pPr lvl="2" marL="1143000" indent="-228600">
              <a:lnSpc>
                <a:spcPct val="80000"/>
              </a:lnSpc>
              <a:spcBef>
                <a:spcPts val="451"/>
              </a:spcBef>
              <a:spcAft>
                <a:spcPts val="451"/>
              </a:spcAft>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Diseño y datos.</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Objetivo</a:t>
            </a:r>
            <a:endParaRPr b="0" lang="en-US" sz="1800" spc="-1" strike="noStrike">
              <a:solidFill>
                <a:srgbClr val="ffffff"/>
              </a:solidFill>
              <a:latin typeface="Tahoma"/>
            </a:endParaRPr>
          </a:p>
          <a:p>
            <a:pPr lvl="1" marL="743040" indent="-285840">
              <a:lnSpc>
                <a:spcPct val="9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ablecer las especificaciones técnicas para el adecuado diseño de los equipos de acuerdo al proyecto.</a:t>
            </a:r>
            <a:endParaRPr b="0" lang="en-US" sz="1800" spc="-1" strike="noStrike">
              <a:solidFill>
                <a:srgbClr val="ffffff"/>
              </a:solidFill>
              <a:latin typeface="Tahoma"/>
            </a:endParaRPr>
          </a:p>
          <a:p>
            <a:pPr marL="343080" indent="-3430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cance</a:t>
            </a:r>
            <a:endParaRPr b="0" lang="en-US" sz="1800" spc="-1" strike="noStrike">
              <a:solidFill>
                <a:srgbClr val="ffffff"/>
              </a:solidFill>
              <a:latin typeface="Tahoma"/>
            </a:endParaRPr>
          </a:p>
          <a:p>
            <a:pPr lvl="1" marL="743040" indent="-285840">
              <a:lnSpc>
                <a:spcPct val="9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cripción, cálculos y diseños del parque intemperie de 220KV y la descripción de los equipos de la instalación interior.</a:t>
            </a:r>
            <a:endParaRPr b="0" lang="en-US" sz="1800" spc="-1" strike="noStrike">
              <a:solidFill>
                <a:srgbClr val="ffffff"/>
              </a:solidFill>
              <a:latin typeface="Tahoma"/>
            </a:endParaRPr>
          </a:p>
          <a:p>
            <a:pPr lvl="2" marL="1143000" indent="-228600">
              <a:lnSpc>
                <a:spcPct val="90000"/>
              </a:lnSpc>
              <a:spcBef>
                <a:spcPts val="4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rotecciones y control.</a:t>
            </a:r>
            <a:endParaRPr b="0" lang="en-US" sz="1600" spc="-1" strike="noStrike">
              <a:solidFill>
                <a:srgbClr val="ffffff"/>
              </a:solidFill>
              <a:latin typeface="Tahoma"/>
            </a:endParaRPr>
          </a:p>
          <a:p>
            <a:pPr marL="343080" indent="-343080">
              <a:lnSpc>
                <a:spcPct val="9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Norma</a:t>
            </a:r>
            <a:endParaRPr b="0" lang="en-US" sz="1800" spc="-1" strike="noStrike">
              <a:solidFill>
                <a:srgbClr val="ffffff"/>
              </a:solidFill>
              <a:latin typeface="Tahoma"/>
            </a:endParaRPr>
          </a:p>
          <a:p>
            <a:pPr lvl="1" marL="743040" indent="-285840">
              <a:lnSpc>
                <a:spcPct val="9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entras no se indique explícitamente lo contrario dentro de estas especificaciones, los transformadores para instrumentos deben satisfacer en general las normas aplicables de la Comisión Electrotécnica Internacional CEI (International Electrotechnical Commission IEC) y particularmente las publicaciones No. 60044, 186 y 358. En cualquier caso regirá la versión vigente de cada norma a la fecha de la convocatoria para el concurso o licitación, incluyendo los anexos o revisiones vigentes de cada norma en dicha fecha.</a:t>
            </a: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specificaciones técnicas (TP)</a:t>
            </a:r>
            <a:endParaRPr b="0" lang="en-US" sz="32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Que es un transformador de potencial (TP)</a:t>
            </a:r>
            <a:endParaRPr b="0" lang="en-US" sz="28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n Transformador de medida</a:t>
            </a:r>
            <a:endParaRPr b="0" lang="en-US" sz="20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transformador de medida se define como un transformador especial destinado a reducir las magnitudes de voltaje o de corriente existentes en una línea de transmisión o de alimentación de energía de alta tensión a valores apropiados para ser medidos o censados por medidores de energía, relés o circuitos de control.</a:t>
            </a:r>
            <a:r>
              <a:rPr b="0" lang="es-ES" sz="2800" spc="-1" strike="noStrike">
                <a:solidFill>
                  <a:srgbClr val="ffffff"/>
                </a:solidFill>
                <a:latin typeface="Tahoma"/>
              </a:rPr>
              <a:t> </a:t>
            </a:r>
            <a:endParaRPr b="0" lang="en-US" sz="28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incipales caracteristicas a  considerar</a:t>
            </a:r>
            <a:endParaRPr b="0" lang="en-US" sz="20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imensionado del  aislamiento para la tensión de utilización y la ubicación</a:t>
            </a:r>
            <a:endParaRPr b="0" lang="en-US" sz="18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ecisión en la reproducción de la magnitud primaria</a:t>
            </a:r>
            <a:endParaRPr b="0" lang="en-US" sz="1800" spc="-1" strike="noStrike">
              <a:solidFill>
                <a:srgbClr val="ffffff"/>
              </a:solidFill>
              <a:latin typeface="Tahoma"/>
            </a:endParaRPr>
          </a:p>
          <a:p>
            <a:pPr lvl="2" marL="1143000" indent="-228600">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alentamiento del equipo y capacidad de sobrecarg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sp>
        <p:nvSpPr>
          <p:cNvPr id="395" name="PlaceHolder 2"/>
          <p:cNvSpPr>
            <a:spLocks noGrp="1"/>
          </p:cNvSpPr>
          <p:nvPr>
            <p:ph/>
          </p:nvPr>
        </p:nvSpPr>
        <p:spPr>
          <a:xfrm>
            <a:off x="0" y="1341000"/>
            <a:ext cx="8540640" cy="389160"/>
          </a:xfrm>
          <a:prstGeom prst="rect">
            <a:avLst/>
          </a:prstGeom>
          <a:noFill/>
          <a:ln w="0">
            <a:noFill/>
          </a:ln>
        </p:spPr>
        <p:txBody>
          <a:bodyPr lIns="90000" rIns="90000" tIns="46800" bIns="46800" anchor="t">
            <a:normAutofit/>
          </a:bodyPr>
          <a:p>
            <a:pPr marL="343080" indent="-3430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finición de capacidades nominales</a:t>
            </a:r>
            <a:r>
              <a:rPr b="0" lang="en-US" sz="2000" spc="-1" strike="noStrike">
                <a:solidFill>
                  <a:srgbClr val="ffffff"/>
                </a:solidFill>
                <a:latin typeface="Tahoma"/>
              </a:rPr>
              <a:t>.</a:t>
            </a:r>
            <a:endParaRPr b="0" lang="en-US" sz="2000" spc="-1" strike="noStrike">
              <a:solidFill>
                <a:srgbClr val="ffffff"/>
              </a:solidFill>
              <a:latin typeface="Tahoma"/>
            </a:endParaRPr>
          </a:p>
        </p:txBody>
      </p:sp>
      <p:pic>
        <p:nvPicPr>
          <p:cNvPr id="396" name="" descr=""/>
          <p:cNvPicPr/>
          <p:nvPr/>
        </p:nvPicPr>
        <p:blipFill>
          <a:blip r:embed="rId1"/>
          <a:stretch/>
        </p:blipFill>
        <p:spPr>
          <a:xfrm>
            <a:off x="611280" y="1700280"/>
            <a:ext cx="8064360" cy="489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pic>
        <p:nvPicPr>
          <p:cNvPr id="398" name="" descr=""/>
          <p:cNvPicPr/>
          <p:nvPr/>
        </p:nvPicPr>
        <p:blipFill>
          <a:blip r:embed="rId1"/>
          <a:stretch/>
        </p:blipFill>
        <p:spPr>
          <a:xfrm>
            <a:off x="395280" y="1484280"/>
            <a:ext cx="8353440" cy="496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pic>
        <p:nvPicPr>
          <p:cNvPr id="400" name="" descr=""/>
          <p:cNvPicPr/>
          <p:nvPr/>
        </p:nvPicPr>
        <p:blipFill>
          <a:blip r:embed="rId1"/>
          <a:stretch/>
        </p:blipFill>
        <p:spPr>
          <a:xfrm>
            <a:off x="324000" y="1413000"/>
            <a:ext cx="8496000" cy="504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Especificaciones técnicas (TP)</a:t>
            </a:r>
            <a:endParaRPr b="0" lang="en-US" sz="3600" spc="-1" strike="noStrike">
              <a:solidFill>
                <a:srgbClr val="ffffcc"/>
              </a:solidFill>
              <a:latin typeface="Tahoma"/>
            </a:endParaRPr>
          </a:p>
        </p:txBody>
      </p:sp>
      <p:pic>
        <p:nvPicPr>
          <p:cNvPr id="402" name="" descr=""/>
          <p:cNvPicPr/>
          <p:nvPr/>
        </p:nvPicPr>
        <p:blipFill>
          <a:blip r:embed="rId1"/>
          <a:stretch/>
        </p:blipFill>
        <p:spPr>
          <a:xfrm>
            <a:off x="324000" y="1484280"/>
            <a:ext cx="8496000" cy="518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21:40:05Z</dcterms:created>
  <dc:creator>casa</dc:creator>
  <dc:description/>
  <dc:language>en-US</dc:language>
  <cp:lastModifiedBy>ABOTTESELLE</cp:lastModifiedBy>
  <dcterms:modified xsi:type="dcterms:W3CDTF">2007-11-05T17:35:53Z</dcterms:modified>
  <cp:revision>33</cp:revision>
  <dc:subject/>
  <dc:title>Especificaciones técnicas transformador de potencial</dc:title>
</cp:coreProperties>
</file>