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D1A62-48BC-43DB-AAEA-395653FC8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3097B-46AF-4E0F-BB74-36E5973DA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2AD0F-7D8F-4B8F-978B-5813632FA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03ED-1B8E-4B28-A545-0FB63468B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728ED-1452-444E-8E92-3250F8773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FB0C7-FAF0-422D-83B3-921C24082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49A51-BCCC-4DA0-A11D-87885B126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67EA5-761B-405D-82CF-259FB97EA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21C41-1E44-4F1F-9E03-53A0EF296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C9AB4-EFDE-4B93-B494-289BFACB5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CBB6B-7DCF-44F1-BBF7-6EE1AA2B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955E-3D69-4F07-B756-E5C9F9D9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55428-EEDA-4EFF-9FDC-0F44A1FFE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7A888-4D16-44F7-8B2F-AFB74304B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EE697-E339-4915-9A9E-E6DE8B477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69CED-6851-4FE9-97F4-8DBABDBFF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BFD51-6AAB-4253-AAC3-DBCDE6020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0E61-20B0-4FD9-8B60-81D9F698E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BB762-685B-44D4-9A96-A3B37EE73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A17BE-FD0B-4BF6-A1BC-A466C949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7190-C973-4BBA-A352-39B576152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990C-5EB9-4D3A-8F7A-3DFB94B85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86BF-4EEC-423B-9E7A-D5C3F37E6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88246-B517-465D-AE6F-3B56E9F11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DF3F-1FC9-4B00-9E3A-6A86A652E619}"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415B-CD38-4675-B060-35CAAB62DB05}"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78920" y="1125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ecificaciones Técnicas Transformador de Potencial</a:t>
            </a:r>
            <a:endParaRPr b="0" lang="en-US" sz="4400" spc="-1" strike="noStrike">
              <a:solidFill>
                <a:srgbClr val="ffffcc"/>
              </a:solidFill>
              <a:latin typeface="Tahoma"/>
            </a:endParaRPr>
          </a:p>
        </p:txBody>
      </p:sp>
      <p:sp>
        <p:nvSpPr>
          <p:cNvPr id="384" name="PlaceHolder 2"/>
          <p:cNvSpPr>
            <a:spLocks noGrp="1"/>
          </p:cNvSpPr>
          <p:nvPr>
            <p:ph type="subTitle"/>
          </p:nvPr>
        </p:nvSpPr>
        <p:spPr>
          <a:xfrm>
            <a:off x="4287600" y="5586480"/>
            <a:ext cx="4856040" cy="1271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los Mendoza</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gnacio Vargas</a:t>
            </a:r>
            <a:endParaRPr b="0" lang="en-US" sz="2000" spc="-1" strike="noStrike">
              <a:solidFill>
                <a:srgbClr val="ffffff"/>
              </a:solidFill>
              <a:latin typeface="Tahoma"/>
            </a:endParaRPr>
          </a:p>
        </p:txBody>
      </p:sp>
      <p:pic>
        <p:nvPicPr>
          <p:cNvPr id="385" name="" descr=""/>
          <p:cNvPicPr/>
          <p:nvPr/>
        </p:nvPicPr>
        <p:blipFill>
          <a:blip r:embed="rId1"/>
          <a:stretch/>
        </p:blipFill>
        <p:spPr>
          <a:xfrm>
            <a:off x="2987640" y="2637000"/>
            <a:ext cx="3036960" cy="23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4" name="PlaceHolder 2"/>
          <p:cNvSpPr>
            <a:spLocks noGrp="1"/>
          </p:cNvSpPr>
          <p:nvPr>
            <p:ph/>
          </p:nvPr>
        </p:nvSpPr>
        <p:spPr>
          <a:xfrm>
            <a:off x="755640" y="1125000"/>
            <a:ext cx="7942320" cy="28764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finición de capacidades nominales</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5" name="" descr=""/>
          <p:cNvPicPr/>
          <p:nvPr/>
        </p:nvPicPr>
        <p:blipFill>
          <a:blip r:embed="rId1"/>
          <a:stretch/>
        </p:blipFill>
        <p:spPr>
          <a:xfrm>
            <a:off x="539640" y="141300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pic>
        <p:nvPicPr>
          <p:cNvPr id="407" name="" descr=""/>
          <p:cNvPicPr/>
          <p:nvPr/>
        </p:nvPicPr>
        <p:blipFill>
          <a:blip r:embed="rId1"/>
          <a:stretch/>
        </p:blipFill>
        <p:spPr>
          <a:xfrm>
            <a:off x="324000" y="1268280"/>
            <a:ext cx="8351640" cy="558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9" name="PlaceHolder 2"/>
          <p:cNvSpPr>
            <a:spLocks noGrp="1"/>
          </p:cNvSpPr>
          <p:nvPr>
            <p:ph/>
          </p:nvPr>
        </p:nvSpPr>
        <p:spPr>
          <a:xfrm>
            <a:off x="250920" y="1267920"/>
            <a:ext cx="8540640" cy="21718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de tensión se conectan con el primario en paralelo con el circuito por controlar y el secundario en paralelo con las bobinas de tensión de los aparatos de medición y de protección que requieran ser energizados</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ormadores con dos núcleos uno para protecciones y otro para medición.</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exteriores necesitan una línea de fuga que evite contorneos en condiciones de lluvia, niebla o depósitos superficiales debido a la polución, esto explica la diferencia en el aislamiento de los transformadores exteriores respecto de los interiores.</a:t>
            </a:r>
            <a:endParaRPr b="0" lang="en-US" sz="1800" spc="-1" strike="noStrike">
              <a:solidFill>
                <a:srgbClr val="ffffff"/>
              </a:solidFill>
              <a:latin typeface="Tahoma"/>
            </a:endParaRPr>
          </a:p>
        </p:txBody>
      </p:sp>
      <p:pic>
        <p:nvPicPr>
          <p:cNvPr id="410" name="" descr=""/>
          <p:cNvPicPr/>
          <p:nvPr/>
        </p:nvPicPr>
        <p:blipFill>
          <a:blip r:embed="rId1"/>
          <a:stretch/>
        </p:blipFill>
        <p:spPr>
          <a:xfrm>
            <a:off x="1058760" y="3417840"/>
            <a:ext cx="6801120" cy="26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uebas</a:t>
            </a:r>
            <a:endParaRPr b="0" lang="en-US" sz="32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po: </a:t>
            </a:r>
            <a:r>
              <a:rPr b="0" lang="en-US" sz="2000" spc="-1" strike="noStrike">
                <a:solidFill>
                  <a:srgbClr val="ffffff"/>
                </a:solidFill>
                <a:latin typeface="Tahoma"/>
              </a:rPr>
              <a:t>Al recibir la orden de proceder, el Fabricante remitirá los certificados de prueba Tipo, emitidos por una entidad independiente, que certifiquen la conformidad de las exigencias técnicas de los transformadores de tensión.</a:t>
            </a:r>
            <a:endParaRPr b="0" lang="en-US" sz="20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elevación de Temperatura</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Impulso atmosférico en el primario del transformad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Determinación de err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resistencia de cortocircuito</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tensión de sostenimiento a la frecuencia industrial bajo lluvia.</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ebas</a:t>
            </a:r>
            <a:endParaRPr b="0" lang="en-US" sz="28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tina: </a:t>
            </a:r>
            <a:r>
              <a:rPr b="0" lang="en-US" sz="2000" spc="-1" strike="noStrike">
                <a:solidFill>
                  <a:srgbClr val="ffffff"/>
                </a:solidFill>
                <a:latin typeface="Tahoma"/>
              </a:rPr>
              <a:t>Las Pruebas de Rutina efectuadas en los laboratorios y talleres del Fabricante servirán para el control final de los transformadores de tensión y serán:</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verificación de la marcación de bor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secund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prim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tre seccio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medición de descargas parcial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determinación del margen de error</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la relación de transformación</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 y datos a suministrars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ia de las Normas aplicables en versión oficial en español o ingl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quemas que muestren las principales dimensiones de los equipos y la localización general de sus component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letín descriptivo y catálogos de los equip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ta en corte que muestre los principales detalles de diseño de los equipos y sus elementos constructiv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ferencias de suministros similares a los que se ofrecen en la propues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puestos incluyendo su cotización.</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18" name="PlaceHolder 2"/>
          <p:cNvSpPr>
            <a:spLocks noGrp="1"/>
          </p:cNvSpPr>
          <p:nvPr>
            <p:ph/>
          </p:nvPr>
        </p:nvSpPr>
        <p:spPr>
          <a:xfrm>
            <a:off x="301680" y="1599840"/>
            <a:ext cx="8540640" cy="21718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nsformadores schaffner.</a:t>
            </a:r>
            <a:endParaRPr b="0" lang="en-US" sz="16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dre Vicente Irarrázaval 899 , Estación Central - Santiago - Chile / fono : (56 2 ) 560 2600 / fax : ( 56 2 ) 779 5233 .</a:t>
            </a:r>
            <a:endParaRPr b="0" lang="en-US" sz="1600" spc="-1" strike="noStrike">
              <a:solidFill>
                <a:srgbClr val="ffffff"/>
              </a:solidFill>
              <a:latin typeface="Tahoma"/>
            </a:endParaRPr>
          </a:p>
        </p:txBody>
      </p:sp>
      <p:pic>
        <p:nvPicPr>
          <p:cNvPr id="419" name="" descr=""/>
          <p:cNvPicPr/>
          <p:nvPr/>
        </p:nvPicPr>
        <p:blipFill>
          <a:blip r:embed="rId1"/>
          <a:stretch/>
        </p:blipFill>
        <p:spPr>
          <a:xfrm>
            <a:off x="1763640" y="3068640"/>
            <a:ext cx="5977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Referencias</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pecificaciones Técnicas Transformadores, Modernización S/E La Esmeralda, Transelectric S.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eño de Subestaciones Autor Joan Francesc Moreno Molina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 DGE “Especificaciones Técnicas para el Suministro de Materiales y Equipos de 39 de 14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ubestaciones para Electrificación Ru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50920" y="270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FIN</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SUMARIO</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xto de la Presentació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a especificación Técnic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 Transformador de Potenci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racterísticas y especificaciones de un Transformador de Potencial</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uebas comúnmente realizadas al TTP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abricantes en Chil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ferenci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ntexto</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seño de una subestación transformador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e es una especificación técnic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ffffff"/>
              </a:solidFill>
              <a:latin typeface="Tahoma"/>
            </a:endParaRPr>
          </a:p>
          <a:p>
            <a:pPr marL="343080" indent="-343080">
              <a:lnSpc>
                <a:spcPct val="80000"/>
              </a:lnSpc>
              <a:spcBef>
                <a:spcPts val="451"/>
              </a:spcBef>
              <a:spcAft>
                <a:spcPts val="451"/>
              </a:spcAft>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Índice de un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jetivo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cance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rmas aplicab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finición de las capacidades nomina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diciones de satisfacción (Pruebas de Recepción).</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seño y dato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jetivo</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blecer las especificaciones técnicas para el adecuado diseño de los equipos de acuerdo al proyecto.</a:t>
            </a:r>
            <a:endParaRPr b="0" lang="en-US" sz="18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cance</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cálculos y diseños del parque intemperie de 220KV y la descripción de los equipos de la instalación interior.</a:t>
            </a:r>
            <a:endParaRPr b="0" lang="en-US" sz="1800" spc="-1" strike="noStrike">
              <a:solidFill>
                <a:srgbClr val="ffffff"/>
              </a:solidFill>
              <a:latin typeface="Tahoma"/>
            </a:endParaRPr>
          </a:p>
          <a:p>
            <a:pPr lvl="2" marL="1143000" indent="-228600">
              <a:lnSpc>
                <a:spcPct val="9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rotecciones y control.</a:t>
            </a:r>
            <a:endParaRPr b="0" lang="en-US" sz="16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orma</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o revisiones vigentes de cada norma en dicha fech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Que es un transformador de potencial (TP)</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Transformador de medida</a:t>
            </a:r>
            <a:endParaRPr b="0" lang="en-US" sz="20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ransformador de medida se define como un transformador especial destinado a reducir las magnitudes de voltaje o de corriente existentes en una línea de transmisión o de alimentación de energía de alta tensión a valores apropiados para ser medidos o censados por medidores de energía, relés o circuitos de control.</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incipales caracteristicas a  considerar</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mensionado del  aislamiento para la tensión de utilización y la ubicación</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ecisión en la reproducción de la magnitud primaria</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lentamiento del equipo y capacidad de sobrecarg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395" name="PlaceHolder 2"/>
          <p:cNvSpPr>
            <a:spLocks noGrp="1"/>
          </p:cNvSpPr>
          <p:nvPr>
            <p:ph/>
          </p:nvPr>
        </p:nvSpPr>
        <p:spPr>
          <a:xfrm>
            <a:off x="0" y="1341000"/>
            <a:ext cx="8540640" cy="38916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ición de capacidades nominales</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396" name="" descr=""/>
          <p:cNvPicPr/>
          <p:nvPr/>
        </p:nvPicPr>
        <p:blipFill>
          <a:blip r:embed="rId1"/>
          <a:stretch/>
        </p:blipFill>
        <p:spPr>
          <a:xfrm>
            <a:off x="611280" y="1700280"/>
            <a:ext cx="806436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398" name="" descr=""/>
          <p:cNvPicPr/>
          <p:nvPr/>
        </p:nvPicPr>
        <p:blipFill>
          <a:blip r:embed="rId1"/>
          <a:stretch/>
        </p:blipFill>
        <p:spPr>
          <a:xfrm>
            <a:off x="395280" y="1484280"/>
            <a:ext cx="8353440" cy="49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0" name="" descr=""/>
          <p:cNvPicPr/>
          <p:nvPr/>
        </p:nvPicPr>
        <p:blipFill>
          <a:blip r:embed="rId1"/>
          <a:stretch/>
        </p:blipFill>
        <p:spPr>
          <a:xfrm>
            <a:off x="324000" y="1413000"/>
            <a:ext cx="84960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2" name="" descr=""/>
          <p:cNvPicPr/>
          <p:nvPr/>
        </p:nvPicPr>
        <p:blipFill>
          <a:blip r:embed="rId1"/>
          <a:stretch/>
        </p:blipFill>
        <p:spPr>
          <a:xfrm>
            <a:off x="324000" y="1484280"/>
            <a:ext cx="84960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1:40:05Z</dcterms:created>
  <dc:creator>casa</dc:creator>
  <dc:description/>
  <dc:language>en-US</dc:language>
  <cp:lastModifiedBy>ABOTTESELLE</cp:lastModifiedBy>
  <dcterms:modified xsi:type="dcterms:W3CDTF">2007-11-05T17:35:53Z</dcterms:modified>
  <cp:revision>33</cp:revision>
  <dc:subject/>
  <dc:title>Especificaciones técnicas transformador de potencial</dc:title>
</cp:coreProperties>
</file>