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13.jpeg" ContentType="image/jpeg"/>
  <Override PartName="/ppt/media/image8.jpeg" ContentType="image/jpeg"/>
  <Override PartName="/ppt/media/image28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29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18.png" ContentType="image/png"/>
  <Override PartName="/ppt/media/image20.png" ContentType="image/png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0BF-FB8A-416C-A29C-BA8D35EC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9FB-A041-4D8C-825D-F886232D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26E-FD81-4EA4-AFCE-A2223B8B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95B-6D94-4F44-AABB-167D312E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FF76-02B5-41D4-B4BF-397E55E1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8033-5436-403B-BB5D-F2D93832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7030-64C5-471D-BD03-D24488CE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7B95-EDBD-48AA-9F4F-DD392868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70EF-0471-47E6-9D6D-EF9E4772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F9FA-0CCD-4CF0-88DB-1154E22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70DE-E325-42FD-B64C-0C632CBA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D29-F114-4E7B-A3CD-61E01CCB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C861-3C7C-450E-BC8D-E50A5B7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F1CC-84D3-4989-9C2C-87874AC3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EF10-BCAC-410B-8078-78FB4032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858A-2AEA-4AE7-9DD6-BC727223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F722-2DBF-4B95-BB9C-4E54321A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5D0-77E3-41EE-9C20-2C081C49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732-3155-4810-B4B8-1CAAA404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498-4E40-4275-A589-5EBC966C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3E4-DCED-4383-A5A8-ADC31F4B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A67-D72A-4A49-AD38-742773F2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B4B-31B4-4110-B23F-E4330617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DE8-C5F7-4FC3-8545-FB2224B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7772-C51E-4B2D-9B4A-BB49041AFA7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A722-97BB-4EB2-B3AB-6F5B5C15A3A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uropintura.com/pinturas/86-Hidrofugante-Fachadas?user=c6ab1f02f26522ca07a7527d8a2fa24b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ilpak.cl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Silicon_granular_640x48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1267920"/>
            <a:ext cx="72392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6666"/>
                </a:solidFill>
                <a:latin typeface="Arial"/>
              </a:rPr>
              <a:t>Silicona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Taller de Diseño en Pot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Integrantes: Lucila Ballester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Javiera Ketter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Samuel Rodrígue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Ventaj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ventaja comparativa respecto a los aisladores de porcelana y vidrio templado su peso muy inferior lo que facilita la instalación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on de un solo cuerpo, desarrollados según la necesidad, lo que evita armar cadenas de aislación, facilitando su instalación y resistiendo acciones vandálicas pues por su composición no sufren daños por golp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Ventaj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educe los costos de construcción e impacto ambient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Verdana"/>
              </a:rPr>
              <a:t>Baja conductividad térm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Elevado punto de inflama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Verdana"/>
              </a:rPr>
              <a:t>Resistencia al vandalis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Estét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Livian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Resistent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Segur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Mayor vida úti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Confiabilida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Menor tamañ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Autolavab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Flexi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Alta rigidez dieléctrica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111880" cy="273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Compar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183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63640" y="1827360"/>
            <a:ext cx="51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ubric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hesiv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permeabiliz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licaciones médicas (prótesis valvulares cardíacas e implantes de mamas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Cinta para motores de tracción"/>
          <p:cNvPicPr/>
          <p:nvPr/>
        </p:nvPicPr>
        <p:blipFill>
          <a:blip r:embed="rId1"/>
          <a:stretch/>
        </p:blipFill>
        <p:spPr>
          <a:xfrm>
            <a:off x="1187280" y="2492280"/>
            <a:ext cx="175896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53028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Impermeabilizantes Hidrofugante Fachad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4724280"/>
            <a:ext cx="172404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protesis_valvulares_valvula_Hufnagel"/>
          <p:cNvPicPr/>
          <p:nvPr/>
        </p:nvPicPr>
        <p:blipFill>
          <a:blip r:embed="rId5"/>
          <a:stretch/>
        </p:blipFill>
        <p:spPr>
          <a:xfrm>
            <a:off x="6012000" y="486900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827360"/>
            <a:ext cx="63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Materiales aisladores para alto volta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Caucho de Silico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Apto para ser usados en todo tipo de cl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Fácil de instal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Bajo costo de mantenimi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racterística de aislamiento a largo plaz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648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isladores hue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guridad de la explosión (el no-hacer fragmentos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ionamiento de la contaminació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ortamiento sísmico (fuerza, flexibilidad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27640" y="3500280"/>
            <a:ext cx="1685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Capas y grasas para aislador de alto volta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reduce corrientes de la salid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Bajo mantenimiento y cost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rotección eficaz contra los contaminantes costeros, industriales, agrícolas, de vehículos y otro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704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Aisladores y pararray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islador de pos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islador de suspensió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ararray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e instala fácilmen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duce costos de manten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frece características aisladores a largo plazo superi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48360" y="2349360"/>
            <a:ext cx="16858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6272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844640"/>
            <a:ext cx="518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Líquidos para transformador de po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Elevada estabilidad térmica y resistencia a la oxid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unto de combustión más alto y velocidad de disipación térmica más baja que otros aislantes líqui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Sin sedi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Baja toxic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627120" y="2260440"/>
            <a:ext cx="31683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3976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Barnices  y resi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292428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obinas de motores, transformadore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islamiento eléctrico y traspaso térm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 la hum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lta estabilidad term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xcelente  resistencia eléctr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Flexibilidad a largo plaz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2595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6666"/>
                </a:solidFill>
                <a:latin typeface="Arial"/>
              </a:rPr>
              <a:t>Silicon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Elastómero con una buena resistencia térm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Materias Pri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Goma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licónica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olímero sintétic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37280" y="1827360"/>
            <a:ext cx="15112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02280" y="3960720"/>
            <a:ext cx="3581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3976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Recubrimiento de caucho de silicon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92428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lambres y c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 la alta temperatu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uen dieléctr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l fue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uena resistencia a la abra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595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0240" y="-360"/>
            <a:ext cx="7313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abricantes y distribuidores en Chi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30240" y="1628640"/>
            <a:ext cx="731376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Silpak S.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duce y distribuye en Chi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ág.: </a:t>
            </a:r>
            <a:r>
              <a:rPr b="0" lang="es-CL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silpak.c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Munele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Distribuye aisladores de goma de silico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ág.: www.munelec.c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Dow Cor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Distribuye en Chile, fabrica para Latinoamérica en Bras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isladores eléctricos de silicona para distribución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556000" y="333360"/>
            <a:ext cx="4319640" cy="979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2881440" cy="201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56000" y="314172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apacidades de 15 KV, 28 KV y 35KV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 polímero de silicona es resistente a la erosión y a los rayos U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Mantiene sus cualidades en sectores de condiciones climáticas y ambientales extremas, de temperatura y contaminación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ubos méd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700360" y="692280"/>
            <a:ext cx="3816360" cy="979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356000" y="314172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sterilizable por cualquier méto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mpletamente Hidrófug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 genera rechazo ni reacción en fluidos o tejidos corporal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 permite el alojamiento de coágulos o adherencias ni el desarrollo de colonias de bacteri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9512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erfiles y burletes de silicona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700360" y="692280"/>
            <a:ext cx="3816360" cy="979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27640" y="2997360"/>
            <a:ext cx="40384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miento eléctric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Hornos industriales y semi- industrial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Hornos de panadería rotatori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Vidriado estructural y arquitectónic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ellos para puertas de cámaras frigorífica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Planchas de silicon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32000" y="2962440"/>
            <a:ext cx="2622600" cy="183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87280" y="4941720"/>
            <a:ext cx="29512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42880" y="250812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Produc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997360"/>
            <a:ext cx="7129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íquidos para transformador de poder y otros equipos eléctric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Barnices y resina de silicon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Materiales de alto voltaje del aisl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auch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apas y grasa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ccesorios del cab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dores huecos de la ba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dores y pararrayos de la olead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íquidos para la restauración de cabl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Recubrimiento de caucho de silic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36003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951880" cy="463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8804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ceso de elabor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 deriva de la roca de cuarz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 ser calentado en presencia de carbón produce silicona elemental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pendiendo de posteriores procesos químicos, la silicona puede tomar una variedad de formas físic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eite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óli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Silicona granul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365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94720" y="5791320"/>
            <a:ext cx="109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ilicona Granu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02280" y="182736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 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La goma silicónica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7280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erte estructura química silicio-oxígen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cho principalmente de silici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rivada del cuarzo, roca o are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lumna vertebral alternada de silicio y oxígen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357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Resistencia a la Tempera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4360" y="1827360"/>
            <a:ext cx="439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oportan un rango de temperaturas amplio ent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-60°C a 260 °C (-75 °F a 500 °F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1905120" cy="276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6200" y="5502240"/>
            <a:ext cx="22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actor para pruebas de Tempera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77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piedades Mecánic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40360" y="182736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lta resistencia al desgarro y a la trac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Buena elong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gran flexibilid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ango de dureza entre 5 a 80 dureza Shore 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1800360" cy="187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25240" y="599436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ueba de Tra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55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piedades Eléctric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40360" y="182736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Muy Buenas propiedades Aisl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Gran flexibilid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son conductiva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Mantienen la rigidez dieléctrica en temperaturas extre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44764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41280" y="599436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ueba Eléct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82736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Resistencia Quím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63640" y="1827360"/>
            <a:ext cx="51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isten al agua y a muchos productos químicos (algunos ácidos, productos químicos oxidantes, amoníaco y alcohol isopropílic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se deben utilizar con ácidos concentrados, sustancias alcalinas y solve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448000" cy="208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5734080"/>
            <a:ext cx="251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ueba de Salin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0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Estad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íquido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mulsione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uesto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ubricante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esina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auch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8:44:49Z</dcterms:created>
  <dc:creator>Admin</dc:creator>
  <dc:description/>
  <dc:language>en-US</dc:language>
  <cp:lastModifiedBy>ABOTTESELLE</cp:lastModifiedBy>
  <dcterms:modified xsi:type="dcterms:W3CDTF">2007-11-05T17:30:02Z</dcterms:modified>
  <cp:revision>51</cp:revision>
  <dc:subject/>
  <dc:title>Silicona</dc:title>
</cp:coreProperties>
</file>