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3.jpeg" ContentType="image/jpeg"/>
  <Override PartName="/ppt/media/image8.jpeg" ContentType="image/jpeg"/>
  <Override PartName="/ppt/media/image28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29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81E-EFAD-4D24-9681-2B069AD2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1E9-8331-4717-B5EA-B8CE09F9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9A6-CD1B-480F-AC85-49364929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094-4734-4E06-AC58-323273CA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2B9-4BB6-4B5B-ADB4-BADF0342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23B1-A38A-4CEF-8CDB-1BCF021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B64B-32D3-4D4B-B097-D9963D0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AA4A-3655-4316-8C8E-951F7B4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2AB-906F-4902-A037-844D5804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17A2-B781-4370-86BB-EBF611D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CBCE-6E2A-42C7-AEA9-9BF24E0F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5EE-B7D6-49E9-9FA6-8EC55CB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3BF6-74BE-408C-92FF-26E94D3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7066-58A4-4FA3-B523-473AB9F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452B-FE8F-4A0A-A73F-151FA99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60D-7F06-47C7-AA8E-C0D4BDD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28E7-C6C8-47B3-8D4C-F82BEDF9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C13-8E45-4B2A-A492-956E30F5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0701-616F-49A4-9853-39E6340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E77-452D-4391-A9B2-90559EC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B01-BAAC-45BD-8249-C873FACA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A7D-CFDC-4305-B0B4-7FAC1D8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2F8-EFCC-4F12-9AA6-39A99BA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E97-4A37-4B1C-9F46-CD9F511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42D6-8010-4044-AC29-B2B35FFA80E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D00-ADCB-4008-9FF0-A42E9789D4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uropintura.com/pinturas/86-Hidrofugante-Fachadas?user=c6ab1f02f26522ca07a7527d8a2fa24b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lpak.c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ilicon_granular_640x48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1267920"/>
            <a:ext cx="7239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Taller de Diseño en Pot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Integrantes: Lucila Ballester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Javiera Ketter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Samuel Rodrígue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ventaja comparativa respecto a los aisladores de porcelana y vidrio templado su peso muy inferior lo que facilita la instalació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n de un solo cuerpo, desarrollados según la necesidad, lo que evita armar cadenas de aislación, facilitando su instalación y resistiendo acciones vandálicas pues por su composición no sufren daños por golp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educe los costos de construcción e impacto ambi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Baja conductividad térm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levado punto de inflam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Resistencia al vandalis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stét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Livian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Resistent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Seg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ayor vida út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Confiabilida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enor tama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utolav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Flex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lta rigidez dieléctrica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111880" cy="27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Compa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183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hesiv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ermeabiliz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licaciones médicas (prótesis valvulares cardíacas e implantes de mama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Cinta para motores de tracción"/>
          <p:cNvPicPr/>
          <p:nvPr/>
        </p:nvPicPr>
        <p:blipFill>
          <a:blip r:embed="rId1"/>
          <a:stretch/>
        </p:blipFill>
        <p:spPr>
          <a:xfrm>
            <a:off x="1187280" y="2492280"/>
            <a:ext cx="17589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530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Impermeabilizantes Hidrofugante Fachad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4724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protesis_valvulares_valvula_Hufnagel"/>
          <p:cNvPicPr/>
          <p:nvPr/>
        </p:nvPicPr>
        <p:blipFill>
          <a:blip r:embed="rId5"/>
          <a:stretch/>
        </p:blipFill>
        <p:spPr>
          <a:xfrm>
            <a:off x="6012000" y="4869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63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ateriales aisladores para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aucho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Apto para ser usados en todo tipo de cl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Fácil de insta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Bajo costo de mantenimi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racterística de aislamiento a largo plaz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648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isladores hue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guridad de la explosión (el no-hacer fragmentos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ionamiento de la contaminac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ortamiento sísmico (fuerza, flexibilidad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1685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Capas y grasas para aislador de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educe corrientes de la salid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Bajo mantenimiento y cost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otección eficaz contra los contaminantes costeros, industriales, agrícolas, de vehículos y otro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704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isladores y 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pos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suspens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 instala fácilmen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duce costos de manten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frece características aisladores a largo plazo superi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6858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844640"/>
            <a:ext cx="518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Líquidos para transformador de po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levada estabilidad térmica y resistencia a la oxid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unto de combustión más alto y velocidad de disipación térmica más baja que otros aislantes líqu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in se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Baja toxic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627120" y="2260440"/>
            <a:ext cx="3168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arnices  y resi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obinas de motores, transformadore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islamiento eléctrico y traspaso térm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hu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ta estabilidad term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celente  resistencia eléct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Flexibilidad a largo pl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Elastómero con una buena resistencia tér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aterias Pri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Goma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licónica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límero sintétic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37280" y="182736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2280" y="3960720"/>
            <a:ext cx="3581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Recubrimiento de caucho de silicon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ambres y c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alta temperatu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 dieléctr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l fu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a resistencia a la abra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360"/>
            <a:ext cx="7313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abricantes y distribuidores en Chi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0240" y="1628640"/>
            <a:ext cx="73137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Silpak S.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duce y distribuye en Chi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</a:t>
            </a:r>
            <a:r>
              <a:rPr b="0" lang="es-CL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silpak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unel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aisladores de goma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www.munelec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Dow Co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en Chile, fabrica para Latinoamérica en Bras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isladores eléctricos de silicona para distribución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556000" y="333360"/>
            <a:ext cx="4319640" cy="979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81440" cy="201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apacidades de 15 KV, 28 KV y 35KV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olímero de silicona es resistente a la erosión y a los rayos U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ntiene sus cualidades en sectores de condiciones climáticas y ambientales extremas, de temperatura y contaminación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ubos méd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sterilizable por cualquier mé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mpletamente Hidrófug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genera rechazo ni reacción en fluidos o tejidos corpor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permite el alojamiento de coágulos o adherencias ni el desarrollo de colonias de bacte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95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rfiles y burletes de silicona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27640" y="2997360"/>
            <a:ext cx="40384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miento eléctr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industriales y semi- industri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de panadería rotator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Vidriado estructural y arquitectón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ellos para puertas de cámaras frigorífica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Planchas de silicon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32000" y="2962440"/>
            <a:ext cx="2622600" cy="183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87280" y="4941720"/>
            <a:ext cx="29512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42880" y="250812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Produ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997360"/>
            <a:ext cx="7129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transformador de poder y otros equipos eléctric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arnices y resina de silico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Materiales de alto voltaje del aisl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uch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pas y gras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ccesorios del ca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huecos de la ba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y pararrayos de la ole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la restauración de cab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ecubrimiento de caucho de silic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6003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51880" cy="463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880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ceso de elabo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deriva de la roca de cuarz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 ser calentado en presencia de carbón produce silicona element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endiendo de posteriores procesos químicos, la silicona puede tomar una variedad de formas fís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eit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óli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Silicona granu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365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94720" y="579132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ilicona Gran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2280" y="182736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a goma silicónica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280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erte estructura química silicio-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cho principalmente de silic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ivada del cuarzo, roca o ar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umna vertebral alternada de silicio y 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a la Tempera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4360" y="1827360"/>
            <a:ext cx="43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portan un rango de temperaturas amplio ent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60°C a 260 °C (-75 °F a 500 °F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190512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6200" y="5502240"/>
            <a:ext cx="22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actor para pruebas de Tempera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77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Mecán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lta resistencia al desgarro y a la trac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Buena elong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ango de dureza entre 5 a 80 dureza Shore 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25240" y="599436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de Tra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Eléctric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uy Buenas propiedades Aisl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son conductiva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tienen la rigidez dieléctrica en temperaturas extre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4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41280" y="5994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Eléct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Quím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isten al agua y a muchos productos químicos (algunos ácidos, productos químicos oxidantes, amoníaco y alcohol isopropílic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e deben utilizar con ácidos concentrados, sustancias alcalinas y solv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448000" cy="208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73408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ueba de Salin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0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Esta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íquid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mulsion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uest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ina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uch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8:44:49Z</dcterms:created>
  <dc:creator>Admin</dc:creator>
  <dc:description/>
  <dc:language>en-US</dc:language>
  <cp:lastModifiedBy>ABOTTESELLE</cp:lastModifiedBy>
  <dcterms:modified xsi:type="dcterms:W3CDTF">2007-11-05T17:30:02Z</dcterms:modified>
  <cp:revision>51</cp:revision>
  <dc:subject/>
  <dc:title>Silicona</dc:title>
</cp:coreProperties>
</file>