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3.jpeg" ContentType="image/jpeg"/>
  <Override PartName="/ppt/media/image8.jpeg" ContentType="image/jpeg"/>
  <Override PartName="/ppt/media/image28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29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18.png" ContentType="image/png"/>
  <Override PartName="/ppt/media/image20.png" ContentType="image/png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354-49BF-4D0F-A7A8-A9131A1D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144-C9D5-4668-BA2B-834058D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D6C-1215-4865-ACFB-114BC1A6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6BD-0E18-47D0-A31E-26B9177F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6D55-F60E-4697-9CCD-4F7EBF79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2657-1940-4A38-BFD2-5108E9C5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2B6-EC37-4123-B723-8846570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BE11-CAD2-4A59-B438-193E6BE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D0A5-DF87-4E15-95D1-8701707C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06D8-C483-43D0-8C8E-BB8274F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A214-42B0-45E1-B54E-CB58E77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C7F-3DAE-4C29-8AE1-FC7125CF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82F5-2099-450B-837B-1A9A4E7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BE53-A6AF-416E-91C0-B6631BE3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3298-30FA-4E71-84DB-DFFE099C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84AF-EF97-400E-991A-AD21ED17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04E5-6B05-45BB-AD60-6D4EB3D2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F1E-6EFD-4A77-A224-A788B821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E95-7496-4345-B973-2BBB1987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A3F-7094-4FFB-A4E0-20D86CC4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DD1-8D79-4400-B44C-D2BD30B0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20A-6707-4A08-9FB1-4FEE560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53A-64B5-4DBC-9C77-089A811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220-6549-4DAD-B494-6CF30FB0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530-1DAD-4C8A-BD5C-47BED44CAEF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2BF6-24A8-4DC2-9BA1-ABFE36E8EB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uropintura.com/pinturas/86-Hidrofugante-Fachadas?user=c6ab1f02f26522ca07a7527d8a2fa24b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ilpak.c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Silicon_granular_640x48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1267920"/>
            <a:ext cx="72392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Taller de Diseño en Pot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Integrantes: Lucila Ballester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Javiera Ketter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Samuel Rodrígue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ventaja comparativa respecto a los aisladores de porcelana y vidrio templado su peso muy inferior lo que facilita la instalación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n de un solo cuerpo, desarrollados según la necesidad, lo que evita armar cadenas de aislación, facilitando su instalación y resistiendo acciones vandálicas pues por su composición no sufren daños por golp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educe los costos de construcción e impacto ambient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Baja conductividad térm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levado punto de inflama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Resistencia al vandalis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stét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Livian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Resistent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Segur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ayor vida út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Confiabilida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enor tama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utolav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Flexi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lta rigidez dieléctrica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111880" cy="273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Compa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183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hesiv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ermeabiliz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licaciones médicas (prótesis valvulares cardíacas e implantes de mamas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Cinta para motores de tracción"/>
          <p:cNvPicPr/>
          <p:nvPr/>
        </p:nvPicPr>
        <p:blipFill>
          <a:blip r:embed="rId1"/>
          <a:stretch/>
        </p:blipFill>
        <p:spPr>
          <a:xfrm>
            <a:off x="1187280" y="2492280"/>
            <a:ext cx="175896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53028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Impermeabilizantes Hidrofugante Fachad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4724280"/>
            <a:ext cx="172404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protesis_valvulares_valvula_Hufnagel"/>
          <p:cNvPicPr/>
          <p:nvPr/>
        </p:nvPicPr>
        <p:blipFill>
          <a:blip r:embed="rId5"/>
          <a:stretch/>
        </p:blipFill>
        <p:spPr>
          <a:xfrm>
            <a:off x="6012000" y="486900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827360"/>
            <a:ext cx="63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ateriales aisladores para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Caucho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Apto para ser usados en todo tipo de cl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Fácil de insta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Bajo costo de mantenimi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racterística de aislamiento a largo plaz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648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isladores hue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guridad de la explosión (el no-hacer fragmentos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ionamiento de la contaminac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ortamiento sísmico (fuerza, flexibilidad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1685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Capas y grasas para aislador de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reduce corrientes de la salid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Bajo mantenimiento y cost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rotección eficaz contra los contaminantes costeros, industriales, agrícolas, de vehículos y otro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704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Aisladores y 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pos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suspens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 instala fácilmen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duce costos de manten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frece características aisladores a largo plazo superi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16858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6272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844640"/>
            <a:ext cx="518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Líquidos para transformador de po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Elevada estabilidad térmica y resistencia a la oxid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unto de combustión más alto y velocidad de disipación térmica más baja que otros aislantes líqu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Sin sedi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Baja toxic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627120" y="2260440"/>
            <a:ext cx="3168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Barnices  y resi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obinas de motores, transformadore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islamiento eléctrico y traspaso térm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hum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ta estabilidad term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xcelente  resistencia eléct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Flexibilidad a largo pla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Elastómero con una buena resistencia térm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aterias Pri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Goma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licónica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olímero sintétic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37280" y="1827360"/>
            <a:ext cx="15112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02280" y="3960720"/>
            <a:ext cx="3581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Recubrimiento de caucho de silicon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ambres y c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alta temperatu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 dieléctr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l fu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a resistencia a la abra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0240" y="-360"/>
            <a:ext cx="7313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abricantes y distribuidores en Chi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0240" y="1628640"/>
            <a:ext cx="73137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Silpak S.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duce y distribuye en Chi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</a:t>
            </a:r>
            <a:r>
              <a:rPr b="0" lang="es-CL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silpak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unele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aisladores de goma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www.munelec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Dow Co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en Chile, fabrica para Latinoamérica en Bras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isladores eléctricos de silicona para distribución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556000" y="333360"/>
            <a:ext cx="4319640" cy="979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81440" cy="201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apacidades de 15 KV, 28 KV y 35KV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polímero de silicona es resistente a la erosión y a los rayos U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antiene sus cualidades en sectores de condiciones climáticas y ambientales extremas, de temperatura y contaminación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ubos méd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sterilizable por cualquier méto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mpletamente Hidrófug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genera rechazo ni reacción en fluidos o tejidos corpor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permite el alojamiento de coágulos o adherencias ni el desarrollo de colonias de bacte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9512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erfiles y burletes de silicona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27640" y="2997360"/>
            <a:ext cx="40384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miento eléctr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industriales y semi- industri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de panadería rotatori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Vidriado estructural y arquitectón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ellos para puertas de cámaras frigorífica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Planchas de silicon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32000" y="2962440"/>
            <a:ext cx="2622600" cy="183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87280" y="4941720"/>
            <a:ext cx="29512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42880" y="250812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Produ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997360"/>
            <a:ext cx="7129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transformador de poder y otros equipos eléctric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arnices y resina de silico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Materiales de alto voltaje del aisl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uch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pas y gras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ccesorios del cab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huecos de la ba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y pararrayos de la ole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la restauración de cabl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ecubrimiento de caucho de silic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6003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951880" cy="463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8804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ceso de elabo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 deriva de la roca de cuarz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 ser calentado en presencia de carbón produce silicona element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endiendo de posteriores procesos químicos, la silicona puede tomar una variedad de formas fís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eit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óli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Silicona granul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365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94720" y="5791320"/>
            <a:ext cx="109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ilicona Granu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02280" y="182736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 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La goma silicónica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280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erte estructura química silicio-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cho principalmente de silici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rivada del cuarzo, roca o are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umna vertebral alternada de silicio y 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357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a la Tempera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4360" y="1827360"/>
            <a:ext cx="439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portan un rango de temperaturas amplio ent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-60°C a 260 °C (-75 °F a 500 °F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1905120" cy="276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6200" y="5502240"/>
            <a:ext cx="22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actor para pruebas de Tempera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77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Mecán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lta resistencia al desgarro y a la trac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Buena elong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ango de dureza entre 5 a 80 dureza Shore 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1800360" cy="18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25240" y="599436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de Tra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55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Eléctric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uy Buenas propiedades Aisl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son conductiva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antienen la rigidez dieléctrica en temperaturas extre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4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41280" y="5994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Eléct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82736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Quím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isten al agua y a muchos productos químicos (algunos ácidos, productos químicos oxidantes, amoníaco y alcohol isopropílic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se deben utilizar con ácidos concentrados, sustancias alcalinas y solve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448000" cy="208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573408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ueba de Salin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0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Esta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íquid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mulsion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uest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ina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auch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8:44:49Z</dcterms:created>
  <dc:creator>Admin</dc:creator>
  <dc:description/>
  <dc:language>en-US</dc:language>
  <cp:lastModifiedBy>ABOTTESELLE</cp:lastModifiedBy>
  <dcterms:modified xsi:type="dcterms:W3CDTF">2007-11-05T17:30:02Z</dcterms:modified>
  <cp:revision>51</cp:revision>
  <dc:subject/>
  <dc:title>Silicona</dc:title>
</cp:coreProperties>
</file>