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1BB-9D46-4938-907F-1DDA80D0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828-4BB1-4CEA-84C9-B3A2D842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6C1-365A-4728-88B0-3AC82C8C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CD0-40F7-448F-ACEB-D4284612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1B1C-50CF-4A4B-A434-F7FDFBD6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FF91-1017-482E-8A6B-4D97B4A5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2C33-B1EF-4986-9836-A87BD18D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0335-EC8C-40B3-A78A-C79B4E2E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3736-B8BA-45B8-9654-4367D3B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84E7-7915-43E1-B94D-5210CD46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EB41-7803-4838-9DF5-E95B2E00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8F4-CDAA-4B9B-9DF6-A9A9FCE9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0C89-35C0-4162-BFAA-45C9553E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89C9-7E51-4E1F-9B50-EFA4B8D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6EA4-240A-42DD-A6F8-D9C29C10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D93C-1A4F-439A-81C6-9CB90ED8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F1C7-BD8E-4B11-BDAD-B0F5B55B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874-3CF4-40DA-B99C-1D3CA3E7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834-06C0-4C56-83F8-4D7E10C2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6C5-CAB6-4D1E-A7C9-5F16C35D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458-1B3E-476E-B9E4-838640E0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F9E-68F2-41DA-BE89-929937F9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0EA-B877-433D-BF27-AD31B4F9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11B-174A-475B-8967-B9057D5B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F76E-2596-4318-8E11-94503E9090B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2FA-3275-4CEE-A5A3-9A0D45DD3A7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Hexafloruro de Azufre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40000" y="4581000"/>
            <a:ext cx="46400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nacio Varga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Mend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7367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7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roducció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y Propie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s de Comp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efinicion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Qué es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exafloruro de Azuf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 Mole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57610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racterísticas y Propiedad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362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fundamen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iedades Físicas, Químicas y Eléct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igidez dieléctric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39448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lic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terruptores de Media y Alta 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bestaciones encapsuladas GIS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ransformadores de p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9592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entaja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slación Eléc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istencia a Arco Eléct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ig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ción de espacio y p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unas Empre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F6 Chi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4969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97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5:04:04Z</dcterms:created>
  <dc:creator>cmendoza</dc:creator>
  <dc:description/>
  <dc:language>en-US</dc:language>
  <cp:lastModifiedBy>ABOTTESELLE</cp:lastModifiedBy>
  <dcterms:modified xsi:type="dcterms:W3CDTF">2007-11-05T17:22:25Z</dcterms:modified>
  <cp:revision>10</cp:revision>
  <dc:subject/>
  <dc:title>Hexafloruro de Azufre </dc:title>
</cp:coreProperties>
</file>