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2EB-EC2A-4258-B8B3-67BA4FA2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762-E8ED-4569-A58A-D24B198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5D8-14B6-46DB-9264-AFF9521B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91-B419-4AAD-8A35-026068D3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905C-B4D4-47F2-BD09-0C255F79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9198-203C-4B64-935A-39F0D25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46E-C9E2-4337-B26D-A4824A41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0A47-0F5F-479C-B6FF-B86FF485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CB08-9ACA-4148-807A-303AFC1A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44B-5D71-4530-BE86-72E242E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8FE9-9ADA-4BCE-AAE0-E86EC8B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AC5-F502-449F-804E-EA65F1E7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503-89BF-4294-AB8B-78BB984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47A-C3F7-463A-8F7B-2AD97F6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AB5-D8BC-4B35-B119-03F64234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2B90-52D3-45F5-B5BF-007CE9B2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331-E553-4C75-8A4D-3A1DC557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47E-2815-4944-892A-FF53FDB4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772-9F77-4411-AD31-514723D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BBA-4CF7-45DD-92AF-9B0D84E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0F3-A8E3-482B-BDC1-9D9D1A31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B53-1C50-4374-9096-328A93E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4A0-B929-4E71-AC0E-CBE177E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11A-EFF9-483F-A82E-7AF05CF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DDD-13F9-47F6-B2EE-EA6C468C0C4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4B7F-997F-49CB-BF3C-C1580F23C97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Hexafloruro de Azufre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640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acio Varga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Men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7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ció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y Prop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s de Comp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finicion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Qué es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exafloruro de Azuf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 Mole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5761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acterísticas y Propiedad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362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fundam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edades Físicas, Químicas y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gidez dieléctric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39448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terruptores de Media y Alta 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estaciones encapsuladas GIS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ransformadores de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5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entaja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slación Eléc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stencia a Arco Eléc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ig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 espacio y p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un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F6 Chi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5:04:04Z</dcterms:created>
  <dc:creator>cmendoza</dc:creator>
  <dc:description/>
  <dc:language>en-US</dc:language>
  <cp:lastModifiedBy>ABOTTESELLE</cp:lastModifiedBy>
  <dcterms:modified xsi:type="dcterms:W3CDTF">2007-11-05T17:22:25Z</dcterms:modified>
  <cp:revision>10</cp:revision>
  <dc:subject/>
  <dc:title>Hexafloruro de Azufre </dc:title>
</cp:coreProperties>
</file>