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A9BA-D993-479D-A240-848D5D2F0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70FA-091A-4AD0-86B3-70F40D52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0125-CCCB-4126-B7E2-A4B67C9AD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9028-0BAC-45B2-A48C-E408427C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B96B-AD7B-4538-823A-35822651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2F80-3F67-4578-A1F4-1EEA2189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6051-0F93-4D29-B0E3-421A91D3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0F9A-67A7-41BC-8F4C-E28BD0E8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2583-9B8C-403A-AE7B-F957EA8A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3B9F-13CB-412A-B911-12FD310D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112B-CCF0-4B39-ABD4-AE00D720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230D-720B-4EAB-BC13-B5CBDFA6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0101-1A7F-4F23-85BD-520BA7A8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923C-5274-402B-8DB4-01F3C196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5C7B-3BC4-40AF-9FE2-B425C697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5329-EA8F-4AD6-BCFF-DE3C3AB5C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1C67-58F0-4381-86F0-514DEE14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A9A7-318B-4E0C-AEE5-600E6645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A847-21AB-407B-81CD-D3C35929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9FE5-A6D4-425D-AEB0-D0EF6890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83E3-8A19-45E5-8CB0-4013369C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9FA0-9092-417A-BD58-9FB2A5E3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7EA5-A366-4908-B75A-ECCEDB2A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F367-2075-4EB9-89B5-7FAFE5D9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E0D1-3590-4E3A-973B-CBB030483015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E6B8-F22D-4950-A417-ED9A83D6D22F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Hexafloruro de Azufre</a:t>
            </a: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140000" y="4581000"/>
            <a:ext cx="464004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gnacio Vargas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los Mendo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273672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ormas de Comp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67690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troducción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i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acterísticas y Propied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lica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ntaj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as de Comp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efinicione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¿Qué es el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Hexafloruro de Azuf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i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a Molec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619280" y="3860640"/>
            <a:ext cx="576108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aracterísticas y Propiedade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3068640"/>
            <a:ext cx="8362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acterísticas fundament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piedades Físicas, Químicas y Eléctr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igidez dieléctrica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394488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plicac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Interruptores de Media y Alta Ten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ubestaciones encapsuladas GIS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Transformadores de po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395928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Ventaja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islación Eléctr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istencia a Arco Eléctr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riger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ducción de espacio y p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Formas de Compra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gunas Empres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F6 Chil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95640" y="1773360"/>
            <a:ext cx="49690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ormas de Comp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87280" y="1628640"/>
            <a:ext cx="66978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15:04:04Z</dcterms:created>
  <dc:creator>cmendoza</dc:creator>
  <dc:description/>
  <dc:language>en-US</dc:language>
  <cp:lastModifiedBy>ABOTTESELLE</cp:lastModifiedBy>
  <dcterms:modified xsi:type="dcterms:W3CDTF">2007-11-05T17:22:25Z</dcterms:modified>
  <cp:revision>10</cp:revision>
  <dc:subject/>
  <dc:title>Hexafloruro de Azufre </dc:title>
</cp:coreProperties>
</file>