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9FA7-1C91-4023-AC6E-164C95808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A9E0-FF11-442A-97B8-C723343ED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8D33-E1CB-4387-B4DE-817FA90D7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E5F8-DDBC-4BE3-A0D8-AD693C69E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1575F-933D-431B-832C-1382EFCBA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815F3-E92F-4EBD-AF79-0A20BE05D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2499D-404E-4639-83D9-07F8587FC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AC512-3151-47CD-A9FA-B533C3831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2E579-16DB-4BD7-80D5-B84928B55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54A8C-0583-456E-B51A-1B54ECF4E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142BB-93F0-4154-8D21-BACC9211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178E-72F4-4636-AD6D-DB50B13FD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340C1-0731-4231-A3FC-62002625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AE08F-CC4E-4A5F-B326-FF12034D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5DF2E-F54A-4F72-BDE6-606BB1253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71940-2F7E-4997-A96B-B4AEFE7A2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149F7-F53E-4EEC-B013-30C6495EB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1839-507E-4764-BCDD-35220EB2D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BCD8-270F-46B5-94A4-40D967687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A34B-F138-4AE3-963A-A50090BE9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42F8-62A6-43D0-9E77-9E599CEA3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C6CC-ED6D-4A26-BF53-A29E6FC8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C45D-5D7E-4FF6-9A90-96C230B8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4CC5-148C-49BB-A6E2-D85D3A40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6FFA6-4699-4C06-B277-99EBC92813B5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618EB-2B42-4920-B963-BBF1BCA0332E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Hexafloruro de Azufre</a:t>
            </a: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140000" y="4581000"/>
            <a:ext cx="4640040" cy="17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gnacio Vargas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los Mendoz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2736720" cy="8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ormas de Compr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971640" y="1628640"/>
            <a:ext cx="676908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IN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troducción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finici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acterísticas y Propiedad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licaci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ntaj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mas de Comp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Definiciones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¿Qué es el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Hexafloruro de Azufr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ig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ma Molecu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619280" y="3860640"/>
            <a:ext cx="5761080" cy="19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Características y Propiedades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3068640"/>
            <a:ext cx="8362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acterísticas fundament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piedades Físicas, Químicas y Eléctric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igidez dieléctrica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3944880" cy="45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plicac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Interruptores de Media y Alta Tens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ubestaciones encapsuladas GIS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Transformadores de po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716360" y="1773360"/>
            <a:ext cx="3959280" cy="43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Ventajas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islación Eléctr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istencia a Arco Eléctr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friger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ducción de espacio y pe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Formas de Compra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gunas Empres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u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F6 Chil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995640" y="1773360"/>
            <a:ext cx="496908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ormas de Compr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187280" y="1628640"/>
            <a:ext cx="66978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6T15:04:04Z</dcterms:created>
  <dc:creator>cmendoza</dc:creator>
  <dc:description/>
  <dc:language>en-US</dc:language>
  <cp:lastModifiedBy>ABOTTESELLE</cp:lastModifiedBy>
  <dcterms:modified xsi:type="dcterms:W3CDTF">2007-11-05T17:22:25Z</dcterms:modified>
  <cp:revision>10</cp:revision>
  <dc:subject/>
  <dc:title>Hexafloruro de Azufre </dc:title>
</cp:coreProperties>
</file>