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C412-20C2-451B-B728-EB242B257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643C-E503-4A6A-90F3-63B60828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6242-D6E1-4A81-A0E6-51E7A06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E48B-9520-47B4-B1A1-01D97FC3F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C4D5-EED4-41C5-A1F1-351A70DEF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9E185-677C-4B2C-A076-618716E2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6996-C546-46A5-B66C-435FD2ED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9FBA7-543D-4C52-BB55-5F4F338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85EEA-B50C-4349-A697-E8B6478E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35F61-6D3B-49CD-850C-4813A5B5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5B909-18DB-4DEF-AAE9-D907607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A6EA-CD62-4A02-A452-A487810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CCA52-0A08-4287-91AD-8FDD5B4D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21720-EB98-4C9D-AA34-406EAE4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24337-94EB-4C2A-8660-9E77FEA7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EE61B-A581-4F4E-B172-86B28FC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6C001-BA2E-4665-A02E-D1C565FBBD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9B48-A3BD-46BB-A78D-14A17A341B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2881-0DF9-4B96-B3E3-94981E9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8E90-20B2-4AFB-A619-51B3DC88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A88B-3BDB-4174-B4E6-77732CAA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4385-73E4-48A9-B989-21A3EEFA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FBE6-9EFD-48FD-ABF9-42F81B16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58D6-B8F0-46B6-BB21-9D338428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45C4-C9C7-430E-A878-9247AE59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105C-B238-4898-A844-5EF04BC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E5B-4F8E-4D3E-8E78-0D0A97E8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496A-E362-43DC-B1BB-DEC36A8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C2EA-8809-4A95-B3A0-ED3B558D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61F3-FD68-4049-BCAA-23D209269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87D6D-A7A9-4F49-8D8B-5643512E4E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664A0-5C2B-459D-852F-990ECA83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14F44-402B-458A-85B0-F5D75064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AE27-FE77-4C9B-9E23-00727BCA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4311E-300C-46EB-B98F-28C676B9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90B5F-8882-4111-8D77-040987C0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F6F5A-00C0-4114-9E16-246A32E6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C6A23-0B32-4C3A-B050-0FF31424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7290E-2152-47F0-82C3-0A8C3596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66B4A-AA4E-46D1-8E4F-A084B4ED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13AF5-94DA-4BE7-8DAA-B610F86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88692-A199-4CAA-8C35-B93C7F8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AE79C-E910-4EEC-9380-6147B3E294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655B5-8751-4531-AE7F-0B3F74748B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FCA0-AC12-4DDF-8722-B79FF4F5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08F2F-38C7-48F5-AFB6-000BE9AD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0F185-6E69-4DFA-9CC3-90C04400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3B4D7-8B6F-4B5D-9D2F-D25FCB64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42FD3-1A16-42BF-AF6C-597BF69A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5C32A-20FC-4986-8E28-7AC815CB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CF49E-630C-4FD5-B610-9BC73C51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92F94-AADC-4506-8EDD-607028C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53958-A334-4116-88D3-7242886E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F0CB7-AB01-4AA4-A550-771EDE10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B75B5-E5FB-4198-B523-D40585B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9D2E-0AE1-4340-8C75-D91F3339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D32967-043D-4E8F-8EA6-99A2BF4C7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A60A-9BCE-4582-9CF2-25CA1F9DA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0E00-80E2-414C-8246-06B0FA7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59BB-A7E2-45B7-BB8E-43DCF7B8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FE54-4D15-499E-8C83-2D8E79AB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796B-19AC-4ACD-860E-08F71357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8183-4144-461C-A3AC-8C9AB3C6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7806-55D3-4CF9-9DE3-329E1B6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117D-E552-4D16-B5BE-C6F05E8C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395FF-0E86-46CE-A76B-66EF8DDD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7432-D996-47C2-AA80-A6C10CB0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E709-F9AA-436B-A18A-F50F1B44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7922-195C-4389-AC3D-2D9B81DC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A9BD-AE6D-4D12-A9BD-949223EF7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48AE-BC41-40F6-A5CB-3E18C8B7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24BB-82FC-411C-8916-37E76D5A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3EAC69-B19F-4D8E-AE41-FA36BDD98862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2FA3934-5A62-4B16-A279-47B9A55BDD2F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F8F5C90-5633-4DC8-9643-7C135585B75C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CAD8F2A-F742-4074-A8A2-6C8B15AF9D2B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19880"/>
            <a:ext cx="7603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B19D806-7F12-4781-87DC-ED7CCFDB94B2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145A075-02A3-4FC9-BF79-61F188B47FCA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-6480" y="3157560"/>
            <a:ext cx="9155160" cy="2436840"/>
            <a:chOff x="-6480" y="3157560"/>
            <a:chExt cx="9155160" cy="243684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-6480" y="3157560"/>
              <a:ext cx="915516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-6480" y="3157560"/>
              <a:ext cx="9155160" cy="24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071960" y="5572080"/>
            <a:ext cx="46292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rantes:     Javier Ur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rián Guzm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proceso donde se retira el liquido exce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ab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ieza toma su forma final y se afinan detalles como pulir superfici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ípicamente se utilizan hornos de tun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zcocho: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el proceso de aplicación del barniz por roce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19120" y="4500720"/>
            <a:ext cx="2181240" cy="2133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559320" y="4506840"/>
            <a:ext cx="2199960" cy="2152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480000" y="4500720"/>
            <a:ext cx="21625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0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proceso mediante el cual la ceramica es consolidada térmicamente, la cocción se realiza aproz a 2/3 de la temperatura de fu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rmin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finan los detalles finales a veces se agregan pig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19280" y="1052280"/>
            <a:ext cx="325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s de aisl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484360" y="1746360"/>
          <a:ext cx="4894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46360"/>
                    <a:ext cx="4894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19280" y="1197000"/>
            <a:ext cx="4699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792000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Contact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dustria de Aisladores Casa Blanca ICB: Carlos Ignacio López. Jefe de venta Nacional.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x: 2 7753081 email: </a:t>
            </a:r>
            <a:r>
              <a:rPr b="0" lang="es-ES" sz="2600" spc="-1" strike="noStrike" u="sng">
                <a:solidFill>
                  <a:srgbClr val="ccccff"/>
                </a:solidFill>
                <a:uFillTx/>
                <a:latin typeface="Arial"/>
              </a:rPr>
              <a:t>icb@icbs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ercial Libra: Aldo Pascali Binfa. Gerente. Fono 2 5110417. email: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gerencia@comerciallibr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erelec: Maria Teresa Hidalgo,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cerelechidalgo@hotmail.com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, Fono 2 7759442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530064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36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734">
                <a:moveTo>
                  <a:pt x="10800" y="573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734">
                <a:moveTo>
                  <a:pt x="8224" y="9791"/>
                </a:moveTo>
                <a:lnTo>
                  <a:pt x="12088" y="9791"/>
                </a:lnTo>
                <a:lnTo>
                  <a:pt x="12088" y="16789"/>
                </a:lnTo>
                <a:lnTo>
                  <a:pt x="13376" y="16789"/>
                </a:lnTo>
                <a:lnTo>
                  <a:pt x="13376" y="17711"/>
                </a:lnTo>
                <a:lnTo>
                  <a:pt x="8224" y="17711"/>
                </a:lnTo>
                <a:lnTo>
                  <a:pt x="8224" y="16789"/>
                </a:lnTo>
                <a:lnTo>
                  <a:pt x="9512" y="16789"/>
                </a:lnTo>
                <a:lnTo>
                  <a:pt x="9512" y="10696"/>
                </a:lnTo>
                <a:lnTo>
                  <a:pt x="8224" y="1069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58000" cy="6165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95672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Infor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troductions to Ceramics. Kingery, Bowen, Uhlmann. Editorial John Wiley &amp; Sons.1976. ISBN 0-471-47860-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ulators for High Voltages. J.S.T Looms. British Library Cataloguing. ISBN 0-86341-116-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En internet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Global soluciones. Aisladores de Porcelana: 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globalsoluciones.cl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isladores%20porcelan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.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ph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puntes de Cursos de Ciencias de los Materiales. Universidad de Málaga.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ebdeptos.uma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qicm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oc_docenci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Tema6_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CM.pdf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urso de Fisica Angel Franco Garcia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sc.ehu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bweb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fisic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olido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in_rotacio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alargamiento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largamiento.ht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ICB Aisladores Casa Blanca 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porcelai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-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insulators.c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structura de p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piedades del Mate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oceso de P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o de Ve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tal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 Pri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00200"/>
            <a:ext cx="746748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olí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ldespa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43680" y="1571760"/>
            <a:ext cx="2431800" cy="1871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2517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s utilizada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porciones Utilizadas en la industria Chile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300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 Catastro SISS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2860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1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aterial Cerámic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tructura Vidr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érmicas: Bajo Coef. Expansión tér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cánicas: Alto Módulo de elasti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piedades Dieléct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805360" y="1600200"/>
            <a:ext cx="2117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0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Dieléctr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pérdidas 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&lt;0.0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g pérdidas Tg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/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lt;0.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sistividad Eléctrica Volumétric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2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m metr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82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Franklin Gothic Book"/>
              </a:rPr>
              <a:t>Propiedades de Porcelana Eléctrica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52520" y="1771560"/>
            <a:ext cx="5675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0040" y="1571760"/>
            <a:ext cx="7856640" cy="3713040"/>
            <a:chOff x="500040" y="1571760"/>
            <a:chExt cx="7856640" cy="371304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500040" y="1571760"/>
              <a:ext cx="785664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00040" y="1571760"/>
              <a:ext cx="785664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pció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efici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se procesa para su utilización (pulverización, purificación et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zcl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s elementos son mezclados en agua y se agregan elementos específicos para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800360" y="4140360"/>
            <a:ext cx="2152440" cy="2133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46840" y="4146480"/>
            <a:ext cx="21524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 Guzman</dc:creator>
  <dc:description/>
  <dc:language>en-US</dc:language>
  <cp:lastModifiedBy>ABOTTESELLE</cp:lastModifiedBy>
  <dcterms:modified xsi:type="dcterms:W3CDTF">2007-09-11T13:18:18Z</dcterms:modified>
  <cp:revision>2</cp:revision>
  <dc:subject/>
  <dc:title>Aislantes de Porcelana</dc:title>
</cp:coreProperties>
</file>