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9FDA-ED67-4962-91F3-FE851122B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25D1-BD2A-4F82-9E30-9EFDB6B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D971-B26F-4E5B-8316-0108EAA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2409-FC97-4B0F-871B-2DB20E34B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A1122-E9AE-4684-A68D-B19F5B9C8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EBFC-BB8B-4417-9EEF-238724E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7C3F2-6829-4F70-9B09-92EFE36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50AF8-718B-43B3-B24D-872E904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CD27E-1261-4FC8-ABC6-81F8195D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1E3A-606F-4305-808A-3DABF372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3BDCB-0974-46B8-9080-46D3E621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AE5D-FD4F-48DA-8882-D16ED3C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7D6B-193E-46A9-9A15-044F49B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58E4D-0914-45AC-B76B-C7E4FF7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42B8-C894-454F-8064-1326BE3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619CA-7892-40CA-B7AD-CA86A1C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8C824-2D8C-416A-8A87-2849167B3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1C67-37DC-435C-A4CB-6C1F8709E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07C-9E0B-4584-85F0-4C9C4017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A31-B56E-492D-AD40-9581C1A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86C1-867C-4A6B-BA11-EFCADFA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6A4-DFDF-41D3-8594-98799542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1F49-F63A-4701-88AF-A686ECD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0F0F-66A6-47E0-BA07-BD6080B5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368-4A44-499F-873C-83689F2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A3EA-4A5E-4671-8B9F-C17475A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63E0-D32D-488E-99DE-A1A30C64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DF3-D8F0-4CE7-9F9F-0A98537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C125-7034-429B-B4B8-E536A86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A88-8D41-4C00-BEE7-9D79EE266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4636F-2506-4F1D-AEAF-DFEE7F423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5F87D-F778-48FD-AE2A-69129EAA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62F62-6AE5-49D4-82EF-57C7709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3538-0675-48E5-9125-0FE72D14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8A176-2E51-43B7-B3E1-321500A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08951-5F9D-41D8-8B7E-42A61DFE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8D4AC-EB4F-48F0-8664-C148DF5F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D9AAD-AE18-4E02-B4D1-71EC01E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F58E0-7AD5-4C93-89CB-65F1944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B2B58-342E-443A-9229-5A1CD1B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A14F9-B7B7-4B82-88DE-5AB75FB9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CEA83-710E-4267-BF09-8F8B40EA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5306F-C0A0-4280-BFD5-71E8A175F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AAFA5-0F7E-456A-9F7D-01B490993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5DD2-D4C1-4539-8EEC-A127635F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A674D-7453-4909-A36A-2541699D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E253F-41A6-4758-80F6-91E1FE87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7D591-FD68-4087-957A-641E705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C64D9-D9B3-47D1-8EB7-E304CBD0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775AE-A2C4-4B53-B44E-1343E5DA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ED2E9-B073-4B65-B55F-AEE429B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73ADB-BD89-4DC4-8FAE-55D41C2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D506D-9F20-4E2A-B7EE-AEA1D6A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8C148-5BE3-4062-B6BC-36FF273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C7E22-18CC-4054-93A0-609F399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EB66-C346-44A0-9679-0CC97517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52494-0B40-474D-81ED-E3B6460B5C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6E75-351E-4C9C-80FB-32AE864EB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3F97-1CAB-4A97-8236-E64AF6D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5B1D-F0BD-4168-A73B-8FE9FF6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7FE1-07F3-4470-880A-E4EE3A49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AA39-4D2F-4794-B1AC-672207B5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326B-F0CF-41AD-877A-886DD0D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270E-8A3E-4572-A692-F70E99A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844B-986B-481F-92D0-BBE4347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7C691-A1A6-40B2-9B67-286BA33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0000-CB2A-430F-B7B9-02E6D048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12BE-28A7-4A1C-81F8-7EFB5B6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A0BE-2578-40B3-AC44-C03B5B7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E8B3-25A6-4B57-9F45-711712D0F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F658-72E4-475B-9736-1019BABA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5907-A580-4463-8373-143A316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D34D7D-5A09-4E76-B763-40BF7CDCC9D8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033D84C-A43B-4198-B39F-B5DFD95D31F7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C2144F-D973-409C-AFC0-FB2127C38686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0F3CA6-9ECB-4D7B-98D9-40794065FD62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0991DB-8CA3-46DA-BB3E-E2FB8927DA98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33C83F-4061-4557-97B3-011F814D3C6B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6480" y="3157560"/>
            <a:ext cx="9155160" cy="2436840"/>
            <a:chOff x="-6480" y="3157560"/>
            <a:chExt cx="9155160" cy="243684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-6480" y="3157560"/>
              <a:ext cx="915516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-6480" y="3157560"/>
              <a:ext cx="9155160" cy="24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071960" y="5572080"/>
            <a:ext cx="4629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ntes:     Javier Ur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rián Guzm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proceso donde se retira el liquido exce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ab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ieza toma su forma final y se afinan detalles como pulir superfici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ípicamente se utilizan hornos de tu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zcocho: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el proceso de aplicación del barniz por roce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19120" y="45007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559320" y="4506840"/>
            <a:ext cx="2199960" cy="2152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480000" y="4500720"/>
            <a:ext cx="2162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0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proceso mediante el cual la ceramica es consolidada térmicamente, la cocción se realiza aproz a 2/3 de la temperatura de fu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in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finan los detalles finales a veces se agregan pig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19280" y="1052280"/>
            <a:ext cx="325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s de ais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484360" y="1746360"/>
          <a:ext cx="4894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46360"/>
                    <a:ext cx="4894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19280" y="1197000"/>
            <a:ext cx="46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7920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Conta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ustria de Aisladores Casa Blanca ICB: Carlos Ignacio López. Jefe de venta Nacional.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x: 2 7753081 email: </a:t>
            </a:r>
            <a:r>
              <a:rPr b="0" lang="es-ES" sz="2600" spc="-1" strike="noStrike" u="sng">
                <a:solidFill>
                  <a:srgbClr val="ccccff"/>
                </a:solidFill>
                <a:uFillTx/>
                <a:latin typeface="Arial"/>
              </a:rPr>
              <a:t>icb@icbs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ercial Libra: Aldo Pascali Binfa. Gerente. Fono 2 5110417. email: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gerencia@comerciallibr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erelec: Maria Teresa Hidalgo,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cerelechidalgo@hotmail.com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, Fono 2 775944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5300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36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734">
                <a:moveTo>
                  <a:pt x="10800" y="573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734">
                <a:moveTo>
                  <a:pt x="8224" y="9791"/>
                </a:moveTo>
                <a:lnTo>
                  <a:pt x="12088" y="9791"/>
                </a:lnTo>
                <a:lnTo>
                  <a:pt x="12088" y="16789"/>
                </a:lnTo>
                <a:lnTo>
                  <a:pt x="13376" y="16789"/>
                </a:lnTo>
                <a:lnTo>
                  <a:pt x="13376" y="17711"/>
                </a:lnTo>
                <a:lnTo>
                  <a:pt x="8224" y="17711"/>
                </a:lnTo>
                <a:lnTo>
                  <a:pt x="8224" y="16789"/>
                </a:lnTo>
                <a:lnTo>
                  <a:pt x="9512" y="16789"/>
                </a:lnTo>
                <a:lnTo>
                  <a:pt x="9512" y="10696"/>
                </a:lnTo>
                <a:lnTo>
                  <a:pt x="8224" y="106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58000" cy="6165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95672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Infor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troductions to Ceramics. Kingery, Bowen, Uhlmann. Editorial John Wiley &amp; Sons.1976. ISBN 0-471-47860-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lators for High Voltages. J.S.T Looms. British Library Cataloguing. ISBN 0-86341-116-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En internet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Global soluciones. Aisladores de Porcelana: 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globalsoluciones.cl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isladores%20porcelan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ph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puntes de Cursos de Ciencias de los Materiales. Universidad de Málaga.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ebdeptos.uma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qicm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oc_docenci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Tema6_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CM.pd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urso de Fisica Angel Franco Garcia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sc.ehu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bweb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fisic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olido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in_rotacio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alargamiento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largamiento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ICB Aisladores Casa Blanca 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porcelai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-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insulators.c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tructura de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iedades del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oceso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o de Ve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l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 Pri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746748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olí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ldespa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2431800" cy="1871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2517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s utilizad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rciones Utilizadas en la industria Chile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300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 Catastro SISS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860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1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aterial Cerám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ructura Vidr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érmicas: Bajo Coef. Expansión tér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cánicas: Alto Módulo de elasti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piedades Dieléct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05360" y="1600200"/>
            <a:ext cx="2117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0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Dieléctr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pérdidas 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&lt;0.0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g pérdidas Tg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/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0.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sistividad Eléctrica Volumétric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2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m met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82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Franklin Gothic Book"/>
              </a:rPr>
              <a:t>Propiedades de Porcelana Eléctrica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52520" y="1771560"/>
            <a:ext cx="5675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040" y="1571760"/>
            <a:ext cx="7856640" cy="3713040"/>
            <a:chOff x="500040" y="1571760"/>
            <a:chExt cx="7856640" cy="3713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8566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00040" y="1571760"/>
              <a:ext cx="785664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pció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efici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se procesa para su utilización (pulverización, purificación et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zcl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s elementos son mezclados en agua y se agregan elementos específicos para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800360" y="4140360"/>
            <a:ext cx="2152440" cy="2133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46840" y="4146480"/>
            <a:ext cx="21524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 Guzman</dc:creator>
  <dc:description/>
  <dc:language>en-US</dc:language>
  <cp:lastModifiedBy>ABOTTESELLE</cp:lastModifiedBy>
  <dcterms:modified xsi:type="dcterms:W3CDTF">2007-09-11T13:18:18Z</dcterms:modified>
  <cp:revision>2</cp:revision>
  <dc:subject/>
  <dc:title>Aislantes de Porcelana</dc:title>
</cp:coreProperties>
</file>