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BA76B-6FB5-4AF9-89A7-DAD3D2A3E8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CA87F-8B11-4C00-89E1-AD35CF07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38FF5-F74E-4C9C-A8D9-ED0DF04B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15963-B825-4DA7-BA4D-6D3D39C50A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A4F48-5705-458A-AFF5-801C1C6805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5151D-A686-4ED7-9F0B-A6FF06B9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AFD16-F872-4859-A60E-CFB3AAFE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9A6CE-E942-494E-947C-7D097446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289C5-E118-438A-85D6-F23000CC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F0351-AE85-4A91-9A67-52FFF850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13B2D-3959-4AF2-806C-2352D22C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A13A8-F145-41CD-9592-3FB4FAC3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8E48E-9749-4823-85F2-EC02DF6A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33B1C-519F-4A91-AACB-6BC197B2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F4707-589B-475C-8BA5-F90B36AF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43790-AD39-4488-A0ED-D12AB602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B0F6E-38FF-4127-8C5A-AAFC10EFEA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6E83-D7B8-491B-AEFC-1291A9AB2C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A4DD-A1A4-4E11-B9EE-326D2484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23CA-3187-481D-BF8F-045B3201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8614-861F-4D51-8C94-F32CC029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FBCE-D4BD-4CF2-AAFC-7AFDFE54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0ECC3-3422-462D-93C7-1EC074F5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817E-4477-4131-A94A-4EEAC790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02CD-B6E8-4F0B-B061-A195BC7F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7E31-AA39-43A3-A815-1BA1294D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109B-0084-4363-83CC-9E3231EE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963C-C478-4D2D-A281-F95DBE9D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F205-7C9E-4AF9-94F5-3A774149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E640-CD24-4B05-8C6F-9F8CE8959F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C0DA2-0D2B-4688-B082-7847C4CF6F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9805CE-213D-4DA3-95F4-2B4A005D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38CE2-42E1-49FD-8FB9-ACD749A9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5B23D-297B-421F-BD8E-241E037A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28BD66-53B8-4BC1-B94A-B20697F0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F71E1-959D-4F37-9ED9-D0CAE365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B8C334-24FA-47DB-B02B-8B204BDD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9D03E-34E2-4EF5-A161-3EAB3354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49FDB-7B44-4C5A-9471-92F72DCF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2F6AE-F32C-4794-A779-2AC859A9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E2F6A6-55B7-475A-8F7E-DA2965D1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F2ED08-1AF0-487A-90BD-529E0902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7F2488-C9D1-4E93-B91A-90D3BB1266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EBCCFE-9EA1-4DC8-AD56-4C770BB892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23EBB-3D08-409C-BB7F-6F60269F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938EF9-7F93-41B9-BBA5-6DDB127D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655BF4-AF51-43F0-A9A8-E6824B99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7D9413-BB5A-418C-8186-A9E56C23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ACA576-8219-43F2-B045-1CF228FB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FF481D-1D72-4AB1-BFE5-34CD88A5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D63801-0F65-49CA-856E-B0389D29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124DB3-CB37-45F6-8378-E00B2F58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11B753-FE67-4AEE-9018-CA2F5CA4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F23A04-1BE6-40D0-B262-B49A654E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1EE282-3151-457B-9DED-2ABE070E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2F017-159E-4D95-9F61-4FAA962C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65DA6E-7C82-4A9D-BAC3-196A95E7C5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31C8B-3CCF-4628-A3A0-F962D5949D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35566-3C36-470B-B358-54E266D4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719FE-8177-4CAE-A34D-EDC2282B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D1B6F-D998-434C-8B0A-E5B1DF02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7DABD-1E04-4E7E-9412-8D869D02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98280"/>
            <a:ext cx="746604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EEE91-1411-4AC9-B049-B1A1323F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08694-3C8F-4008-B221-0A097B27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A3B86-94EB-4280-AE87-A564FA2A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2F76D-9630-4657-B344-E76091BE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5F8FB-C259-4EAB-A341-1D4678BF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138C4-AB02-49A9-AD6D-6AD0CF54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7C16E-D956-4038-8D63-5B1C8A42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9B369-3753-4DC9-BCB7-B1AEA607EC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1AB24-0D60-41DE-AE31-40FD259A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253FE-5B36-43FF-A5E6-2114BAFF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116724" dir="20262383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119333" dir="691041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3320" indent="-255600">
              <a:lnSpc>
                <a:spcPct val="93000"/>
              </a:lnSpc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8000" indent="-235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520" indent="-181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419880"/>
            <a:ext cx="21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3738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152920" y="6419880"/>
            <a:ext cx="7606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C7D53F-BB01-4E82-BA5C-DA61C48C0BC6}" type="slidenum"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7373"/>
            </a:gs>
            <a:gs pos="100000">
              <a:srgbClr val="000000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116724" dir="20262383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119333" dir="691041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3320" indent="-255600">
              <a:lnSpc>
                <a:spcPct val="93000"/>
              </a:lnSpc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8000" indent="-235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520" indent="-181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7200" y="6419880"/>
            <a:ext cx="21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3738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8152920" y="6419880"/>
            <a:ext cx="7606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B2A84AA-24B4-4F4E-AF84-923310BEDDC7}" type="slidenum"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7373"/>
            </a:gs>
            <a:gs pos="100000">
              <a:srgbClr val="000000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116724" dir="20262383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119333" dir="691041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3320" indent="-255600">
              <a:lnSpc>
                <a:spcPct val="93000"/>
              </a:lnSpc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8000" indent="-235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520" indent="-181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7200" y="6419880"/>
            <a:ext cx="21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3738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8152920" y="6419880"/>
            <a:ext cx="7606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2FAE27D-1FF5-4DA3-8C30-30BCFB48002E}" type="slidenum"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3320" indent="-255600">
              <a:lnSpc>
                <a:spcPct val="93000"/>
              </a:lnSpc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8000" indent="-235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520" indent="-181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7200" y="6419880"/>
            <a:ext cx="21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3738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8"/>
          </p:nvPr>
        </p:nvSpPr>
        <p:spPr>
          <a:xfrm>
            <a:off x="8152920" y="6419880"/>
            <a:ext cx="7606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81EF4B4-76AC-4D92-8B60-6C796B5C34D2}" type="slidenum"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116724" dir="20262383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119333" dir="691041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3320" indent="-255600">
              <a:lnSpc>
                <a:spcPct val="93000"/>
              </a:lnSpc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8000" indent="-235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520" indent="-181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9"/>
          </p:nvPr>
        </p:nvSpPr>
        <p:spPr>
          <a:xfrm>
            <a:off x="457200" y="6419880"/>
            <a:ext cx="21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3738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0"/>
          </p:nvPr>
        </p:nvSpPr>
        <p:spPr>
          <a:xfrm>
            <a:off x="8156520" y="6419880"/>
            <a:ext cx="7603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2B7F023-3083-4CA3-BEBE-292A23F9F33F}" type="slidenum"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3320" indent="-255600">
              <a:lnSpc>
                <a:spcPct val="93000"/>
              </a:lnSpc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8000" indent="-235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520" indent="-181080">
              <a:lnSpc>
                <a:spcPct val="93000"/>
              </a:lnSpc>
              <a:spcBef>
                <a:spcPts val="751"/>
              </a:spcBef>
              <a:buClr>
                <a:srgbClr val="969696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7520" indent="-18108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1"/>
          </p:nvPr>
        </p:nvSpPr>
        <p:spPr>
          <a:xfrm>
            <a:off x="457200" y="6419880"/>
            <a:ext cx="21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3738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8152920" y="6419880"/>
            <a:ext cx="7606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295A481-87F2-4450-BB0C-B569E0B05B13}" type="slidenum">
              <a:rPr b="0" lang="en-GB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-6480" y="3157560"/>
            <a:ext cx="9155160" cy="2436840"/>
            <a:chOff x="-6480" y="3157560"/>
            <a:chExt cx="9155160" cy="2436840"/>
          </a:xfrm>
        </p:grpSpPr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-6480" y="3157560"/>
              <a:ext cx="915516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-6480" y="3157560"/>
              <a:ext cx="9155160" cy="24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4071960" y="5572080"/>
            <a:ext cx="46292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6240"/>
                <a:tab algn="l" pos="1790640"/>
                <a:tab algn="l" pos="2705040"/>
                <a:tab algn="l" pos="3619440"/>
                <a:tab algn="l" pos="4533840"/>
                <a:tab algn="l" pos="5448240"/>
                <a:tab algn="l" pos="6362640"/>
                <a:tab algn="l" pos="7277040"/>
                <a:tab algn="l" pos="8191440"/>
                <a:tab algn="l" pos="9105840"/>
                <a:tab algn="l" pos="100202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grantes:     Javier Urb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76240"/>
                <a:tab algn="l" pos="1790640"/>
                <a:tab algn="l" pos="2705040"/>
                <a:tab algn="l" pos="3619440"/>
                <a:tab algn="l" pos="4533840"/>
                <a:tab algn="l" pos="5448240"/>
                <a:tab algn="l" pos="6362640"/>
                <a:tab algn="l" pos="7277040"/>
                <a:tab algn="l" pos="8191440"/>
                <a:tab algn="l" pos="9105840"/>
                <a:tab algn="l" pos="100202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rián Guzmá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oceso de produc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32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lado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el proceso donde se retira el liquido exced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cabado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ieza toma su forma final y se afinan detalles como pulir superfici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ado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ípicamente se utilizan hornos de tun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izcocho: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el proceso de aplicación del barniz por roce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19120" y="4500720"/>
            <a:ext cx="2181240" cy="21333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559320" y="4506840"/>
            <a:ext cx="2199960" cy="2152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6480000" y="4500720"/>
            <a:ext cx="216252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oceso de produc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042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cció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 el proceso mediante el cual la ceramica es consolidada térmicamente, la cocción se realiza aproz a 2/3 de la temperatura de fus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rminado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finan los detalles finales a veces se agregan pigme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39640" y="4319640"/>
            <a:ext cx="2124360" cy="21430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419640" y="4336920"/>
            <a:ext cx="2152440" cy="21430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6486480" y="4336920"/>
            <a:ext cx="21528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Catálog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419280" y="1052280"/>
            <a:ext cx="3251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ipos de aisl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484360" y="1746360"/>
          <a:ext cx="489420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746360"/>
                    <a:ext cx="489420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atálog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519280" y="1197000"/>
            <a:ext cx="469908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atálog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9640" y="1552680"/>
            <a:ext cx="7920000" cy="47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Franklin Gothic Book"/>
              </a:rPr>
              <a:t>Contact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lnSpc>
                <a:spcPct val="9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Industria de Aisladores Casa Blanca ICB: Carlos Ignacio López. Jefe de venta Nacional.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ax: 2 7753081 email: </a:t>
            </a:r>
            <a:r>
              <a:rPr b="0" lang="es-ES" sz="2600" spc="-1" strike="noStrike" u="sng">
                <a:solidFill>
                  <a:srgbClr val="ccccff"/>
                </a:solidFill>
                <a:uFillTx/>
                <a:latin typeface="Arial"/>
              </a:rPr>
              <a:t>icb@icbsa.c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omercial Libra: Aldo Pascali Binfa. Gerente. Fono 2 5110417. email: </a:t>
            </a:r>
            <a:r>
              <a:rPr b="0" lang="es-ES_tradnl" sz="2600" spc="-1" strike="noStrike" u="sng">
                <a:solidFill>
                  <a:srgbClr val="ccccff"/>
                </a:solidFill>
                <a:uFillTx/>
                <a:latin typeface="Arial"/>
              </a:rPr>
              <a:t>gerencia@comerciallibra.c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erelec: Maria Teresa Hidalgo, </a:t>
            </a:r>
            <a:r>
              <a:rPr b="0" lang="es-ES_tradnl" sz="2600" spc="-1" strike="noStrike" u="sng">
                <a:solidFill>
                  <a:srgbClr val="ccccff"/>
                </a:solidFill>
                <a:uFillTx/>
                <a:latin typeface="Arial"/>
              </a:rPr>
              <a:t>cerelechidalgo@hotmail.com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, Fono 2 7759442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93080" y="530064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10800" y="536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4734">
                <a:moveTo>
                  <a:pt x="10800" y="5735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4734">
                <a:moveTo>
                  <a:pt x="8224" y="9791"/>
                </a:moveTo>
                <a:lnTo>
                  <a:pt x="12088" y="9791"/>
                </a:lnTo>
                <a:lnTo>
                  <a:pt x="12088" y="16789"/>
                </a:lnTo>
                <a:lnTo>
                  <a:pt x="13376" y="16789"/>
                </a:lnTo>
                <a:lnTo>
                  <a:pt x="13376" y="17711"/>
                </a:lnTo>
                <a:lnTo>
                  <a:pt x="8224" y="17711"/>
                </a:lnTo>
                <a:lnTo>
                  <a:pt x="8224" y="16789"/>
                </a:lnTo>
                <a:lnTo>
                  <a:pt x="9512" y="16789"/>
                </a:lnTo>
                <a:lnTo>
                  <a:pt x="9512" y="10696"/>
                </a:lnTo>
                <a:lnTo>
                  <a:pt x="8224" y="1069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5958000" cy="61657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956720" y="5734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Franklin Gothic Book"/>
              </a:rPr>
              <a:t>Inform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571680">
              <a:lnSpc>
                <a:spcPct val="8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Introductions to Ceramics. Kingery, Bowen, Uhlmann. Editorial John Wiley &amp; Sons.1976. ISBN 0-471-47860-1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lnSpc>
                <a:spcPct val="8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Insulators for High Voltages. J.S.T Looms. British Library Cataloguing. ISBN 0-86341-116-9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lnSpc>
                <a:spcPct val="8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Arial"/>
              </a:rPr>
              <a:t>En internet: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944640" indent="-49536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Global soluciones. Aisladores de Porcelana: 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http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:/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www.globalsoluciones.cl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aisladores%20porcelana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.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ph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44640" indent="-49536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Apuntes de Cursos de Ciencias de los Materiales. Universidad de Málaga.</a:t>
            </a:r>
            <a:br>
              <a:rPr sz="1700"/>
            </a:b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http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:/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webdeptos.uma.es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qicm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Doc_docencia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Tema6_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CM.pdf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44640" indent="-49536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Curso de Fisica Angel Franco Garcia</a:t>
            </a:r>
            <a:br>
              <a:rPr sz="1700"/>
            </a:b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http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:/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www.sc.ehu.es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sbweb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fisica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solido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din_rotacion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/alargamiento/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alargamiento.ht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44640" indent="-49536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ICB Aisladores Casa Blanca </a:t>
            </a:r>
            <a:br>
              <a:rPr sz="1700"/>
            </a:b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www.porcelain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-</a:t>
            </a:r>
            <a:r>
              <a:rPr b="0" lang="es-ES_tradnl" sz="1700" spc="-1" strike="noStrike" u="sng">
                <a:solidFill>
                  <a:srgbClr val="ccccff"/>
                </a:solidFill>
                <a:uFillTx/>
                <a:latin typeface="Arial"/>
              </a:rPr>
              <a:t>insulators.c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7373"/>
            </a:gs>
            <a:gs pos="100000">
              <a:srgbClr val="000000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structura de present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terias prim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piedades del Materi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oceso de Producció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ceso de Ven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talog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ateria Prima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1600200"/>
            <a:ext cx="746748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7600" indent="-3826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olí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eldespat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143680" y="1571760"/>
            <a:ext cx="2431800" cy="1871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143680" y="4572000"/>
            <a:ext cx="251748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aterias utilizada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67080" y="1600200"/>
            <a:ext cx="4591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7600" indent="-382680"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porciones Utilizadas en la industria Chilen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100000"/>
              </a:lnSpc>
              <a:spcBef>
                <a:spcPts val="300"/>
              </a:spcBef>
              <a:buClr>
                <a:srgbClr val="dddddd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ente Catastro SISS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328608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Franklin Gothic Book"/>
              </a:rPr>
              <a:t>Propiedades del Material 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1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aterial Cerámic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structura Vidri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ropiedades característ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érmicas: Bajo Coef. Expansión térm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ecánicas: Alto Módulo de elastic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opiedades Dieléctr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805360" y="1600200"/>
            <a:ext cx="21178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Franklin Gothic Book"/>
              </a:rPr>
              <a:t>Propiedades del Material I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0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ropiedades Dieléctr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Factor de pérdidas =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ε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’</a:t>
            </a:r>
            <a:br>
              <a:rPr sz="2800"/>
            </a:b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κ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’&lt;0.03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g pérdidas Tg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ε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’/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ε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br>
              <a:rPr sz="2800"/>
            </a:b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&lt;0.00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Resistividad Eléctrica Volumétrica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ρ</a:t>
            </a:r>
            <a:br>
              <a:rPr sz="2800"/>
            </a:b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2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hm metr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182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98280"/>
            <a:ext cx="7466040" cy="149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Franklin Gothic Book"/>
              </a:rPr>
              <a:t>Propiedades de Porcelana Eléctrica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352520" y="1771560"/>
            <a:ext cx="567540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oceso de producció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00040" y="1571760"/>
            <a:ext cx="7856640" cy="3713040"/>
            <a:chOff x="500040" y="1571760"/>
            <a:chExt cx="7856640" cy="371304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500040" y="1571760"/>
              <a:ext cx="7856640" cy="37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500040" y="1571760"/>
              <a:ext cx="7856640" cy="37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oceso de produc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83520" cy="29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cepción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ateria prima es almacenada en la ind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neficio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ateria prima se procesa para su utilización (pulverización, purificación et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lnSpc>
                <a:spcPct val="93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zcla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os elementos son mezclados en agua y se agregan elementos específicos para el requer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800360" y="4140360"/>
            <a:ext cx="2152440" cy="21333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046840" y="4146480"/>
            <a:ext cx="2152440" cy="2152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rian Guzman</dc:creator>
  <dc:description/>
  <dc:language>en-US</dc:language>
  <cp:lastModifiedBy>ABOTTESELLE</cp:lastModifiedBy>
  <dcterms:modified xsi:type="dcterms:W3CDTF">2007-09-11T13:18:18Z</dcterms:modified>
  <cp:revision>2</cp:revision>
  <dc:subject/>
  <dc:title>Aislantes de Porcelana</dc:title>
</cp:coreProperties>
</file>