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D13-DC12-4A54-8021-F866C036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130-8208-4AAB-86DF-AFC55EA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2C4-A119-41F6-ADA0-5FD0E61F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0C4-8B93-4D83-A5E1-B69FB7DF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55A-D980-4CA5-B8F7-AF63A8E9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CDB-26E4-493A-A8BE-B2E5C650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C950-6A3E-486B-80A3-F6D5718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961-3DA6-4DE2-9034-CE3223C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1F7-7F31-412F-8F09-74882B4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F6E-5255-468E-A677-5B2E62B7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377-354D-49A8-A5FE-874CA36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0A4-0A3D-4D34-9961-01C2B4C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3B4-16BD-4B7C-8A2B-CAB0AA5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ECAE-D7C7-4D8F-9837-5D87E92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425-7153-4316-8502-9FC1E4A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C7A2-9EAE-4E1C-8352-AB1DCEE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870E-8C83-4B69-98AE-A5F95615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172-B490-4DC1-ABCA-03AC12C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91B-780A-4D3C-9D06-7D7DC851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7AD-6210-4274-B33B-59B881F9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B00-2E0F-4243-A657-CCCC22C9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6FD-F822-4E79-A0BE-C6380A8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7FF-1DD3-4C0C-AEF6-F607B18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F1E-FA6E-4C93-9C6D-C013875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FDFA-9223-442A-A794-FBF4E5D754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1E5-9419-46CC-980C-B762E587E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EL56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IO DE CONVERSIÓN ELECTROMECÁNICA DE LA ENERGÍ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structura inform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ada, presentación, ortografí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co teóri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Desarrollo de la experienc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entarios y conclu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289080" cy="1081080"/>
          </a:xfrm>
          <a:custGeom>
            <a:avLst/>
            <a:gdLst>
              <a:gd name="textAreaLeft" fmla="*/ 0 w 289080"/>
              <a:gd name="textAreaRight" fmla="*/ 104400 w 289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2549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3429000"/>
            <a:ext cx="287280" cy="57636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4091040"/>
            <a:ext cx="215640" cy="504720"/>
          </a:xfrm>
          <a:custGeom>
            <a:avLst/>
            <a:gdLst>
              <a:gd name="textAreaLeft" fmla="*/ 0 w 215640"/>
              <a:gd name="textAreaRight" fmla="*/ 77760 w 215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40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4667400"/>
            <a:ext cx="216000" cy="50472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5640" y="465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arrollo de la experiencia (70%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pos e instrumentos utilizados: breve descrip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osición de resultados de mediciones y de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todología emple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ráficos, tab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álculos, desarrollos, diagramas fasorial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aración con lo esperado teóric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: datos no considerados, errores de medición, excepciones hechas, indicaciones, supuesto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Desarrollo de la experiencia (70%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Arial"/>
              </a:rPr>
              <a:t>Obtención del modelo de la máqui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ntrastar el modelo con mediciones y/o con pruebas realizada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p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entarios y conclusiones (10%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o obteni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ultados relev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ación teórica-experiment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álisis punto a pu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en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gerenci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¿Preguntas, comentario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erpo Doc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1: Martes 12 a 16 hor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: Mauricio González 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uricio.gonzalez@idiem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ficina 217, edificio Anexo-IDI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 2-97841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rio: 15 a 17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 Auxiliar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yudant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erpo Docen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2: Miércoles 14 a 18 hora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Sección 3: Lunes 14 a 18 hor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: Jorge Romo 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oromo@ctcinternet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ficina 1º piso edificio Electro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ofesores Auxiliar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yudantes: por defi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21040"/>
            <a:ext cx="815328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6 experiencias (1 recuperativa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6 test de entrada (1 test del recuperativo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  <a:ea typeface="Arial"/>
              </a:rPr>
              <a:t>≥ 4,0 </a:t>
            </a:r>
            <a:r>
              <a:rPr b="0" lang="es-ES_tradnl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  <a:ea typeface="Arial"/>
              </a:rPr>
              <a:t> Experienc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Recuperativo: nota test rojo más baj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Nota experiencia =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100" spc="-1" strike="noStrike">
                <a:solidFill>
                  <a:srgbClr val="ffffff"/>
                </a:solidFill>
                <a:latin typeface="Arial"/>
              </a:rPr>
              <a:t>0,25 · test + 0,75 · infor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6068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st rojo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xamen teó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orme rojo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Examen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1484280"/>
            <a:ext cx="360360" cy="172728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7280" y="20890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6040" y="3932280"/>
            <a:ext cx="82296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Nota Final = Promedio de Notas Experienci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Eximición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Nota final 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  <a:ea typeface="Arial"/>
              </a:rPr>
              <a:t>≥ 4,5 con test e informes ≥ 4,0</a:t>
            </a:r>
            <a:r>
              <a:rPr b="0" lang="es-ES_tradnl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las del Cur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upos de 3 alumno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formes individuales: 1 semana de plaz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ja de dato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siones semana por medi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didas de seguridad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ificación de conex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exión osciloscop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 guía de anex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jetivos del Curs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licar conocimientos de EL42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ocimiento y utilización de las máquinas, equipos e instrumentos de medi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zación de pruebas en las máquin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luar el comportamiento bajo ciertas condic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tención de modelos de las máquin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ar la validez de los modelos obtenid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riencia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ador monofás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adores trifásic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de corriente continu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de Induc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Sincrónica Aislada de la 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áquina Sincrónica conectada a la Red Infin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oratorio de Conver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uía de laboratorio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ción: aspectos teóricos relev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tivos de la experie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bajo de laboratorio: puntos a realizar en la experie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pectos a considerar en el informe: tener cuenta en el infor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00:54:56Z</dcterms:created>
  <dc:creator>WinuE</dc:creator>
  <dc:description/>
  <dc:language>en-US</dc:language>
  <cp:lastModifiedBy>Jorge Romo</cp:lastModifiedBy>
  <dcterms:modified xsi:type="dcterms:W3CDTF">2007-08-02T02:27:47Z</dcterms:modified>
  <cp:revision>7</cp:revision>
  <dc:subject/>
  <dc:title>EL56A</dc:title>
</cp:coreProperties>
</file>