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D38-AB27-4B31-BF58-39CAE0A4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3E2-CA16-4C7A-9804-92524071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74B-C324-42FB-B572-C5EF6C7C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529-9375-4F1E-873F-898F8CC6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9E75-CECD-4985-8D90-CC2C127C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7589-0662-49FD-B8DB-4154EFB4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570E-B23D-462A-9332-4AC72837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7B98-42F8-40A4-A9FE-7B63DAC0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B6BC-402C-4F39-A089-D67CF36D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EB0F-FF4C-41FD-9F8D-D4DF929B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F7FD-6976-4A29-B125-3B1A0AFF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328-8C84-4AB3-9E52-AA8C234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E0D4-D1DA-49AB-9BFD-2687FC7F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2B7C-3FD7-4193-892A-AF6A678F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C999-181E-4794-AD4C-3B9F59C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A8F8-461F-44BB-8DE9-5FD147F9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BA9B-A68E-4430-8603-E336F0A1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3AE-8524-44CE-BF37-BFAA8D4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37C-00AB-4E51-A60C-B6B95BEA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4A8-D326-461C-98F1-3DCDB491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76D-C23E-4C50-8F49-E5CC955C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60D-5733-4510-9787-2DA4D4E9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F6A-D134-4F41-AC3E-880C00F2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97D-6A03-4546-8BCE-D1A2EB86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9AB1-4624-40F2-95CF-3F6E84BB13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83A-DD18-49FE-9728-DFFEDDC145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EL56A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BORATORIO DE CONVERSIÓN ELECTROMECÁNICA DE LA ENERGÍ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Estructura inform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rtada, presentación, ortografí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co teóri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Desarrollo de la experienc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entarios y conclu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2276640"/>
            <a:ext cx="289080" cy="1081080"/>
          </a:xfrm>
          <a:custGeom>
            <a:avLst/>
            <a:gdLst>
              <a:gd name="textAreaLeft" fmla="*/ 0 w 289080"/>
              <a:gd name="textAreaRight" fmla="*/ 104400 w 289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96360" y="25495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3429000"/>
            <a:ext cx="287280" cy="576360"/>
          </a:xfrm>
          <a:custGeom>
            <a:avLst/>
            <a:gdLst>
              <a:gd name="textAreaLeft" fmla="*/ 0 w 287280"/>
              <a:gd name="textAreaRight" fmla="*/ 103680 w 287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342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4091040"/>
            <a:ext cx="215640" cy="504720"/>
          </a:xfrm>
          <a:custGeom>
            <a:avLst/>
            <a:gdLst>
              <a:gd name="textAreaLeft" fmla="*/ 0 w 215640"/>
              <a:gd name="textAreaRight" fmla="*/ 77760 w 215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4076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43640" y="4667400"/>
            <a:ext cx="216000" cy="504720"/>
          </a:xfrm>
          <a:custGeom>
            <a:avLst/>
            <a:gdLst>
              <a:gd name="textAreaLeft" fmla="*/ 0 w 216000"/>
              <a:gd name="textAreaRight" fmla="*/ 7812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5640" y="465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sarrollo de la experiencia (70%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pos e instrumentos utilizados: breve descrip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osición de resultados de mediciones y de prueb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todología emple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ráficos, tab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álculos, desarrollos, diagramas fasorial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paración con lo esperado teóric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: datos no considerados, errores de medición, excepciones hechas, indicaciones, supuesto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Desarrollo de la experiencia (70%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Arial"/>
              </a:rPr>
              <a:t>Obtención del modelo de la máquin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ntrastar el modelo con mediciones y/o con pruebas realizada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t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sp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entarios y conclusiones (10%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lo obtenid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ultados relevant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ación teórica-experiment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álisis punto a punt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entar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gerenci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¿Preguntas, comentario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erpo Docen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Sección 1: Martes 12 a 16 hora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ofesor: Mauricio González 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uricio.gonzalez@idiem.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ficina 217, edificio Anexo-IDI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léfono: 2-97841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rio: 15 a 17 h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ofesor Auxiliar: por defini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yudantes: por defini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erpo Docen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Sección 2: Miércoles 14 a 18 hora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Sección 3: Lunes 14 a 18 hora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ofesor: Jorge Romo 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joromo@ctcinternet.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Oficina 1º piso edificio Electrotecnolog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ofesores Auxiliares: por defini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yudantes: por defini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las del Cur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21040"/>
            <a:ext cx="815328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6 experiencias (1 recuperativa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6 test de entrada (1 test del recuperativo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s-ES_tradnl" sz="3100" spc="-1" strike="noStrike">
                <a:solidFill>
                  <a:srgbClr val="ffffff"/>
                </a:solidFill>
                <a:latin typeface="Arial"/>
                <a:ea typeface="Arial"/>
              </a:rPr>
              <a:t>≥ 4,0 </a:t>
            </a:r>
            <a:r>
              <a:rPr b="0" lang="es-ES_tradnl" sz="31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ffffff"/>
                </a:solidFill>
                <a:latin typeface="Arial"/>
                <a:ea typeface="Arial"/>
              </a:rPr>
              <a:t> Experienci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Recuperativo: nota test rojo más baj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Nota experiencia =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0,25 · test + 0,75 · inform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las del Cur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66068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st rojo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Examen teó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orme rojo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Examen experi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1484280"/>
            <a:ext cx="360360" cy="172728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7280" y="208908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6040" y="3932280"/>
            <a:ext cx="822960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Nota Final = Promedio de Notas Experienci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Eximición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Nota final </a:t>
            </a:r>
            <a:r>
              <a:rPr b="0" lang="es-ES_tradnl" sz="2700" spc="-1" strike="noStrike">
                <a:solidFill>
                  <a:srgbClr val="ffffff"/>
                </a:solidFill>
                <a:latin typeface="Arial"/>
                <a:ea typeface="Arial"/>
              </a:rPr>
              <a:t>≥ 4,5 con test e informes ≥ 4,0</a:t>
            </a: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las del Cur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upos de 3 alumno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formes individuales: 1 semana de plaz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ja de dato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siones semana por medio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didas de segurida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ificación de conexio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exión osciloscop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 guía de anex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bjetivos del Curs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licar conocimientos de EL42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ocimiento y utilización de las máquinas, equipos e instrumentos de medi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lización de pruebas en las máquin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aluar el comportamiento bajo ciertas condicion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tención de modelos de las máquin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ar la validez de los modelos obtenid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periencia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ador monofás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adores trifásic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áquina de corriente continu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áquina de Induc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áquina Sincrónica Aislada de la 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áquina Sincrónica conectada a la Red Infini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uía de laboratorio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roducción: aspectos teóricos relevant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tivos de la experienc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bajo de laboratorio: puntos a realizar en la experienc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pectos a considerar en el informe: tener cuenta en el infor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00:54:56Z</dcterms:created>
  <dc:creator>WinuE</dc:creator>
  <dc:description/>
  <dc:language>en-US</dc:language>
  <cp:lastModifiedBy>Jorge Romo</cp:lastModifiedBy>
  <dcterms:modified xsi:type="dcterms:W3CDTF">2007-08-02T02:27:47Z</dcterms:modified>
  <cp:revision>7</cp:revision>
  <dc:subject/>
  <dc:title>EL56A</dc:title>
</cp:coreProperties>
</file>