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E49B-743E-4D19-9AE2-8E9B0A85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1B2-8F9B-4D44-9121-09EC5997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15BE-17CE-4B4F-BC28-30884E59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91EF-2D5A-4C44-871F-54D8B8D5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25D8-04F0-416C-B5F4-2D158DF2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DEDF-4BFA-4151-8FB1-CC9407F3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942D-340F-42EE-82EE-A85C3F67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14B4-D9CE-44D8-9684-2E72D506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429-5FBB-4372-8C92-02A0151B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DA27-B2E9-4886-9621-051578A7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A79F-A85A-4CC0-B9EF-FF32CD52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D4E-0738-4362-AB0A-B862C72B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CDA1-5327-4CFE-A168-CBB0740CF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227240"/>
            <a:ext cx="8839080" cy="456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26520" y="304920"/>
            <a:ext cx="60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VALOR DEL DINERO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840" y="5562720"/>
            <a:ext cx="60649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interés es el precio del dinero en 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es f(tiempo,riesgo,capital,inflación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RVA 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6920" y="1508040"/>
            <a:ext cx="75614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58920" y="549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licación Curva 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052640"/>
            <a:ext cx="676908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(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 (1+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t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t = Demanda el año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*t = Demanda potencial máxima (saturación de la dem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Parámetro de tasa de crecimiento con el tiempo (0,4 – 0,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Parámetro que representa el tiempo que se demora la demanda en alcanzar el punto de máximo crecimiento.(6,3 – 10,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= depende de la elasticidad precio demanda y poder adquisitivo de l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alores encontrado en 67 países para la 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0.4 – 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6.3 – 1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*t = 0.23 – 1.1 veces la Pobl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4360" y="1257480"/>
          <a:ext cx="8064360" cy="52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57480"/>
                    <a:ext cx="806436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71960" y="352440"/>
            <a:ext cx="41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DE A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95480" y="3733920"/>
            <a:ext cx="25909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2590920"/>
            <a:ext cx="2361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762120"/>
            <a:ext cx="373392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6640" y="4343400"/>
            <a:ext cx="287964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 Capital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Tasa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periodo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Valor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121932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= P x n 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93440" y="19368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6880" y="27846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480" y="37339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(1 + n x i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29000" y="257184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009800"/>
            <a:ext cx="7010280" cy="582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90920" y="3808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 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260280"/>
            <a:ext cx="70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VALUACION DE PROYECTOS DE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800" y="1550880"/>
            <a:ext cx="8015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es que permiten evaluar un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gresos. Ocurren periódicamente e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inversión que son los desembolsos que se deben efect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llevar a cabo 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gastos de operación que se desembolsan para mantener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yecto produciendo in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5084640"/>
            <a:ext cx="597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5084640"/>
            <a:ext cx="0" cy="10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67120" y="61135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99"/>
                </a:solidFill>
                <a:latin typeface="Times New Roman"/>
              </a:rPr>
              <a:t>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380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26560" y="56610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56000" y="4581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492360" y="4436640"/>
            <a:ext cx="0" cy="647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35600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29272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364000" y="407664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64920" y="40258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7120" y="40258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7016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5157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908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0544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108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75200" y="69228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APAS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01240" y="1989000"/>
            <a:ext cx="7299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udio de Demanda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mite determinar el tamaño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uantificando la magnitud de los servicios que deber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ministrar durante  el período de e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as inversiones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ne por objeto determin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mejor alternativa técnica a utilizar, los equipos e infr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ructura requeridos y el costo que tiene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os gastos de operación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quí se establec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odos los costos que significan mantener e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mplementado e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49160" y="765000"/>
          <a:ext cx="7647120" cy="5693040"/>
        </p:xfrm>
        <a:graphic>
          <a:graphicData uri="http://schemas.openxmlformats.org/drawingml/2006/table">
            <a:tbl>
              <a:tblPr/>
              <a:tblGrid>
                <a:gridCol w="789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11.7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93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72.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56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30.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08.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91.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KUS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59.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134.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19.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16.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025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346.1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per cápi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íneas/100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lín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sati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3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insatis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1.7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990160" y="33336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IMACION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00000" y="11160"/>
          <a:ext cx="7255080" cy="6805440"/>
        </p:xfrm>
        <a:graphic>
          <a:graphicData uri="http://schemas.openxmlformats.org/drawingml/2006/table">
            <a:tbl>
              <a:tblPr/>
              <a:tblGrid>
                <a:gridCol w="1130400"/>
                <a:gridCol w="771480"/>
                <a:gridCol w="1003320"/>
                <a:gridCol w="749160"/>
                <a:gridCol w="719280"/>
                <a:gridCol w="720720"/>
                <a:gridCol w="720720"/>
                <a:gridCol w="719280"/>
                <a:gridCol w="72072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enso 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d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a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partam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2.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tlánt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4.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.7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l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6.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8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aya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2.8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7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6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9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p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8.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2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.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r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02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4.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24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9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2.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0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8.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6.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olute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0.8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9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.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8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0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l Paraí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0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0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9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.8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co Moraz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80.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4.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37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0.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1.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3.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5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7.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racias a D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.3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7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ibuc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9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6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slas de la Bah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9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7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 P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6.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8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mp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0.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cotepe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8.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3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6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lanc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9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9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 Bárb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2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a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1.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5.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4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0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6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604360" cy="479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47640" y="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33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MANDA DE NUEVOS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7:31:03Z</dcterms:created>
  <dc:creator>Jorge Fritis</dc:creator>
  <dc:description/>
  <dc:language>en-US</dc:language>
  <cp:lastModifiedBy>Jorge</cp:lastModifiedBy>
  <dcterms:modified xsi:type="dcterms:W3CDTF">2005-09-02T12:59:33Z</dcterms:modified>
  <cp:revision>9</cp:revision>
  <dc:subject/>
  <dc:title>Sin título de diapositiva</dc:title>
</cp:coreProperties>
</file>