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013B-683E-4043-8A53-9324622E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6242-5DDF-47E5-95E2-4C2627B4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881-BD79-4765-97E3-4E258A1F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8556-024A-4426-B6BB-4938FAF92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745-2729-4A6E-8808-C1AD768C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543A-FD53-4102-8041-B30FBA7D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561-8834-4B0B-B734-1032E624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FCC6-E4BB-4A5F-B2FD-DB59543FF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24E2-F5F3-4CB3-A0B7-D2259B2F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3B37-1BCA-4C8A-BED1-292A03E5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123-F1BA-4A24-8503-FE4190C1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620-C07F-4D83-9A6E-4BA2A27FC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FACC-3B89-4B32-AC6F-6347B21B9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04920" y="1227240"/>
            <a:ext cx="8839080" cy="4560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26520" y="304920"/>
            <a:ext cx="60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840" y="5562720"/>
            <a:ext cx="60649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l interés es el precio del dinero en 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 es f(tiempo,riesgo,capital,inflación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CURVA 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1508040"/>
            <a:ext cx="756144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66840"/>
            <a:ext cx="9144000" cy="66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258920" y="549360"/>
            <a:ext cx="61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licación Curva 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58920" y="1052640"/>
            <a:ext cx="676908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(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x (1+e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t-</a:t>
            </a:r>
            <a:r>
              <a:rPr b="0" lang="el-GR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t = Demanda el año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Y*t = Demanda potencial máxima (saturación de la deman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Parámetro de tasa de crecimiento con el tiempo (0,4 – 0,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Symbol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= Parámetro que representa el tiempo que se demora la demanda en alcanzar el punto de máximo crecimiento.(6,3 – 10,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= depende de la elasticidad precio demanda y poder adquisitivo de la pob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alores encontrado en 67 países para la telefonía móv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0.4 – 0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6.3 – 10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Y*t = 0.23 – 1.1 veces la Població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4360" y="1257480"/>
          <a:ext cx="8064360" cy="522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257480"/>
                    <a:ext cx="8064360" cy="52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2271960" y="352440"/>
            <a:ext cx="41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JEMPLO DE A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895480" y="3733920"/>
            <a:ext cx="2590920" cy="533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8120" y="2590920"/>
            <a:ext cx="23619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4600" y="762120"/>
            <a:ext cx="3733920" cy="1676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6640" y="4343400"/>
            <a:ext cx="2879640" cy="24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= Capital in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= Tasa de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=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= periodo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= Valor fut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12193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 = P x n x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93440" y="193680"/>
            <a:ext cx="15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6880" y="27846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+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480" y="3733920"/>
            <a:ext cx="23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= P (1 + n x i 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429000" y="2571840"/>
            <a:ext cx="1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90720" y="1009800"/>
            <a:ext cx="7010280" cy="5829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590920" y="3808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ES COMPUE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16000" y="260280"/>
            <a:ext cx="70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VALUACION DE PROYECTOS DE 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800" y="1550880"/>
            <a:ext cx="8015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icadores que permiten evaluar un proyec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gresos. Ocurren periódicamente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inversión que son los desembolsos que se deben efectu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llevar a cabo 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os gastos de operación que se desembolsan para mantener 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yecto produciendo ingre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5084640"/>
            <a:ext cx="5975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5084640"/>
            <a:ext cx="0" cy="10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67120" y="611352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cc99"/>
                </a:solidFill>
                <a:latin typeface="Times New Roman"/>
              </a:rPr>
              <a:t>In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3380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5600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92360" y="5084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92720" y="515772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26560" y="566100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556000" y="4581360"/>
            <a:ext cx="0" cy="503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492360" y="4436640"/>
            <a:ext cx="0" cy="647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435600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5292720" y="4220640"/>
            <a:ext cx="0" cy="863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364000" y="4076640"/>
            <a:ext cx="0" cy="1008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64920" y="4025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7120" y="402588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Valor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7016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5157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6908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05440" y="5157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1108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5200" y="692280"/>
            <a:ext cx="41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ETAPAS DE UN PROY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101240" y="1989000"/>
            <a:ext cx="7299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udio de Demanda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ermite determinar el tamaño del proye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uantificando la magnitud de los servicios que deber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uministrar durante  el período de evalu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as inversiones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iene por objeto determin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la mejor alternativa técnica a utilizar, los equipos e infr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structura requeridos y el costo que tiene su 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Determinación de los gastos de operación: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quí se establec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odos los costos que significan mantener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mplementado 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ervici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49160" y="765000"/>
          <a:ext cx="7647120" cy="5693040"/>
        </p:xfrm>
        <a:graphic>
          <a:graphicData uri="http://schemas.openxmlformats.org/drawingml/2006/table">
            <a:tbl>
              <a:tblPr/>
              <a:tblGrid>
                <a:gridCol w="789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11.7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93.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72.2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56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30.2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08.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91.1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KUS$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59.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134.2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419.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716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025.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346.1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IB per cápi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íneas/100ha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,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líne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sati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3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 insatisfec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1.7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990160" y="33336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IMACION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900000" y="11160"/>
          <a:ext cx="7255080" cy="6805440"/>
        </p:xfrm>
        <a:graphic>
          <a:graphicData uri="http://schemas.openxmlformats.org/drawingml/2006/table">
            <a:tbl>
              <a:tblPr/>
              <a:tblGrid>
                <a:gridCol w="1130400"/>
                <a:gridCol w="771480"/>
                <a:gridCol w="1003320"/>
                <a:gridCol w="749160"/>
                <a:gridCol w="719280"/>
                <a:gridCol w="720720"/>
                <a:gridCol w="720720"/>
                <a:gridCol w="719280"/>
                <a:gridCol w="72072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enso 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obl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dep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rac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ñ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part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deman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535.3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52.6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,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75.7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11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tlánt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4.0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5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5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0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0.7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2.4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4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l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6.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8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ayag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2.8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7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2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6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9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3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p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8.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2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.7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.7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rté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202.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4.6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24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9.0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2.6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0.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8.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6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holute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0.8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9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4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7.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8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0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El Paraí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50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4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1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0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1.9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2.8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Fco Morazá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.180.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4.5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37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0.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1.3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3.1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5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7.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Gracias a D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7.3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7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.9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0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1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.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ntibuc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9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5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0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6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slas de la Bahí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8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9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9.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.7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2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1.7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2.1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a Pa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6.5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9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8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empi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5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8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2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3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cotepeq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08.0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0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5.9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3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6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2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lanc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19.5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9.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3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6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8.9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0.1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1.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ta Bárba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2.0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3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6.8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9.7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20.5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Val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51.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.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5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.8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.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o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65.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0,04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2.0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4.6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6.0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.5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9.1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88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44.1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775.3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07.5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41.0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8604360" cy="4792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547640" y="0"/>
            <a:ext cx="53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40000" y="33336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MANDA DE NUEVOS 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31:03Z</dcterms:created>
  <dc:creator>Jorge Fritis</dc:creator>
  <dc:description/>
  <dc:language>en-US</dc:language>
  <cp:lastModifiedBy>Jorge</cp:lastModifiedBy>
  <dcterms:modified xsi:type="dcterms:W3CDTF">2005-09-02T12:59:33Z</dcterms:modified>
  <cp:revision>9</cp:revision>
  <dc:subject/>
  <dc:title>Sin título de diapositiva</dc:title>
</cp:coreProperties>
</file>